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B43-66CF-4D7D-92D9-2B55DB64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287-3AB5-4CD9-9BF8-717ECE82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F82-57B3-48EF-890F-56EB9D6B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752-FB8B-4DA5-88C2-A1F5197C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9477-940E-435E-A894-2B4677F7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6DA2-C5AF-41D7-889F-5B528F8A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93BF-AD1B-4700-980D-EE54EE75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4FF9-3588-4851-81E5-969F05E2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7E53-0D9D-41D7-943C-284544F4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D806-DD60-4F51-88BE-02A8C593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13A8-2136-4098-93A0-5AEED56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80B-9CC5-4AA8-BC87-71798D0B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C16B-F81A-4725-B889-6EADAD2C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3307-BCE5-455E-A47F-086747B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82AE-9D37-462A-B02D-1367C05F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7B23-5E31-4A4D-82BA-634B16C6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90EF-461F-4886-81B1-A5E5709F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556-D68C-4FE8-88C6-C791397B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A42-430F-4377-AD70-2A685F43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E88-CCCB-4B18-AC42-C2217E67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2E2-CEEF-48DF-A547-B6649DD6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53D-9370-4C52-B63C-9290C1D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4A0-37D3-480B-9E9E-6288A45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158-487E-4868-AD6C-88F6C83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BA62-4546-452F-BFBA-38456EE34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4709-0D4D-4639-A212-0C18E6A26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nálisis y modificación programa Traffic Network Study Tool, v.8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240" y="40381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. Fernán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. Valenzuela - F. Casanello - C. Jorquera - J. Gib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ciones señal de prior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495680" y="1905120"/>
                <a:ext cx="3810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46000" y="3733920"/>
                <a:ext cx="788364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91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9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0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82" name=""/>
          <p:cNvGrpSpPr/>
          <p:nvPr/>
        </p:nvGrpSpPr>
        <p:grpSpPr>
          <a:xfrm>
            <a:off x="762120" y="1676160"/>
            <a:ext cx="3429000" cy="1895040"/>
            <a:chOff x="762120" y="1676160"/>
            <a:chExt cx="3429000" cy="1895040"/>
          </a:xfrm>
        </p:grpSpPr>
        <p:sp>
          <p:nvSpPr>
            <p:cNvPr id="283" name=""/>
            <p:cNvSpPr/>
            <p:nvPr/>
          </p:nvSpPr>
          <p:spPr>
            <a:xfrm>
              <a:off x="1066680" y="2438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480" y="2438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1080" y="2438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2438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2320" y="2438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62320" y="24382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90720" y="21333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95480" y="21333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200" y="2743200"/>
              <a:ext cx="0" cy="456840"/>
            </a:xfrm>
            <a:prstGeom prst="line">
              <a:avLst/>
            </a:prstGeom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743200" y="2590200"/>
              <a:ext cx="152280" cy="152280"/>
            </a:xfrm>
            <a:prstGeom prst="line">
              <a:avLst/>
            </a:prstGeom>
            <a:ln w="936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90920" y="2743200"/>
              <a:ext cx="0" cy="456840"/>
            </a:xfrm>
            <a:prstGeom prst="line">
              <a:avLst/>
            </a:prstGeom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2438280" y="2590200"/>
              <a:ext cx="152640" cy="152280"/>
            </a:xfrm>
            <a:prstGeom prst="line">
              <a:avLst/>
            </a:prstGeom>
            <a:ln w="936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4300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276720" y="1904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38280" y="32004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213336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33920" y="1752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66680" y="1828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95480" y="1828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981080" y="1676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895480" y="1676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666880" y="2590200"/>
              <a:ext cx="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0400" y="19810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971440" y="1981080"/>
              <a:ext cx="228600" cy="15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uces peat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62120" y="1828440"/>
            <a:ext cx="4389480" cy="2470320"/>
            <a:chOff x="762120" y="1828440"/>
            <a:chExt cx="4389480" cy="2470320"/>
          </a:xfrm>
        </p:grpSpPr>
        <p:sp>
          <p:nvSpPr>
            <p:cNvPr id="309" name=""/>
            <p:cNvSpPr/>
            <p:nvPr/>
          </p:nvSpPr>
          <p:spPr>
            <a:xfrm>
              <a:off x="762120" y="2102760"/>
              <a:ext cx="356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2120" y="2559960"/>
              <a:ext cx="356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328640" y="18284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328640" y="25596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785840" y="18284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4785840" y="25596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85840" y="21027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85840" y="25599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25160" y="2194200"/>
              <a:ext cx="365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25160" y="2285640"/>
              <a:ext cx="365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25160" y="2377080"/>
              <a:ext cx="365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25160" y="2468520"/>
              <a:ext cx="365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8640" y="3291480"/>
              <a:ext cx="548640" cy="54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33720" y="3291480"/>
              <a:ext cx="548640" cy="54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3565800"/>
              <a:ext cx="128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82360" y="356580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37200" y="33829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2280" y="33829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408040" y="393120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25160" y="39315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99480" y="4024800"/>
              <a:ext cx="36576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CL" sz="1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38960" y="2868120"/>
              <a:ext cx="419040" cy="27972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CL" sz="1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61200" y="2959920"/>
              <a:ext cx="274320" cy="273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1320" y="1981080"/>
            <a:ext cx="2652480" cy="1828440"/>
            <a:chOff x="5791320" y="1981080"/>
            <a:chExt cx="2652480" cy="1828440"/>
          </a:xfrm>
        </p:grpSpPr>
        <p:sp>
          <p:nvSpPr>
            <p:cNvPr id="333" name=""/>
            <p:cNvSpPr/>
            <p:nvPr/>
          </p:nvSpPr>
          <p:spPr>
            <a:xfrm>
              <a:off x="6614280" y="2713320"/>
              <a:ext cx="182880" cy="87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0400" y="2495160"/>
              <a:ext cx="182880" cy="10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31400" y="2952720"/>
              <a:ext cx="182880" cy="64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248520" y="2245680"/>
              <a:ext cx="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48520" y="3592800"/>
              <a:ext cx="182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8520" y="2810880"/>
              <a:ext cx="182880" cy="78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97160" y="3104280"/>
              <a:ext cx="182880" cy="48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3280" y="2810880"/>
              <a:ext cx="182880" cy="78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46160" y="2713320"/>
              <a:ext cx="182880" cy="87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29040" y="3104280"/>
              <a:ext cx="182880" cy="48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69480" y="3516480"/>
              <a:ext cx="2743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65640" y="1981080"/>
              <a:ext cx="3657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CL" sz="1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8520" y="2678400"/>
              <a:ext cx="155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3120" y="2539080"/>
              <a:ext cx="36396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CL" sz="1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495160"/>
              <a:ext cx="155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91320" y="234684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847960" y="4572000"/>
                <a:ext cx="319104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e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e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ea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deros de transporte públic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 tradicional TRANSYT; s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: tiempo recorrido arco, aceleración y fre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 : tiempo neto detenido paradero (e.g.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IREN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914400" y="3733920"/>
                <a:ext cx="3701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eométrica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952880" y="3505320"/>
                <a:ext cx="3810240" cy="28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γb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0,5</m:t>
                            </m:r>
                          </m:e>
                        </m:d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5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eométrica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riangular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Paraderos de transporte púb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ir topológicamente nodo parad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r capacidad y demoras explíc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828800" y="4343400"/>
            <a:ext cx="5562720" cy="685800"/>
            <a:chOff x="1828800" y="4343400"/>
            <a:chExt cx="5562720" cy="685800"/>
          </a:xfrm>
        </p:grpSpPr>
        <p:sp>
          <p:nvSpPr>
            <p:cNvPr id="357" name=""/>
            <p:cNvSpPr/>
            <p:nvPr/>
          </p:nvSpPr>
          <p:spPr>
            <a:xfrm>
              <a:off x="4952880" y="4648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828800" y="4343400"/>
              <a:ext cx="5562720" cy="685800"/>
              <a:chOff x="1828800" y="4343400"/>
              <a:chExt cx="5562720" cy="685800"/>
            </a:xfrm>
          </p:grpSpPr>
          <p:sp>
            <p:nvSpPr>
              <p:cNvPr id="359" name=""/>
              <p:cNvSpPr/>
              <p:nvPr/>
            </p:nvSpPr>
            <p:spPr>
              <a:xfrm>
                <a:off x="1828800" y="4343400"/>
                <a:ext cx="533520" cy="533520"/>
              </a:xfrm>
              <a:prstGeom prst="ellipse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858000" y="4343400"/>
                <a:ext cx="533520" cy="533520"/>
              </a:xfrm>
              <a:prstGeom prst="ellipse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14600" y="4495680"/>
                <a:ext cx="419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05520" y="4572000"/>
                <a:ext cx="457200" cy="457200"/>
              </a:xfrm>
              <a:prstGeom prst="pentagon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14600" y="480060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15000" y="480060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05720" y="43434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838080" y="5410080"/>
            <a:ext cx="3353040" cy="787320"/>
          </a:xfrm>
          <a:prstGeom prst="borderCallout2">
            <a:avLst>
              <a:gd name="adj1" fmla="val 18750"/>
              <a:gd name="adj2" fmla="val -8333"/>
              <a:gd name="adj3" fmla="val 16069"/>
              <a:gd name="adj4" fmla="val 112217"/>
              <a:gd name="adj5" fmla="val -47527"/>
              <a:gd name="adj6" fmla="val 122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 ln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’ 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’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’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’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3753000"/>
            <a:ext cx="1098720" cy="580680"/>
          </a:xfrm>
          <a:prstGeom prst="borderCallout2">
            <a:avLst>
              <a:gd name="adj1" fmla="val 18750"/>
              <a:gd name="adj2" fmla="val -8333"/>
              <a:gd name="adj3" fmla="val 13689"/>
              <a:gd name="adj4" fmla="val 148699"/>
              <a:gd name="adj5" fmla="val 178810"/>
              <a:gd name="adj6" fmla="val 19203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o Parad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029200" y="5073120"/>
            <a:ext cx="1295280" cy="828360"/>
            <a:chOff x="5029200" y="5073120"/>
            <a:chExt cx="1295280" cy="828360"/>
          </a:xfrm>
        </p:grpSpPr>
        <p:sp>
          <p:nvSpPr>
            <p:cNvPr id="369" name=""/>
            <p:cNvSpPr/>
            <p:nvPr/>
          </p:nvSpPr>
          <p:spPr>
            <a:xfrm flipV="1">
              <a:off x="5257800" y="50734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562720" y="5073120"/>
              <a:ext cx="30456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55306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5306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clo común de la 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2" marL="1074240" indent="-214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lsop (197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 = min{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, max{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ble ciclo: k /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&lt; C/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rrientos, Fernández y Gibson (198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 / C es nº p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{max{CI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, min{C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} con k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: ciclo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{2max{CI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, 2min{C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} con k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: doble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max{0,8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in, IR&lt;10%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i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min{1,5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, IR&lt;10%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pu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úsqueda exhaustiva: C* /  Min IR(C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ble ciclo: k /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&lt; C*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657600" y="1523880"/>
          <a:ext cx="4883040" cy="346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1523880"/>
                    <a:ext cx="48830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ujo de saturación arcos cor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ern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TRANSYT/10 :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aaSIDRA :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066680" y="2133720"/>
            <a:ext cx="1981440" cy="1981080"/>
            <a:chOff x="1066680" y="2133720"/>
            <a:chExt cx="1981440" cy="1981080"/>
          </a:xfrm>
        </p:grpSpPr>
        <p:grpSp>
          <p:nvGrpSpPr>
            <p:cNvPr id="380" name=""/>
            <p:cNvGrpSpPr/>
            <p:nvPr/>
          </p:nvGrpSpPr>
          <p:grpSpPr>
            <a:xfrm>
              <a:off x="1219320" y="2133720"/>
              <a:ext cx="1523880" cy="1981080"/>
              <a:chOff x="1219320" y="2133720"/>
              <a:chExt cx="1523880" cy="1981080"/>
            </a:xfrm>
          </p:grpSpPr>
          <p:sp>
            <p:nvSpPr>
              <p:cNvPr id="381" name=""/>
              <p:cNvSpPr/>
              <p:nvPr/>
            </p:nvSpPr>
            <p:spPr>
              <a:xfrm>
                <a:off x="1219320" y="21337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52840" y="213372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81440" y="220968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10040" y="34290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38640" y="21337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38640" y="21337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210040" y="220968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752840" y="220968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210040" y="3047760"/>
                <a:ext cx="2286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286000" y="2209680"/>
              <a:ext cx="76320" cy="22824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86000" y="2819160"/>
              <a:ext cx="76320" cy="22824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6000" y="2514600"/>
              <a:ext cx="76320" cy="22824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66680" y="2930400"/>
              <a:ext cx="392400" cy="370800"/>
            </a:xfrm>
            <a:prstGeom prst="borderCallout2">
              <a:avLst>
                <a:gd name="adj1" fmla="val 18750"/>
                <a:gd name="adj2" fmla="val -8333"/>
                <a:gd name="adj3" fmla="val 33027"/>
                <a:gd name="adj4" fmla="val 218624"/>
                <a:gd name="adj5" fmla="val -79435"/>
                <a:gd name="adj6" fmla="val 32181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90920" y="22096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6688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taforma compu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SIRI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timización y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ulación d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es d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tersecciones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mafor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interfaz con usuari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RI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delo simulación y optimización redes de semáforos (chil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ene estado arte en Chile y extranjero sobre el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amigable y completo que TRANS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ante contexto habla hisp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 del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es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R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fic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twork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ud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visión biblio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orte de ciertas mo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del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ualizar TRANSYT 8S para UO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 princip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r estimación demoras y colas en períodos p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plataforma computa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s tratamiento paraderos de transporte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ción flujos saturación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s modelos cruces prioridad y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tamiento de arcos y pistas co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Qué es TRANSY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90720" y="1600200"/>
            <a:ext cx="7619760" cy="1066680"/>
            <a:chOff x="990720" y="1600200"/>
            <a:chExt cx="7619760" cy="1066680"/>
          </a:xfrm>
        </p:grpSpPr>
        <p:sp>
          <p:nvSpPr>
            <p:cNvPr id="116" name=""/>
            <p:cNvSpPr/>
            <p:nvPr/>
          </p:nvSpPr>
          <p:spPr>
            <a:xfrm>
              <a:off x="990720" y="23619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36196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19047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190476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2320" y="2361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71800" y="2361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2320" y="16002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16002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48720" y="2361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8720" y="16002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05920" y="16002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05920" y="2361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2361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05920" y="19047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0" y="19047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72400" y="19047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2133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71800" y="213336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1981080"/>
              <a:ext cx="228600" cy="763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0200" y="1981080"/>
              <a:ext cx="228600" cy="763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2680" y="1981080"/>
              <a:ext cx="228600" cy="763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76920" y="1981080"/>
              <a:ext cx="228600" cy="763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1981080"/>
              <a:ext cx="228600" cy="763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1981080"/>
              <a:ext cx="228600" cy="763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6400" y="2209680"/>
              <a:ext cx="228600" cy="763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76520" y="2133360"/>
              <a:ext cx="53316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2133360"/>
              <a:ext cx="53352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2133360"/>
              <a:ext cx="53352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05720" y="2133360"/>
              <a:ext cx="53316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9320" y="2209680"/>
              <a:ext cx="228600" cy="763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990720" y="2895480"/>
            <a:ext cx="7315200" cy="547560"/>
            <a:chOff x="990720" y="2895480"/>
            <a:chExt cx="7315200" cy="547560"/>
          </a:xfrm>
        </p:grpSpPr>
        <p:sp>
          <p:nvSpPr>
            <p:cNvPr id="147" name=""/>
            <p:cNvSpPr/>
            <p:nvPr/>
          </p:nvSpPr>
          <p:spPr>
            <a:xfrm>
              <a:off x="2362320" y="2895480"/>
              <a:ext cx="457200" cy="457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48720" y="2909520"/>
              <a:ext cx="457200" cy="457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800" y="329076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306216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2909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0" y="2909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30621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90720" y="3276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72000" y="3429000"/>
            <a:ext cx="1752120" cy="1937520"/>
            <a:chOff x="4572000" y="3429000"/>
            <a:chExt cx="1752120" cy="1937520"/>
          </a:xfrm>
        </p:grpSpPr>
        <p:sp>
          <p:nvSpPr>
            <p:cNvPr id="156" name=""/>
            <p:cNvSpPr/>
            <p:nvPr/>
          </p:nvSpPr>
          <p:spPr>
            <a:xfrm>
              <a:off x="4648320" y="4343400"/>
              <a:ext cx="304560" cy="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572000" y="3429000"/>
              <a:ext cx="1752120" cy="1937520"/>
              <a:chOff x="4572000" y="3429000"/>
              <a:chExt cx="1752120" cy="1937520"/>
            </a:xfrm>
          </p:grpSpPr>
          <p:sp>
            <p:nvSpPr>
              <p:cNvPr id="158" name=""/>
              <p:cNvSpPr/>
              <p:nvPr/>
            </p:nvSpPr>
            <p:spPr>
              <a:xfrm>
                <a:off x="4647960" y="3809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47960" y="525780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5880" y="5029200"/>
                <a:ext cx="228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72000" y="3429000"/>
                <a:ext cx="456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952880" y="4343400"/>
              <a:ext cx="533520" cy="914400"/>
            </a:xfrm>
            <a:custGeom>
              <a:avLst/>
              <a:gdLst/>
              <a:ahLst/>
              <a:rect l="l" t="t" r="r" b="b"/>
              <a:pathLst>
                <a:path w="624" h="576">
                  <a:moveTo>
                    <a:pt x="0" y="0"/>
                  </a:moveTo>
                  <a:cubicBezTo>
                    <a:pt x="0" y="124"/>
                    <a:pt x="0" y="248"/>
                    <a:pt x="48" y="288"/>
                  </a:cubicBezTo>
                  <a:cubicBezTo>
                    <a:pt x="96" y="328"/>
                    <a:pt x="192" y="192"/>
                    <a:pt x="288" y="240"/>
                  </a:cubicBezTo>
                  <a:cubicBezTo>
                    <a:pt x="384" y="288"/>
                    <a:pt x="568" y="520"/>
                    <a:pt x="624" y="576"/>
                  </a:cubicBezTo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82880" y="5867280"/>
                <a:ext cx="5265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6934320" y="3429000"/>
            <a:ext cx="1752480" cy="1937520"/>
            <a:chOff x="6934320" y="3429000"/>
            <a:chExt cx="1752480" cy="1937520"/>
          </a:xfrm>
        </p:grpSpPr>
        <p:grpSp>
          <p:nvGrpSpPr>
            <p:cNvPr id="165" name=""/>
            <p:cNvGrpSpPr/>
            <p:nvPr/>
          </p:nvGrpSpPr>
          <p:grpSpPr>
            <a:xfrm>
              <a:off x="6934320" y="3429000"/>
              <a:ext cx="1752480" cy="1937520"/>
              <a:chOff x="6934320" y="3429000"/>
              <a:chExt cx="1752480" cy="1937520"/>
            </a:xfrm>
          </p:grpSpPr>
          <p:sp>
            <p:nvSpPr>
              <p:cNvPr id="166" name=""/>
              <p:cNvSpPr/>
              <p:nvPr/>
            </p:nvSpPr>
            <p:spPr>
              <a:xfrm>
                <a:off x="7010280" y="3809880"/>
                <a:ext cx="180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10280" y="5257800"/>
                <a:ext cx="1371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458200" y="5029200"/>
                <a:ext cx="22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34320" y="3429000"/>
                <a:ext cx="533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7238880" y="4572000"/>
              <a:ext cx="1143000" cy="68580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0" y="480"/>
                  </a:moveTo>
                  <a:cubicBezTo>
                    <a:pt x="52" y="444"/>
                    <a:pt x="104" y="408"/>
                    <a:pt x="144" y="336"/>
                  </a:cubicBezTo>
                  <a:cubicBezTo>
                    <a:pt x="184" y="264"/>
                    <a:pt x="184" y="96"/>
                    <a:pt x="240" y="48"/>
                  </a:cubicBezTo>
                  <a:cubicBezTo>
                    <a:pt x="296" y="0"/>
                    <a:pt x="424" y="8"/>
                    <a:pt x="480" y="48"/>
                  </a:cubicBezTo>
                  <a:cubicBezTo>
                    <a:pt x="536" y="88"/>
                    <a:pt x="552" y="256"/>
                    <a:pt x="576" y="288"/>
                  </a:cubicBezTo>
                  <a:cubicBezTo>
                    <a:pt x="600" y="320"/>
                    <a:pt x="600" y="208"/>
                    <a:pt x="624" y="240"/>
                  </a:cubicBezTo>
                  <a:cubicBezTo>
                    <a:pt x="648" y="272"/>
                    <a:pt x="684" y="376"/>
                    <a:pt x="720" y="4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400800" y="4572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572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962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0880" y="3429000"/>
            <a:ext cx="1828440" cy="2212200"/>
            <a:chOff x="380880" y="3429000"/>
            <a:chExt cx="1828440" cy="2212200"/>
          </a:xfrm>
        </p:grpSpPr>
        <p:grpSp>
          <p:nvGrpSpPr>
            <p:cNvPr id="176" name=""/>
            <p:cNvGrpSpPr/>
            <p:nvPr/>
          </p:nvGrpSpPr>
          <p:grpSpPr>
            <a:xfrm>
              <a:off x="457200" y="3429000"/>
              <a:ext cx="1752120" cy="1937520"/>
              <a:chOff x="457200" y="3429000"/>
              <a:chExt cx="1752120" cy="19375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457200" y="3429000"/>
                <a:ext cx="1752120" cy="1937520"/>
                <a:chOff x="457200" y="3429000"/>
                <a:chExt cx="1752120" cy="19375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3160" y="3809880"/>
                  <a:ext cx="0" cy="144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160" y="525780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981080" y="5029200"/>
                  <a:ext cx="228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7200" y="3429000"/>
                  <a:ext cx="4568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L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533520" y="4648320"/>
                <a:ext cx="1143000" cy="609480"/>
              </a:xfrm>
              <a:custGeom>
                <a:avLst/>
                <a:gdLst/>
                <a:ahLst/>
                <a:rect l="l" t="t" r="r" b="b"/>
                <a:pathLst>
                  <a:path w="768" h="312">
                    <a:moveTo>
                      <a:pt x="0" y="168"/>
                    </a:moveTo>
                    <a:cubicBezTo>
                      <a:pt x="60" y="180"/>
                      <a:pt x="120" y="192"/>
                      <a:pt x="192" y="168"/>
                    </a:cubicBezTo>
                    <a:cubicBezTo>
                      <a:pt x="264" y="144"/>
                      <a:pt x="336" y="0"/>
                      <a:pt x="432" y="24"/>
                    </a:cubicBezTo>
                    <a:cubicBezTo>
                      <a:pt x="528" y="48"/>
                      <a:pt x="648" y="180"/>
                      <a:pt x="768" y="31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80880" y="53341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2480" y="53341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905120" y="3429000"/>
            <a:ext cx="2057400" cy="2275920"/>
            <a:chOff x="1905120" y="3429000"/>
            <a:chExt cx="2057400" cy="2275920"/>
          </a:xfrm>
        </p:grpSpPr>
        <p:grpSp>
          <p:nvGrpSpPr>
            <p:cNvPr id="186" name=""/>
            <p:cNvGrpSpPr/>
            <p:nvPr/>
          </p:nvGrpSpPr>
          <p:grpSpPr>
            <a:xfrm>
              <a:off x="2209680" y="3429000"/>
              <a:ext cx="1752840" cy="1937520"/>
              <a:chOff x="2209680" y="3429000"/>
              <a:chExt cx="1752840" cy="19375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2209680" y="3429000"/>
                <a:ext cx="1752840" cy="1937520"/>
                <a:chOff x="2209680" y="3429000"/>
                <a:chExt cx="1752840" cy="19375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286000" y="3809880"/>
                  <a:ext cx="0" cy="144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86000" y="525780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733920" y="5029200"/>
                  <a:ext cx="228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3429000"/>
                  <a:ext cx="457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286000" y="4343400"/>
                <a:ext cx="838080" cy="91440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971800" y="53341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5120" y="419112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ión bibliográfic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visión: 93 abstracts artículos 1988-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ffic Engineering &amp;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ad &amp; Transport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TE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ation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ation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: 31 in extenso; 8 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Revisión bibliográ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76520"/>
          <a:ext cx="8305920" cy="464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76520"/>
                    <a:ext cx="8305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e de ciertas modif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 en períodos p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rsecciones señal prio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ruces peat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eros de transporte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clo común de la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saturación en arcos co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taforma comput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ras en períodos punt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724280" y="1568520"/>
            <a:ext cx="3962520" cy="3266280"/>
            <a:chOff x="4724280" y="1568520"/>
            <a:chExt cx="3962520" cy="3266280"/>
          </a:xfrm>
        </p:grpSpPr>
        <p:sp>
          <p:nvSpPr>
            <p:cNvPr id="204" name=""/>
            <p:cNvSpPr/>
            <p:nvPr/>
          </p:nvSpPr>
          <p:spPr>
            <a:xfrm>
              <a:off x="8305920" y="41911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724280" y="1568520"/>
              <a:ext cx="3581640" cy="3266280"/>
              <a:chOff x="4724280" y="1568520"/>
              <a:chExt cx="3581640" cy="326628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6477120" y="278712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934320" y="278712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24280" y="1568520"/>
                <a:ext cx="3581640" cy="3266280"/>
                <a:chOff x="4724280" y="1568520"/>
                <a:chExt cx="3581640" cy="3266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181480" y="1796760"/>
                  <a:ext cx="0" cy="259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81480" y="4387680"/>
                  <a:ext cx="31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724280" y="1568520"/>
                  <a:ext cx="381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724280" y="252720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24280" y="290808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24280" y="328896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5181480" y="2634840"/>
                  <a:ext cx="3048120" cy="838080"/>
                  <a:chOff x="5181480" y="2634840"/>
                  <a:chExt cx="3048120" cy="838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5181480" y="3472920"/>
                    <a:ext cx="914400" cy="0"/>
                  </a:xfrm>
                  <a:prstGeom prst="line">
                    <a:avLst/>
                  </a:prstGeom>
                  <a:ln w="19080">
                    <a:solidFill>
                      <a:srgbClr val="66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315200" y="3472920"/>
                    <a:ext cx="914400" cy="0"/>
                  </a:xfrm>
                  <a:prstGeom prst="line">
                    <a:avLst/>
                  </a:prstGeom>
                  <a:ln w="19080">
                    <a:solidFill>
                      <a:srgbClr val="66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V="1">
                    <a:off x="6095880" y="2634840"/>
                    <a:ext cx="609840" cy="837720"/>
                  </a:xfrm>
                  <a:prstGeom prst="line">
                    <a:avLst/>
                  </a:prstGeom>
                  <a:ln w="19080">
                    <a:solidFill>
                      <a:srgbClr val="66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>
                    <a:off x="6705360" y="2634840"/>
                    <a:ext cx="609480" cy="837720"/>
                  </a:xfrm>
                  <a:prstGeom prst="line">
                    <a:avLst/>
                  </a:prstGeom>
                  <a:ln w="19080">
                    <a:solidFill>
                      <a:srgbClr val="66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 flipV="1">
                  <a:off x="6095880" y="316836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553080" y="446400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5105520" y="3168360"/>
                  <a:ext cx="83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181120" y="2787480"/>
                  <a:ext cx="1219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7315200" y="316836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5880" y="316836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934320" y="31683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477120" y="2787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095880" y="3473280"/>
                  <a:ext cx="0" cy="9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15200" y="3473280"/>
                  <a:ext cx="0" cy="9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477120" y="3168360"/>
                  <a:ext cx="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934320" y="3168360"/>
                  <a:ext cx="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95880" y="446400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934320" y="446400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4" name=""/>
          <p:cNvGrpSpPr/>
          <p:nvPr/>
        </p:nvGrpSpPr>
        <p:grpSpPr>
          <a:xfrm>
            <a:off x="762120" y="1612800"/>
            <a:ext cx="3962160" cy="3264840"/>
            <a:chOff x="762120" y="1612800"/>
            <a:chExt cx="3962160" cy="3264840"/>
          </a:xfrm>
        </p:grpSpPr>
        <p:grpSp>
          <p:nvGrpSpPr>
            <p:cNvPr id="235" name=""/>
            <p:cNvGrpSpPr/>
            <p:nvPr/>
          </p:nvGrpSpPr>
          <p:grpSpPr>
            <a:xfrm>
              <a:off x="762120" y="2374920"/>
              <a:ext cx="3504960" cy="2426400"/>
              <a:chOff x="762120" y="2374920"/>
              <a:chExt cx="3504960" cy="2426400"/>
            </a:xfrm>
          </p:grpSpPr>
          <p:sp>
            <p:nvSpPr>
              <p:cNvPr id="236" name=""/>
              <p:cNvSpPr/>
              <p:nvPr/>
            </p:nvSpPr>
            <p:spPr>
              <a:xfrm>
                <a:off x="762120" y="2374920"/>
                <a:ext cx="380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219320" y="2635200"/>
                <a:ext cx="3047760" cy="838080"/>
                <a:chOff x="1219320" y="2635200"/>
                <a:chExt cx="3047760" cy="8380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219320" y="3473280"/>
                  <a:ext cx="91440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352680" y="3473280"/>
                  <a:ext cx="91440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2133720" y="2635200"/>
                  <a:ext cx="609480" cy="83808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2742840" y="2635200"/>
                  <a:ext cx="609480" cy="83808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V="1">
                <a:off x="2133720" y="30160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352680" y="30160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762120" y="2755800"/>
                <a:ext cx="3504960" cy="370800"/>
                <a:chOff x="762120" y="2755800"/>
                <a:chExt cx="3504960" cy="3708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762120" y="275580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219320" y="3048120"/>
                  <a:ext cx="304776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2590920" y="44640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142640" y="26352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762120" y="1612800"/>
              <a:ext cx="3962160" cy="3264840"/>
              <a:chOff x="762120" y="1612800"/>
              <a:chExt cx="3962160" cy="3264840"/>
            </a:xfrm>
          </p:grpSpPr>
          <p:sp>
            <p:nvSpPr>
              <p:cNvPr id="250" name=""/>
              <p:cNvSpPr/>
              <p:nvPr/>
            </p:nvSpPr>
            <p:spPr>
              <a:xfrm>
                <a:off x="762120" y="3213000"/>
                <a:ext cx="380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762120" y="1612800"/>
                <a:ext cx="3962160" cy="3264840"/>
                <a:chOff x="762120" y="1612800"/>
                <a:chExt cx="3962160" cy="32648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219320" y="2743200"/>
                  <a:ext cx="3047760" cy="812880"/>
                </a:xfrm>
                <a:custGeom>
                  <a:avLst/>
                  <a:gdLst/>
                  <a:ahLst/>
                  <a:rect l="l" t="t" r="r" b="b"/>
                  <a:pathLst>
                    <a:path w="1872" h="512">
                      <a:moveTo>
                        <a:pt x="0" y="480"/>
                      </a:moveTo>
                      <a:cubicBezTo>
                        <a:pt x="212" y="496"/>
                        <a:pt x="424" y="512"/>
                        <a:pt x="576" y="432"/>
                      </a:cubicBezTo>
                      <a:cubicBezTo>
                        <a:pt x="728" y="352"/>
                        <a:pt x="792" y="0"/>
                        <a:pt x="912" y="0"/>
                      </a:cubicBezTo>
                      <a:cubicBezTo>
                        <a:pt x="1032" y="0"/>
                        <a:pt x="1136" y="352"/>
                        <a:pt x="1296" y="432"/>
                      </a:cubicBezTo>
                      <a:cubicBezTo>
                        <a:pt x="1456" y="512"/>
                        <a:pt x="1664" y="496"/>
                        <a:pt x="1872" y="48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" name=""/>
                <p:cNvGrpSpPr/>
                <p:nvPr/>
              </p:nvGrpSpPr>
              <p:grpSpPr>
                <a:xfrm>
                  <a:off x="762120" y="1612800"/>
                  <a:ext cx="3962160" cy="3264840"/>
                  <a:chOff x="762120" y="1612800"/>
                  <a:chExt cx="3962160" cy="32648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1219320" y="184140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1219320" y="4432320"/>
                    <a:ext cx="3124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62120" y="1612800"/>
                    <a:ext cx="380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343400" y="4280040"/>
                    <a:ext cx="380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114800" y="4540320"/>
                    <a:ext cx="4572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648320" y="5019840"/>
                <a:ext cx="15825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447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dad de la pun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1685880"/>
            <a:ext cx="1139760" cy="580680"/>
          </a:xfrm>
          <a:prstGeom prst="borderCallout2">
            <a:avLst>
              <a:gd name="adj1" fmla="val 18750"/>
              <a:gd name="adj2" fmla="val -8333"/>
              <a:gd name="adj3" fmla="val 19356"/>
              <a:gd name="adj4" fmla="val 141643"/>
              <a:gd name="adj5" fmla="val 234074"/>
              <a:gd name="adj6" fmla="val 17799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uesto tr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Demoras en períodos pu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057400" y="1989000"/>
            <a:ext cx="4927680" cy="676440"/>
            <a:chOff x="2057400" y="1989000"/>
            <a:chExt cx="4927680" cy="676440"/>
          </a:xfrm>
        </p:grpSpPr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2057400" y="1989000"/>
                  <a:ext cx="105732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3,6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"/>
            <p:cNvSpPr/>
            <p:nvPr/>
          </p:nvSpPr>
          <p:spPr>
            <a:xfrm>
              <a:off x="3197160" y="1989000"/>
              <a:ext cx="378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, estimar en forma tradi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257480" y="2752560"/>
            <a:ext cx="4203720" cy="673200"/>
            <a:chOff x="1257480" y="2752560"/>
            <a:chExt cx="4203720" cy="67320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257480" y="2752560"/>
                  <a:ext cx="179208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,6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3201840" y="2827440"/>
              <a:ext cx="22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, aplicar (1) y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270080" y="3519360"/>
            <a:ext cx="4191120" cy="677880"/>
            <a:chOff x="1270080" y="3519360"/>
            <a:chExt cx="4191120" cy="677880"/>
          </a:xfrm>
        </p:grpSpPr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1270080" y="3519360"/>
                  <a:ext cx="132084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3201840" y="3548160"/>
              <a:ext cx="22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, aplicar (1) y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84000" y="4581360"/>
            <a:ext cx="8160480" cy="1713960"/>
            <a:chOff x="684000" y="4581360"/>
            <a:chExt cx="8160480" cy="171396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762120" y="4897440"/>
                  <a:ext cx="3456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5219640" y="4581360"/>
                  <a:ext cx="3041640" cy="13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, si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si 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8307000" y="46530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00520" y="531036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4000" y="5854680"/>
              <a:ext cx="454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Con: d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, d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calculados en forma tradi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448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3:18:00Z</dcterms:created>
  <dc:creator>U. de Chile</dc:creator>
  <dc:description/>
  <dc:language>en-US</dc:language>
  <cp:lastModifiedBy>U. de Chile</cp:lastModifiedBy>
  <dcterms:modified xsi:type="dcterms:W3CDTF">2002-09-26T14:07:54Z</dcterms:modified>
  <cp:revision>33</cp:revision>
  <dc:subject/>
  <dc:title>Análisis y Modificación Programa Traffic Network Study Tool, v.8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7930902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Mi SITU</vt:lpwstr>
  </property>
</Properties>
</file>