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5B7A-F2F8-4E60-9713-43A1D6F13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207A-0828-4BD8-965E-DAC0E30B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9843-DA19-40F5-A1BE-F6A5EFA96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C35F-E8E9-48DF-A639-EDCE5CF63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B447-D33A-43BB-979A-C14D38B9B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EA21-EC70-4C9F-8CF7-1AE11653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8BF1-3457-4BE9-A848-D5877CD7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278D-0E25-4452-ADC3-15636962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F16B-3493-4F88-9B4D-F9F6B019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0CE1-B688-4952-B7AF-208B660C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5462-180F-44E8-A90E-A4C167A8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8862-5581-4BD6-9E2D-22F6CB6D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E1A7-B110-4A68-9694-E81338A5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DA73B-68AE-47A5-A8D6-2FF2C5B0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31A1-2CDF-498C-8B82-F9E5D618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355E-F7DE-4E29-8AFF-B06DDC6B7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837D-6D54-4C81-BEFF-56F839A80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328D-2C64-4331-8F91-193264FD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CBD5-3FBD-4717-BEE2-952CE6C6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179E-D419-4586-85DA-451987DA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4AA0-E230-469B-88A1-13D7E7E9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8A2F-807B-4C6C-8CC2-5AF1FB94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9FA7-FC1D-400C-B7D0-25190657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FB84-E919-4DE1-BB17-3C2DA431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BFFC-B1C6-40A7-B8D2-928E7E73B059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2FFD-269E-4B99-AC13-C9E0E6772179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402000"/>
                </a:solidFill>
                <a:latin typeface="Times New Roman"/>
              </a:rPr>
              <a:t>Modelación Conjunta de Actividades y Viajes: Recolección de Datos y Aspectos Econométricos</a:t>
            </a:r>
            <a:br>
              <a:rPr sz="4400"/>
            </a:b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a08366"/>
                </a:solidFill>
                <a:latin typeface="Times New Roman"/>
              </a:rPr>
              <a:t>Marcela A. Munizaga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Recolección de dato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Resultado fin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290 encuestas completas (utilizables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10 encuestas incompletas o inconsistent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Tasa de respuesta: 90%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Muestr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57,6% hombres; 42,4% mujer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70% casad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50% entre 35 y 49 añ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990720" y="457200"/>
          <a:ext cx="8381880" cy="614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57200"/>
                    <a:ext cx="8381880" cy="61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990720" y="533520"/>
          <a:ext cx="8153280" cy="576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33520"/>
                    <a:ext cx="8153280" cy="57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219320" y="533520"/>
          <a:ext cx="7315200" cy="6054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533520"/>
                    <a:ext cx="7315200" cy="60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533520" y="990720"/>
          <a:ext cx="8229600" cy="461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90720"/>
                    <a:ext cx="822960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Modelación econométrica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Modelo microeconómic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Estructura de error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alibra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Estimación independient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Estimación conjunt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Estructura de error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Fuentes de error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Parámetros de gus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Medición de variabl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Fuentes de correlación y/o heteroscedasticida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Parámetros de gusto influyen en ambas decisiones modelad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Variables observadas determinan ambas decision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Literatura: justificación de independenci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Estimació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Independiente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Modelo de regresión no linea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Identificabilida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Modelo de elección discret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¿Consistencia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¿Eficiencia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¿Sesgos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Estimació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onjunta por máxima verosimilitud (FIML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Estructura de error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Identificabilida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Estimabilida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Literatura: tenencia y uso de auomóvil, aire acondicionado, entre otr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independencia de los error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Estimación FIML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Paso 1: independencia de los error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Paso 2: componentes estocásticas correlacionada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Formulación tipo Mixed Logi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249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T=f(X,Z)+</a:t>
            </a:r>
            <a:r>
              <a:rPr b="0" lang="es-ES_tradnl" sz="2400" spc="-1" strike="noStrike">
                <a:solidFill>
                  <a:srgbClr val="402000"/>
                </a:solidFill>
                <a:latin typeface="Symbol"/>
                <a:ea typeface="Symbol"/>
              </a:rPr>
              <a:t></a:t>
            </a:r>
            <a:r>
              <a:rPr b="0" lang="es-ES_tradnl" sz="10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249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Vi=g(X,Y)+</a:t>
            </a:r>
            <a:r>
              <a:rPr b="0" lang="es-ES_tradnl" sz="2400" spc="-1" strike="noStrike">
                <a:solidFill>
                  <a:srgbClr val="402000"/>
                </a:solidFill>
                <a:latin typeface="Symbol"/>
                <a:ea typeface="Symbol"/>
              </a:rPr>
              <a:t></a:t>
            </a:r>
            <a:r>
              <a:rPr b="0" lang="es-ES_tradnl" sz="900" spc="-1" strike="noStrike">
                <a:solidFill>
                  <a:srgbClr val="402000"/>
                </a:solidFill>
                <a:latin typeface="Times New Roman"/>
              </a:rPr>
              <a:t>i                        </a:t>
            </a:r>
            <a:r>
              <a:rPr b="0" lang="es-ES_tradnl" sz="2400" spc="-1" strike="noStrike">
                <a:solidFill>
                  <a:srgbClr val="402000"/>
                </a:solidFill>
                <a:latin typeface="Symbol"/>
                <a:ea typeface="Symbol"/>
              </a:rPr>
              <a:t></a:t>
            </a:r>
            <a:r>
              <a:rPr b="0" lang="es-ES_tradnl" sz="10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T=f(X </a:t>
            </a:r>
            <a:r>
              <a:rPr b="0" lang="es-ES_tradnl" sz="2400" spc="-1" strike="noStrike">
                <a:solidFill>
                  <a:srgbClr val="402000"/>
                </a:solidFill>
                <a:latin typeface="Symbol"/>
                <a:ea typeface="Symbol"/>
              </a:rPr>
              <a:t></a:t>
            </a:r>
            <a:r>
              <a:rPr b="0" lang="es-ES_tradnl" sz="1000" spc="-1" strike="noStrike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,Z)+</a:t>
            </a:r>
            <a:r>
              <a:rPr b="0" lang="es-ES_tradnl" sz="2400" spc="-1" strike="noStrike">
                <a:solidFill>
                  <a:srgbClr val="402000"/>
                </a:solidFill>
                <a:latin typeface="Symbol"/>
                <a:ea typeface="Symbol"/>
              </a:rPr>
              <a:t>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224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Vi=g(X </a:t>
            </a:r>
            <a:r>
              <a:rPr b="0" lang="es-ES_tradnl" sz="2400" spc="-1" strike="noStrike">
                <a:solidFill>
                  <a:srgbClr val="402000"/>
                </a:solidFill>
                <a:latin typeface="Symbol"/>
                <a:ea typeface="Symbol"/>
              </a:rPr>
              <a:t></a:t>
            </a:r>
            <a:r>
              <a:rPr b="0" lang="es-ES_tradnl" sz="1000" spc="-1" strike="noStrike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,Y)+</a:t>
            </a:r>
            <a:r>
              <a:rPr b="0" lang="es-ES_tradnl" sz="2400" spc="-1" strike="noStrike">
                <a:solidFill>
                  <a:srgbClr val="402000"/>
                </a:solidFill>
                <a:latin typeface="Symbol"/>
                <a:ea typeface="Symbol"/>
              </a:rPr>
              <a:t></a:t>
            </a:r>
            <a:r>
              <a:rPr b="0" lang="es-ES_tradnl" sz="900" spc="-1" strike="noStrike">
                <a:solidFill>
                  <a:srgbClr val="402000"/>
                </a:solidFill>
                <a:latin typeface="Times New Roman"/>
              </a:rPr>
              <a:t>i</a:t>
            </a:r>
            <a:endParaRPr b="0" lang="en-US" sz="9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6633"/>
                </a:solidFill>
                <a:latin typeface="Times New Roman"/>
              </a:rPr>
              <a:t>Modelación de actividades y viaje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Modelo microeconómico (Jara-Díaz et al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286000" y="2438280"/>
                <a:ext cx="379080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Ω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  <m:sup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sup>
                    </m:sSubSup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bSup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bSup>
                      </m:e>
                    </m:nary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133720" y="3124080"/>
                <a:ext cx="3701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←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743200" y="3733920"/>
                <a:ext cx="294012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←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743200" y="4343400"/>
                <a:ext cx="19810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bSup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←</m:t>
                    </m:r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Estimación FIML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143000" y="1905120"/>
                <a:ext cx="7613640" cy="16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L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T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L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r>
                              <m:t xml:space="preserve">φ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d</m:t>
                            </m:r>
                          </m:e>
                        </m:nary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1505160" y="3876840"/>
            <a:ext cx="638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Maximizar log-verosimilitud ¿simulación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Lo que vien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Estructuras de erro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alibra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362320" y="2133720"/>
                <a:ext cx="31240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≈</m:t>
                    </m:r>
                    <m:sSup>
                      <m:e>
                        <m:r>
                          <m:t xml:space="preserve">α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α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sSup>
                      <m:e>
                        <m:r>
                          <m:t xml:space="preserve">α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447920" y="3200400"/>
                <a:ext cx="73152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β</m:t>
                    </m:r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w</m:t>
                        </m:r>
                      </m:den>
                    </m:f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β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τ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+</m:t>
                                </m:r>
                                <m:r>
                                  <m:t xml:space="preserve">α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w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α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β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w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τ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572000" y="5181480"/>
                <a:ext cx="327672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μ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α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wT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371600" y="5181480"/>
                <a:ext cx="190512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κ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1344600" y="1641600"/>
            <a:ext cx="67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Utilidad indirecta condicional de la elección de mod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27760" y="2784600"/>
            <a:ext cx="35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Tiempo asignado al trabaj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2160" y="4191120"/>
            <a:ext cx="462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Tiempo asignado a otras actividad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... se puede deduci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6633"/>
                </a:solidFill>
                <a:latin typeface="Times New Roman"/>
              </a:rPr>
              <a:t>Recolección de dato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Requerimientos de información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Asignación de tiempo a actividad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Ingreso (tasa salarial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Datos de viajes (modo elegido, modos disponibles, variables de nivel de servicio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Variables de segmentación (tipo de persona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¿Estructura de gastos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6633"/>
                </a:solidFill>
                <a:latin typeface="Times New Roman"/>
              </a:rPr>
              <a:t>Recolección de dato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Población objetiv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Trabajador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Ingreso medi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Usuarios de un cierto corredor (para facilitar la medición de variables de nivel de servicio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Diseño de la encuest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Experiencia internaciona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Estudios de grupo foca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6633"/>
                </a:solidFill>
                <a:latin typeface="Times New Roman"/>
              </a:rPr>
              <a:t>Recolección de dato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Tipo de encuest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Administración: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tacto en el lugar de trabajo (apoyo empresa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ntrevista personal + autollenad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Tamaño muestral: 250 encuesta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Encuestadores: estudiantes de la faculta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6633"/>
                </a:solidFill>
                <a:latin typeface="Times New Roman"/>
              </a:rPr>
              <a:t>Recolección de dato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Diseño preliminar de la encuest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Segmentación (entrevista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Ocupación (entrevista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Actividades y viajes (diario de autollenado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lasificación de actividades predeterminada. 9 categorías principales, en total 11 de viaje (modo) y 39 de otras actividad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Ingresos y gastos (autollenado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6633"/>
                </a:solidFill>
                <a:latin typeface="Times New Roman"/>
              </a:rPr>
              <a:t>Recolección de dato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Estudios de grupo foc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Fuerte rechazo a preguntas de gast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Ingresos en entrevista persona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Motivación: actividad universitari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Encuesta pilot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Se realizó primera entrevista (segmentación y ocupación, entrega de diario de actividades) a 26 persona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Una semana después se recuperó 24 registros. Un encuestado no contestó ingreso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Recolección de dato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Encuesta definitiv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399 contactad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322 acceden a primera entrevista (segmentación y ocupación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300 devuelven diario (93%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Proceso de validación (errores u omisiones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se contactó telefónicamente a 209 encuestad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4 diarios irrecuperabl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7T14:17:43Z</dcterms:created>
  <dc:creator>Marcela Munizaga</dc:creator>
  <dc:description/>
  <dc:language>en-US</dc:language>
  <cp:lastModifiedBy>Marcela Munizaga</cp:lastModifiedBy>
  <dcterms:modified xsi:type="dcterms:W3CDTF">2002-08-14T14:32:47Z</dcterms:modified>
  <cp:revision>13</cp:revision>
  <dc:subject/>
  <dc:title>Modelación Conjunta de Actividades y Viajes: Recolección de Datos y Aspectos Econométricos </dc:title>
</cp:coreProperties>
</file>