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BE3-84BB-42F2-BA0E-D0C4B312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77D-AD1F-4A0C-AD92-FD634624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932-5AC4-4D2C-9CFE-19ACC952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E197-F168-4AB1-9A57-EC018110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C33-EC78-402E-B2D4-C50A2A64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3DB-4EEE-4389-86E6-8FA74ED3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326-8570-49E0-A35C-96A91822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479-E5AD-4F50-8EAD-4DE2C94A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1C5-AB5B-4026-AF3B-189D31DA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CC6-F76C-498C-9191-2ADC0168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3EF-07B8-4CDE-9FFB-6F24E833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2F2-896A-417B-BC78-9A805908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A4A1-456C-4983-A240-23FC3B3EF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7524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LORACION SOCIAL DE LA CONTAMINACION ATMOSFERICA A PARTIR DE PERCEPCIONES SUBJE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600200" y="1752480"/>
            <a:ext cx="5334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ocalización Resid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2209680"/>
            <a:ext cx="533412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ías Alerta Ambiental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ie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80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- CÁLCULO DE UTILIDADES MARGINALES Y VALORES SU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121932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3816360"/>
            <a:ext cx="53341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12 Famil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 Localiz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008 obser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greso(M$)   -  Arriendo(M$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Baj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    397                     1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  1.116                    2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 flipH="1">
            <a:off x="3371760" y="4057560"/>
            <a:ext cx="1619280" cy="400320"/>
          </a:xfrm>
          <a:prstGeom prst="line">
            <a:avLst/>
          </a:prstGeom>
          <a:noFill/>
          <a:ln w="10152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1762200" y="3914640"/>
            <a:ext cx="742680" cy="457200"/>
          </a:xfrm>
          <a:prstGeom prst="rightArrow">
            <a:avLst>
              <a:gd name="adj1" fmla="val 41667"/>
              <a:gd name="adj2" fmla="val 6065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04840" y="4705200"/>
            <a:ext cx="198144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59640" y="47242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ción Resid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2858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-CÁLCULO DE UTILIDADES MARGINALES Y VALORES SUBJE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09800" y="1143000"/>
            <a:ext cx="723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339920" y="1781280"/>
                <a:ext cx="59688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114800" y="182880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981080" y="1523880"/>
                <a:ext cx="22719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r>
                              <m:t xml:space="preserve">Δ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486240" y="3219480"/>
            <a:ext cx="876240" cy="457200"/>
          </a:xfrm>
          <a:prstGeom prst="rightArrow">
            <a:avLst>
              <a:gd name="adj1" fmla="val 41667"/>
              <a:gd name="adj2" fmla="val 715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971800"/>
            <a:ext cx="2835360" cy="1066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16760" y="3086280"/>
            <a:ext cx="204084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ribu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cuestado tip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56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iveles de var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3029040"/>
            <a:ext cx="152388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3105000"/>
            <a:ext cx="1305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ue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62200" y="4743360"/>
            <a:ext cx="876600" cy="457200"/>
          </a:xfrm>
          <a:prstGeom prst="rightArrow">
            <a:avLst>
              <a:gd name="adj1" fmla="val 41667"/>
              <a:gd name="adj2" fmla="val 7158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952880" y="4476600"/>
            <a:ext cx="2835000" cy="1218960"/>
            <a:chOff x="4952880" y="4476600"/>
            <a:chExt cx="2835000" cy="1218960"/>
          </a:xfrm>
        </p:grpSpPr>
        <p:sp>
          <p:nvSpPr>
            <p:cNvPr id="237" name=""/>
            <p:cNvSpPr/>
            <p:nvPr/>
          </p:nvSpPr>
          <p:spPr>
            <a:xfrm>
              <a:off x="4952880" y="4476600"/>
              <a:ext cx="2835000" cy="1218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35840" y="4698000"/>
              <a:ext cx="360" cy="364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149800" y="4948200"/>
                <a:ext cx="5968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734080" y="4995720"/>
                <a:ext cx="415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095880" y="4857840"/>
                <a:ext cx="1524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jo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791320" y="4476600"/>
            <a:ext cx="106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52920" y="1905120"/>
            <a:ext cx="1542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24480" y="1598760"/>
            <a:ext cx="1905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588000" y="1844640"/>
                <a:ext cx="4636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115040" y="1844640"/>
                <a:ext cx="324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524720" y="1846440"/>
                <a:ext cx="324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28600" y="763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-CÁLCUL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8640" y="609480"/>
            <a:ext cx="533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762120"/>
            <a:ext cx="1467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898880" y="969840"/>
                <a:ext cx="37116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w</m:t>
                        </m:r>
                      </m:sub>
                    </m:sSub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W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</m:groupChr>
                      </m:e>
                      <m:li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lim>
                    </m:limLow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</m:t>
                        </m:r>
                      </m:sub>
                    </m:sSub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∈</m:t>
                                    </m:r>
                                    <m:r>
                                      <m:t xml:space="preserve">E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</m:groupChr>
                      </m:e>
                      <m:li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lim>
                    </m:limLow>
                  </m:oMath>
                </a14:m>
              </a:p>
            </p:txBody>
          </p:sp>
        </mc:Choice>
        <mc:Fallback/>
      </mc:AlternateContent>
      <p:graphicFrame>
        <p:nvGraphicFramePr>
          <p:cNvPr id="252" name=""/>
          <p:cNvGraphicFramePr/>
          <p:nvPr/>
        </p:nvGraphicFramePr>
        <p:xfrm>
          <a:off x="533520" y="2023920"/>
          <a:ext cx="8001000" cy="264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23920"/>
                    <a:ext cx="800100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838080" y="4614840"/>
          <a:ext cx="7543800" cy="1714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614840"/>
                    <a:ext cx="754380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147680" y="1128600"/>
                <a:ext cx="29415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r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14400" y="152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-CÁLCULO DE VALORE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68580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10440" y="971640"/>
            <a:ext cx="253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ómo calcular      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743200" y="876240"/>
                <a:ext cx="500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1139400" y="2076480"/>
            <a:ext cx="219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gel et al (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491640" y="1576440"/>
            <a:ext cx="1246320" cy="536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222876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73320" y="2057400"/>
            <a:ext cx="288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ción de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95760" y="1162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95560" y="1009800"/>
            <a:ext cx="3207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ción de im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96640" y="1346040"/>
            <a:ext cx="1111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5943600" y="1295280"/>
                <a:ext cx="344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9" name=""/>
          <p:cNvGraphicFramePr/>
          <p:nvPr/>
        </p:nvGraphicFramePr>
        <p:xfrm>
          <a:off x="1143000" y="2819520"/>
          <a:ext cx="6934320" cy="37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19520"/>
                    <a:ext cx="6934320" cy="37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4764240" y="3692520"/>
                <a:ext cx="250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286680" y="3672000"/>
                <a:ext cx="28872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5376960" y="3822840"/>
                <a:ext cx="2884320" cy="13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∈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≈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981080" y="3803760"/>
                <a:ext cx="3048120" cy="13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∈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≈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8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8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80880" y="4495680"/>
            <a:ext cx="876600" cy="457200"/>
          </a:xfrm>
          <a:prstGeom prst="rightArrow">
            <a:avLst>
              <a:gd name="adj1" fmla="val 41667"/>
              <a:gd name="adj2" fmla="val 7158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006720" y="5703840"/>
                <a:ext cx="36781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84</m:t>
                    </m:r>
                    <m:r>
                      <m:t xml:space="preserve">|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r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6</m:t>
                    </m:r>
                    <m:r>
                      <m:t xml:space="preserve">|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rr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7" name=""/>
          <p:cNvGraphicFramePr/>
          <p:nvPr/>
        </p:nvGraphicFramePr>
        <p:xfrm>
          <a:off x="0" y="1074600"/>
          <a:ext cx="9282240" cy="27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74600"/>
                    <a:ext cx="928224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914400" y="1522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-CALCULO DE VALORE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68580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1628640"/>
            <a:ext cx="228600" cy="747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440 h 747720"/>
              <a:gd name="textAreaBottom" fmla="*/ 728280 h 74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53440" y="2414520"/>
            <a:ext cx="228600" cy="83844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66600" y="178596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95720" y="2629080"/>
            <a:ext cx="560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14400" y="76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-CALCULO DE VALORE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09680" y="6094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770040" y="1519200"/>
          <a:ext cx="778176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1519200"/>
                    <a:ext cx="778176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14400" y="228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-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704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2640" y="1143000"/>
            <a:ext cx="7593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foque Gálvez y Jara-Díaz (1998) aplicable a la val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efectos cualit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9040" y="1981080"/>
            <a:ext cx="671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es Marginales estadísticamente signific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160" y="2606760"/>
            <a:ext cx="5628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es Subjetivos y valores inter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55040" y="4495680"/>
            <a:ext cx="7177680" cy="396720"/>
            <a:chOff x="455040" y="4495680"/>
            <a:chExt cx="7177680" cy="396720"/>
          </a:xfrm>
        </p:grpSpPr>
        <p:sp>
          <p:nvSpPr>
            <p:cNvPr id="295" name=""/>
            <p:cNvSpPr/>
            <p:nvPr/>
          </p:nvSpPr>
          <p:spPr>
            <a:xfrm>
              <a:off x="455040" y="4495680"/>
              <a:ext cx="2187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Hunt,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et al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(199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38600" y="46861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38520" y="4495680"/>
              <a:ext cx="637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.S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8" name=""/>
                <p:cNvSpPr txBox="1"/>
                <p:nvPr/>
              </p:nvSpPr>
              <p:spPr>
                <a:xfrm>
                  <a:off x="4356360" y="4508280"/>
                  <a:ext cx="327636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0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$/</m:t>
                      </m:r>
                      <m:r>
                        <m:rPr>
                          <m:lit/>
                          <m:nor/>
                        </m:rPr>
                        <m:t xml:space="preserve">día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ala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calidad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9" name=""/>
          <p:cNvSpPr/>
          <p:nvPr/>
        </p:nvSpPr>
        <p:spPr>
          <a:xfrm>
            <a:off x="335520" y="5349960"/>
            <a:ext cx="6337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cio Social de reducción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 d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Al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25720" y="5883120"/>
            <a:ext cx="3321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2 millones de dóla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200400" y="601992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302" name=""/>
          <p:cNvGrpSpPr/>
          <p:nvPr/>
        </p:nvGrpSpPr>
        <p:grpSpPr>
          <a:xfrm>
            <a:off x="452880" y="3581280"/>
            <a:ext cx="8312760" cy="445320"/>
            <a:chOff x="452880" y="3581280"/>
            <a:chExt cx="8312760" cy="445320"/>
          </a:xfrm>
        </p:grpSpPr>
        <p:sp>
          <p:nvSpPr>
            <p:cNvPr id="303" name=""/>
            <p:cNvSpPr/>
            <p:nvPr/>
          </p:nvSpPr>
          <p:spPr>
            <a:xfrm>
              <a:off x="452880" y="3660480"/>
              <a:ext cx="2782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Wardman,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et al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 (199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38560" y="38509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92920" y="3660480"/>
              <a:ext cx="618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.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4800600" y="3687480"/>
                  <a:ext cx="277920" cy="2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5035680" y="3581280"/>
                  <a:ext cx="271764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21</m:t>
                          </m:r>
                          <m:r>
                            <m:t xml:space="preserve">;</m:t>
                          </m:r>
                          <m:r>
                            <m:rPr>
                              <m:lit/>
                              <m:nor/>
                            </m:rPr>
                            <m:t xml:space="preserve">188</m:t>
                          </m:r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$/</m:t>
                      </m:r>
                      <m:r>
                        <m:t xml:space="preserve">(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μg</m:t>
                          </m:r>
                        </m:num>
                        <m:den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"/>
            <p:cNvSpPr/>
            <p:nvPr/>
          </p:nvSpPr>
          <p:spPr>
            <a:xfrm>
              <a:off x="7763760" y="3581280"/>
              <a:ext cx="100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ma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835200" y="3962520"/>
            <a:ext cx="7479360" cy="473040"/>
            <a:chOff x="835200" y="3962520"/>
            <a:chExt cx="7479360" cy="473040"/>
          </a:xfrm>
        </p:grpSpPr>
        <p:grpSp>
          <p:nvGrpSpPr>
            <p:cNvPr id="310" name=""/>
            <p:cNvGrpSpPr/>
            <p:nvPr/>
          </p:nvGrpSpPr>
          <p:grpSpPr>
            <a:xfrm>
              <a:off x="835200" y="4019760"/>
              <a:ext cx="6481440" cy="415800"/>
              <a:chOff x="835200" y="4019760"/>
              <a:chExt cx="6481440" cy="415800"/>
            </a:xfrm>
          </p:grpSpPr>
          <mc:AlternateContent>
            <mc:Choice xmlns:a14="http://schemas.microsoft.com/office/drawing/2010/main" Requires="a14">
              <p:sp>
                <p:nvSpPr>
                  <p:cNvPr id="311" name=""/>
                  <p:cNvSpPr txBox="1"/>
                  <p:nvPr/>
                </p:nvSpPr>
                <p:spPr>
                  <a:xfrm>
                    <a:off x="4816440" y="4068720"/>
                    <a:ext cx="277920" cy="27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∈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2" name=""/>
              <p:cNvSpPr/>
              <p:nvPr/>
            </p:nvSpPr>
            <p:spPr>
              <a:xfrm>
                <a:off x="3238560" y="423252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192920" y="4041720"/>
                <a:ext cx="618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.S.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14" name=""/>
                  <p:cNvSpPr txBox="1"/>
                  <p:nvPr/>
                </p:nvSpPr>
                <p:spPr>
                  <a:xfrm>
                    <a:off x="5105520" y="4019760"/>
                    <a:ext cx="2211120" cy="41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$/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μg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15" name=""/>
              <p:cNvSpPr/>
              <p:nvPr/>
            </p:nvSpPr>
            <p:spPr>
              <a:xfrm>
                <a:off x="835200" y="4038840"/>
                <a:ext cx="2391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Valores Subjetivo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7312680" y="3962520"/>
              <a:ext cx="100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ma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54680" y="3124080"/>
            <a:ext cx="8614080" cy="366120"/>
            <a:chOff x="454680" y="3124080"/>
            <a:chExt cx="8614080" cy="366120"/>
          </a:xfrm>
        </p:grpSpPr>
        <p:sp>
          <p:nvSpPr>
            <p:cNvPr id="318" name=""/>
            <p:cNvSpPr/>
            <p:nvPr/>
          </p:nvSpPr>
          <p:spPr>
            <a:xfrm>
              <a:off x="454680" y="3124080"/>
              <a:ext cx="6710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alores Subjetivos Determinado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75.519 y 115.191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80840" y="3124080"/>
              <a:ext cx="198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$/día alerta al añ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0" y="1219320"/>
          <a:ext cx="8686800" cy="37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868680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905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-Metodología para obtener VS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295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-Enfoque de Evaluación Social  Gálvez y Jara-Díaz (19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5146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-Antecedentes: Contexto Elección y 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124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-Cálculo de utilidades marginales y valores su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809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-Cálculo de Valore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495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-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3808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9907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-ENFOQUE DE EVALUACIO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838080"/>
            <a:ext cx="576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67200" y="1668600"/>
            <a:ext cx="285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37640" y="1628640"/>
            <a:ext cx="2977920" cy="493200"/>
            <a:chOff x="3437640" y="1628640"/>
            <a:chExt cx="2977920" cy="493200"/>
          </a:xfrm>
        </p:grpSpPr>
        <p:sp>
          <p:nvSpPr>
            <p:cNvPr id="54" name=""/>
            <p:cNvSpPr/>
            <p:nvPr/>
          </p:nvSpPr>
          <p:spPr>
            <a:xfrm>
              <a:off x="6300360" y="166860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09360" y="1668600"/>
              <a:ext cx="51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,.....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18720" y="1668600"/>
              <a:ext cx="51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,.....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52520" y="166860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99920" y="1878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7440" y="1878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268240" y="18781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80240" y="1668600"/>
              <a:ext cx="285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89600" y="1668600"/>
              <a:ext cx="285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45040" y="1668600"/>
              <a:ext cx="285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16280" y="1668600"/>
              <a:ext cx="285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7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37640" y="1628640"/>
              <a:ext cx="2736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57280" y="1644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dad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254560" y="2286000"/>
            <a:ext cx="1777320" cy="429480"/>
            <a:chOff x="5254560" y="2286000"/>
            <a:chExt cx="1777320" cy="429480"/>
          </a:xfrm>
        </p:grpSpPr>
        <p:sp>
          <p:nvSpPr>
            <p:cNvPr id="68" name=""/>
            <p:cNvSpPr/>
            <p:nvPr/>
          </p:nvSpPr>
          <p:spPr>
            <a:xfrm>
              <a:off x="5262480" y="230508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33600" y="23194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11400" y="231948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49520" y="231948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93480" y="23194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12920" y="23194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70120" y="231948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09400" y="23194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93960" y="231948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9800" y="25020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28560" y="2502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69640" y="2502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54560" y="228600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378880" y="2286000"/>
            <a:ext cx="2845080" cy="429480"/>
            <a:chOff x="2378880" y="2286000"/>
            <a:chExt cx="2845080" cy="429480"/>
          </a:xfrm>
        </p:grpSpPr>
        <p:sp>
          <p:nvSpPr>
            <p:cNvPr id="82" name=""/>
            <p:cNvSpPr/>
            <p:nvPr/>
          </p:nvSpPr>
          <p:spPr>
            <a:xfrm>
              <a:off x="5028120" y="2319480"/>
              <a:ext cx="1958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)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04840" y="231948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44760" y="231948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88720" y="23194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74280" y="23194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06360" y="23194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63560" y="231948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04640" y="2319480"/>
              <a:ext cx="98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04960" y="2319480"/>
              <a:ext cx="17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10680" y="2319480"/>
              <a:ext cx="244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78880" y="2319480"/>
              <a:ext cx="244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3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05040" y="250200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23440" y="2502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15200" y="2502000"/>
              <a:ext cx="1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50440" y="2502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18640" y="25020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71640" y="2286000"/>
              <a:ext cx="234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6844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y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124080"/>
            <a:ext cx="766800" cy="2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34160" y="3168720"/>
            <a:ext cx="1214280" cy="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24400" y="2998800"/>
            <a:ext cx="4579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700" spc="-1" strike="noStrike">
                <a:solidFill>
                  <a:srgbClr val="000000"/>
                </a:solidFill>
                <a:latin typeface="Times New Roman"/>
              </a:rPr>
              <a:t>d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3121200"/>
            <a:ext cx="761760" cy="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701800" y="2916360"/>
                <a:ext cx="16066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62120" y="3619440"/>
                <a:ext cx="450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1295280" y="3581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 en el Bienestar So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133720" y="4264200"/>
                <a:ext cx="271440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W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</m:t>
                            </m:r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  <m:r>
                          <m:t xml:space="preserve">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876920" y="4299120"/>
                <a:ext cx="198108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</m:t>
                            </m:r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19560" y="2936880"/>
                <a:ext cx="6685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-ENFOQUE DE EVALUACIO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762120"/>
            <a:ext cx="576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5520" y="1295280"/>
            <a:ext cx="1994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enestar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$=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1447920"/>
            <a:ext cx="1214640" cy="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103640" y="1219320"/>
                <a:ext cx="436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729320" y="1447920"/>
            <a:ext cx="1214280" cy="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095880" y="1066680"/>
                <a:ext cx="160020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d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71800" y="2365200"/>
                <a:ext cx="30909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  <m:sSub>
                          <m:e>
                            <m:r>
                              <m:t xml:space="preserve">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</m:t>
                            </m:r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λ</m:t>
                    </m:r>
                    <m:sSub>
                      <m:e>
                        <m:r>
                          <m:t xml:space="preserve">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4610160" y="2286000"/>
            <a:ext cx="609480" cy="11430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1240" y="3992400"/>
            <a:ext cx="371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os igualmente impor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3380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781520" y="3886200"/>
                <a:ext cx="2872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733920" y="4632480"/>
                <a:ext cx="21333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r>
                      <m:t xml:space="preserve">k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23" name=""/>
          <p:cNvGrpSpPr/>
          <p:nvPr/>
        </p:nvGrpSpPr>
        <p:grpSpPr>
          <a:xfrm>
            <a:off x="5181480" y="4343040"/>
            <a:ext cx="2209320" cy="304920"/>
            <a:chOff x="5181480" y="4343040"/>
            <a:chExt cx="2209320" cy="304920"/>
          </a:xfrm>
        </p:grpSpPr>
        <p:sp>
          <p:nvSpPr>
            <p:cNvPr id="124" name=""/>
            <p:cNvSpPr/>
            <p:nvPr/>
          </p:nvSpPr>
          <p:spPr>
            <a:xfrm flipV="1">
              <a:off x="5181480" y="4343040"/>
              <a:ext cx="10195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01000" y="4343400"/>
              <a:ext cx="118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543800" y="4221000"/>
            <a:ext cx="593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5105520"/>
            <a:ext cx="160020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14280" y="4800600"/>
            <a:ext cx="1263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c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181480" y="5486400"/>
            <a:ext cx="2133720" cy="457200"/>
            <a:chOff x="5181480" y="5486400"/>
            <a:chExt cx="2133720" cy="457200"/>
          </a:xfrm>
        </p:grpSpPr>
        <p:sp>
          <p:nvSpPr>
            <p:cNvPr id="130" name=""/>
            <p:cNvSpPr/>
            <p:nvPr/>
          </p:nvSpPr>
          <p:spPr>
            <a:xfrm>
              <a:off x="5181480" y="5486400"/>
              <a:ext cx="83844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19920" y="5943600"/>
              <a:ext cx="1295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36960" y="5802480"/>
            <a:ext cx="60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14400" y="380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-ENFOQUE DE EVALUACIO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914400"/>
            <a:ext cx="576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2280" y="1814400"/>
                <a:ext cx="911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150920" y="2166840"/>
            <a:ext cx="121428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20720" y="2000160"/>
            <a:ext cx="1256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94120" y="2190600"/>
            <a:ext cx="1214280" cy="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105520" y="1855800"/>
                <a:ext cx="2361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W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353360" y="1930320"/>
                <a:ext cx="15620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3894120" y="2190600"/>
            <a:ext cx="1214280" cy="1066680"/>
            <a:chOff x="3894120" y="2190600"/>
            <a:chExt cx="1214280" cy="1066680"/>
          </a:xfrm>
        </p:grpSpPr>
        <p:sp>
          <p:nvSpPr>
            <p:cNvPr id="142" name=""/>
            <p:cNvSpPr/>
            <p:nvPr/>
          </p:nvSpPr>
          <p:spPr>
            <a:xfrm>
              <a:off x="3894120" y="219060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94120" y="3251160"/>
              <a:ext cx="1214280" cy="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105520" y="3021120"/>
                <a:ext cx="7617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5791320" y="2984400"/>
                <a:ext cx="7617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362320" y="4551480"/>
                <a:ext cx="135252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633840" y="4425840"/>
                <a:ext cx="149544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∈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∈</m:t>
                            </m:r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24600" y="4754520"/>
                <a:ext cx="15429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320520" y="5924520"/>
            <a:ext cx="252000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rción mar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i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705720" y="5010120"/>
            <a:ext cx="1142640" cy="838080"/>
            <a:chOff x="6705720" y="5010120"/>
            <a:chExt cx="1142640" cy="838080"/>
          </a:xfrm>
        </p:grpSpPr>
        <p:sp>
          <p:nvSpPr>
            <p:cNvPr id="151" name=""/>
            <p:cNvSpPr/>
            <p:nvPr/>
          </p:nvSpPr>
          <p:spPr>
            <a:xfrm>
              <a:off x="6705720" y="5010120"/>
              <a:ext cx="1142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848360" y="50101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862960" y="1200240"/>
            <a:ext cx="2096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érdida mar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Bien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238720" y="1390320"/>
            <a:ext cx="609480" cy="609480"/>
            <a:chOff x="5238720" y="1390320"/>
            <a:chExt cx="609480" cy="609480"/>
          </a:xfrm>
        </p:grpSpPr>
        <p:sp>
          <p:nvSpPr>
            <p:cNvPr id="155" name=""/>
            <p:cNvSpPr/>
            <p:nvPr/>
          </p:nvSpPr>
          <p:spPr>
            <a:xfrm flipV="1">
              <a:off x="5238720" y="139032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38720" y="13903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257800" y="3409920"/>
            <a:ext cx="3431160" cy="777600"/>
            <a:chOff x="5257800" y="3409920"/>
            <a:chExt cx="3431160" cy="777600"/>
          </a:xfrm>
        </p:grpSpPr>
        <p:sp>
          <p:nvSpPr>
            <p:cNvPr id="158" name=""/>
            <p:cNvSpPr/>
            <p:nvPr/>
          </p:nvSpPr>
          <p:spPr>
            <a:xfrm>
              <a:off x="5949720" y="3638520"/>
              <a:ext cx="27392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caudación margi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257800" y="3409920"/>
              <a:ext cx="685800" cy="533520"/>
              <a:chOff x="5257800" y="3409920"/>
              <a:chExt cx="685800" cy="533520"/>
            </a:xfrm>
          </p:grpSpPr>
          <p:sp>
            <p:nvSpPr>
              <p:cNvPr id="160" name=""/>
              <p:cNvSpPr/>
              <p:nvPr/>
            </p:nvSpPr>
            <p:spPr>
              <a:xfrm>
                <a:off x="5257800" y="3409920"/>
                <a:ext cx="0" cy="5335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257800" y="3943440"/>
                <a:ext cx="6858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3816360" y="4292640"/>
            <a:ext cx="2584440" cy="1581120"/>
            <a:chOff x="3816360" y="4292640"/>
            <a:chExt cx="2584440" cy="1581120"/>
          </a:xfrm>
        </p:grpSpPr>
        <p:sp>
          <p:nvSpPr>
            <p:cNvPr id="163" name=""/>
            <p:cNvSpPr/>
            <p:nvPr/>
          </p:nvSpPr>
          <p:spPr>
            <a:xfrm>
              <a:off x="3816360" y="4324320"/>
              <a:ext cx="1498680" cy="1549440"/>
            </a:xfrm>
            <a:custGeom>
              <a:avLst/>
              <a:gdLst/>
              <a:ahLst/>
              <a:rect l="l" t="t" r="r" b="b"/>
              <a:pathLst>
                <a:path w="944" h="976">
                  <a:moveTo>
                    <a:pt x="164" y="808"/>
                  </a:moveTo>
                  <a:cubicBezTo>
                    <a:pt x="172" y="744"/>
                    <a:pt x="77" y="692"/>
                    <a:pt x="90" y="629"/>
                  </a:cubicBezTo>
                  <a:cubicBezTo>
                    <a:pt x="103" y="563"/>
                    <a:pt x="9" y="593"/>
                    <a:pt x="54" y="559"/>
                  </a:cubicBezTo>
                  <a:cubicBezTo>
                    <a:pt x="53" y="545"/>
                    <a:pt x="0" y="506"/>
                    <a:pt x="78" y="488"/>
                  </a:cubicBezTo>
                  <a:cubicBezTo>
                    <a:pt x="156" y="470"/>
                    <a:pt x="438" y="467"/>
                    <a:pt x="524" y="448"/>
                  </a:cubicBezTo>
                  <a:cubicBezTo>
                    <a:pt x="652" y="384"/>
                    <a:pt x="500" y="472"/>
                    <a:pt x="596" y="376"/>
                  </a:cubicBezTo>
                  <a:cubicBezTo>
                    <a:pt x="609" y="363"/>
                    <a:pt x="521" y="331"/>
                    <a:pt x="537" y="323"/>
                  </a:cubicBezTo>
                  <a:cubicBezTo>
                    <a:pt x="506" y="231"/>
                    <a:pt x="544" y="120"/>
                    <a:pt x="596" y="16"/>
                  </a:cubicBezTo>
                  <a:cubicBezTo>
                    <a:pt x="604" y="0"/>
                    <a:pt x="760" y="41"/>
                    <a:pt x="713" y="76"/>
                  </a:cubicBezTo>
                  <a:cubicBezTo>
                    <a:pt x="944" y="105"/>
                    <a:pt x="861" y="69"/>
                    <a:pt x="908" y="256"/>
                  </a:cubicBezTo>
                  <a:cubicBezTo>
                    <a:pt x="881" y="336"/>
                    <a:pt x="888" y="362"/>
                    <a:pt x="812" y="400"/>
                  </a:cubicBezTo>
                  <a:cubicBezTo>
                    <a:pt x="796" y="432"/>
                    <a:pt x="780" y="464"/>
                    <a:pt x="764" y="496"/>
                  </a:cubicBezTo>
                  <a:cubicBezTo>
                    <a:pt x="756" y="512"/>
                    <a:pt x="740" y="544"/>
                    <a:pt x="740" y="544"/>
                  </a:cubicBezTo>
                  <a:cubicBezTo>
                    <a:pt x="712" y="796"/>
                    <a:pt x="748" y="695"/>
                    <a:pt x="668" y="856"/>
                  </a:cubicBezTo>
                  <a:cubicBezTo>
                    <a:pt x="660" y="872"/>
                    <a:pt x="660" y="896"/>
                    <a:pt x="644" y="904"/>
                  </a:cubicBezTo>
                  <a:cubicBezTo>
                    <a:pt x="573" y="939"/>
                    <a:pt x="613" y="922"/>
                    <a:pt x="524" y="952"/>
                  </a:cubicBezTo>
                  <a:cubicBezTo>
                    <a:pt x="443" y="945"/>
                    <a:pt x="164" y="976"/>
                    <a:pt x="164" y="808"/>
                  </a:cubicBez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57800" y="4292640"/>
              <a:ext cx="1143000" cy="507960"/>
            </a:xfrm>
            <a:custGeom>
              <a:avLst/>
              <a:gdLst/>
              <a:ahLst/>
              <a:rect l="l" t="t" r="r" b="b"/>
              <a:pathLst>
                <a:path w="720" h="320">
                  <a:moveTo>
                    <a:pt x="0" y="128"/>
                  </a:moveTo>
                  <a:cubicBezTo>
                    <a:pt x="60" y="64"/>
                    <a:pt x="120" y="0"/>
                    <a:pt x="240" y="32"/>
                  </a:cubicBezTo>
                  <a:cubicBezTo>
                    <a:pt x="360" y="64"/>
                    <a:pt x="568" y="296"/>
                    <a:pt x="720" y="32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343400" y="4019400"/>
            <a:ext cx="45720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724280" y="3504960"/>
            <a:ext cx="914400" cy="533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80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-ENFOQUE DE EVALUACIO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914400"/>
            <a:ext cx="576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4520" y="1295280"/>
            <a:ext cx="271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Modelos 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63480" y="1752480"/>
                <a:ext cx="6526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438920" y="1935000"/>
            <a:ext cx="4920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absoluto del coeficiente del co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21800" y="2514600"/>
            <a:ext cx="7902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me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514600" y="2743200"/>
            <a:ext cx="533520" cy="457200"/>
            <a:chOff x="2514600" y="2743200"/>
            <a:chExt cx="533520" cy="457200"/>
          </a:xfrm>
        </p:grpSpPr>
        <p:sp>
          <p:nvSpPr>
            <p:cNvPr id="174" name=""/>
            <p:cNvSpPr/>
            <p:nvPr/>
          </p:nvSpPr>
          <p:spPr>
            <a:xfrm flipV="1">
              <a:off x="3048120" y="274320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514600" y="2743200"/>
              <a:ext cx="5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514160" y="4038480"/>
            <a:ext cx="1157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ariación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ostos de tp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819160" y="3505320"/>
            <a:ext cx="533520" cy="709560"/>
            <a:chOff x="2819160" y="3505320"/>
            <a:chExt cx="533520" cy="709560"/>
          </a:xfrm>
        </p:grpSpPr>
        <p:sp>
          <p:nvSpPr>
            <p:cNvPr id="178" name=""/>
            <p:cNvSpPr/>
            <p:nvPr/>
          </p:nvSpPr>
          <p:spPr>
            <a:xfrm flipH="1">
              <a:off x="2819160" y="421488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52680" y="35053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668600" y="3106800"/>
                <a:ext cx="420660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</m:e>
                    </m:nary>
                    <m:sSub>
                      <m:e>
                        <m:r>
                          <m:t xml:space="preserve">Δ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Δh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6112440" y="3200400"/>
            <a:ext cx="213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ara-Díaz, 199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60440" y="2514600"/>
            <a:ext cx="12931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or Subje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ribu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267080" y="2666880"/>
            <a:ext cx="457200" cy="457200"/>
            <a:chOff x="4267080" y="2666880"/>
            <a:chExt cx="457200" cy="457200"/>
          </a:xfrm>
        </p:grpSpPr>
        <p:sp>
          <p:nvSpPr>
            <p:cNvPr id="184" name=""/>
            <p:cNvSpPr/>
            <p:nvPr/>
          </p:nvSpPr>
          <p:spPr>
            <a:xfrm flipV="1">
              <a:off x="4267080" y="26668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67080" y="26668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507000" y="4084560"/>
            <a:ext cx="851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ributo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638680" y="3494160"/>
            <a:ext cx="609840" cy="848880"/>
            <a:chOff x="5638680" y="3494160"/>
            <a:chExt cx="609840" cy="848880"/>
          </a:xfrm>
        </p:grpSpPr>
        <p:sp>
          <p:nvSpPr>
            <p:cNvPr id="188" name=""/>
            <p:cNvSpPr/>
            <p:nvPr/>
          </p:nvSpPr>
          <p:spPr>
            <a:xfrm>
              <a:off x="5638680" y="3494160"/>
              <a:ext cx="0" cy="83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38680" y="434304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267080" y="35053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733920" y="4008600"/>
                <a:ext cx="1066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V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743040" y="5334120"/>
            <a:ext cx="876240" cy="457200"/>
          </a:xfrm>
          <a:prstGeom prst="rightArrow">
            <a:avLst>
              <a:gd name="adj1" fmla="val 41667"/>
              <a:gd name="adj2" fmla="val 7155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5219640"/>
            <a:ext cx="54864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38320" y="5181480"/>
                <a:ext cx="50752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≈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bSup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</m:e>
                        </m:nary>
                        <m:sSub>
                          <m:e>
                            <m:r>
                              <m:t xml:space="preserve">Δ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q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q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q</m:t>
                                    </m:r>
                                  </m:sub>
                                </m:sSub>
                              </m:sub>
                              <m:sup/>
                              <m:e>
                                <m:sSubSup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q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t xml:space="preserve">Δh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67320" y="5181480"/>
            <a:ext cx="47628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914400" y="685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-METODOLOGIA PARA CALCULAR  VSC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12952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r un contexto de elección apropiado para captar cuantitativamente la percepción subje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3657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ener una Utilidad Marginal asoc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4419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r la Utilidad Marginal en una Valoración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543800" y="685800"/>
                <a:ext cx="5335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8097840" y="630360"/>
                <a:ext cx="436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762120" y="28954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r un indicador 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-ANTECEDENTES: CONTEXTO ELECCION  Y 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91440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720" y="1371600"/>
            <a:ext cx="56145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xto de Elección (Calidad Ambien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1828800"/>
            <a:ext cx="53341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calización Residenci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ardma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n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19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3209760"/>
            <a:ext cx="533412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tios de Recre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Kaoru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19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arson y Kelly (19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y y McCarthy (19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5041800"/>
            <a:ext cx="533412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os de Transpor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radle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 al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9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92760" y="1371600"/>
            <a:ext cx="6996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ributos en estudios de Contaminac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828800"/>
            <a:ext cx="533412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nt,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1995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Frecuencia Mala calidad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Proximidad a Va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Pérdida Espa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3459240"/>
            <a:ext cx="533412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ardman,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Calidad del Aire (NO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R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 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-ANTECEDENTES: CONTEXTO ELECCION  Y 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91440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5191200"/>
            <a:ext cx="53341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radley,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(19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Emisiones por 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Precio Veh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3:15:56Z</dcterms:created>
  <dc:creator>Cristian Vergara N.</dc:creator>
  <dc:description/>
  <dc:language>en-US</dc:language>
  <cp:lastModifiedBy>Sergio Jara</cp:lastModifiedBy>
  <cp:lastPrinted>2001-08-06T13:49:30Z</cp:lastPrinted>
  <dcterms:modified xsi:type="dcterms:W3CDTF">2001-08-07T14:37:12Z</dcterms:modified>
  <cp:revision>302</cp:revision>
  <dc:subject/>
  <dc:title>Sin título de diapositiva</dc:title>
</cp:coreProperties>
</file>