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160"/>
            <a:ext cx="777096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 ENFOQUE LOCAL 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a</a:t>
            </a:r>
            <a:br>
              <a:rPr sz="4400"/>
            </a:br>
            <a:br>
              <a:rPr sz="44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Equilibrio del usuari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08240" y="4508640"/>
            <a:ext cx="639900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. Martínez y  M. Matam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23440" y="1265400"/>
            <a:ext cx="555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cterísticas (-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94360" y="2373480"/>
            <a:ext cx="5450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hay unicidad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olución depe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 los traspasos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9440" y="4029120"/>
            <a:ext cx="6042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eficien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número de regiones exponencial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tamaño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3280" y="5292720"/>
            <a:ext cx="539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Representación compacta de regiones: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1280" y="2889360"/>
            <a:ext cx="61228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7800" y="324180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Usar criterio externo para ele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composición en reg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362320" y="2514600"/>
            <a:ext cx="2755800" cy="2548080"/>
            <a:chOff x="2362320" y="2514600"/>
            <a:chExt cx="2755800" cy="2548080"/>
          </a:xfrm>
        </p:grpSpPr>
        <p:sp>
          <p:nvSpPr>
            <p:cNvPr id="270" name=""/>
            <p:cNvSpPr/>
            <p:nvPr/>
          </p:nvSpPr>
          <p:spPr>
            <a:xfrm>
              <a:off x="4648320" y="4648320"/>
              <a:ext cx="42372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95840" y="46846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2720" y="296568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5240" y="302436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02480" y="407196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5240" y="418788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0800" y="3687840"/>
              <a:ext cx="4237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60920" y="372276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60680" y="3733920"/>
              <a:ext cx="42552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44920" y="376560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17920" y="4616640"/>
              <a:ext cx="4255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25920" y="46720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2760" y="4819680"/>
              <a:ext cx="6462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51280" y="4819680"/>
              <a:ext cx="585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54640" y="2772000"/>
              <a:ext cx="425520" cy="41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24480" y="285300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05360" y="2965680"/>
              <a:ext cx="6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600" y="4084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62480" y="2705400"/>
              <a:ext cx="42516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6360" y="275112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89640" y="2735280"/>
              <a:ext cx="42228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60920" y="279252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27560" y="4616640"/>
              <a:ext cx="4237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57520" y="4683240"/>
              <a:ext cx="42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7080" y="3151440"/>
              <a:ext cx="936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92840" y="431640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33720" y="4297320"/>
              <a:ext cx="42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54600" y="25369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77000" y="2514600"/>
              <a:ext cx="317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70320" y="310068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62320" y="3996000"/>
              <a:ext cx="425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43480" y="3033720"/>
              <a:ext cx="319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514600"/>
            <a:ext cx="3891240" cy="2532240"/>
            <a:chOff x="2362320" y="2514600"/>
            <a:chExt cx="3891240" cy="2532240"/>
          </a:xfrm>
        </p:grpSpPr>
        <p:sp>
          <p:nvSpPr>
            <p:cNvPr id="303" name=""/>
            <p:cNvSpPr/>
            <p:nvPr/>
          </p:nvSpPr>
          <p:spPr>
            <a:xfrm>
              <a:off x="2952360" y="296568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74880" y="302436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02120" y="407196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4880" y="418788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00440" y="3687840"/>
              <a:ext cx="42336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60560" y="372276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60320" y="3733920"/>
              <a:ext cx="42516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44560" y="3765600"/>
              <a:ext cx="42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78200" y="4632480"/>
              <a:ext cx="42336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5720" y="466884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17560" y="4616640"/>
              <a:ext cx="42516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25560" y="467208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92400" y="4819680"/>
              <a:ext cx="6458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50920" y="4819680"/>
              <a:ext cx="585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54280" y="2772000"/>
              <a:ext cx="425160" cy="41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24120" y="2853000"/>
              <a:ext cx="423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05000" y="2965680"/>
              <a:ext cx="6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11240" y="4084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62120" y="2705400"/>
              <a:ext cx="42480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46000" y="2751120"/>
              <a:ext cx="42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89280" y="2735280"/>
              <a:ext cx="42192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60560" y="279252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27200" y="4616640"/>
              <a:ext cx="42336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57160" y="468324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6720" y="3151440"/>
              <a:ext cx="900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92480" y="4316400"/>
              <a:ext cx="423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33360" y="4297320"/>
              <a:ext cx="421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54240" y="2536920"/>
              <a:ext cx="31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6640" y="2514600"/>
              <a:ext cx="31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69960" y="3100680"/>
              <a:ext cx="317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62320" y="399600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43120" y="30337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4160" y="3668760"/>
              <a:ext cx="425160" cy="41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32040" y="372456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971440" y="3090960"/>
              <a:ext cx="1639080" cy="1473120"/>
              <a:chOff x="2971440" y="3090960"/>
              <a:chExt cx="1639080" cy="1473120"/>
            </a:xfrm>
          </p:grpSpPr>
          <p:sp>
            <p:nvSpPr>
              <p:cNvPr id="338" name=""/>
              <p:cNvSpPr/>
              <p:nvPr/>
            </p:nvSpPr>
            <p:spPr>
              <a:xfrm flipH="1">
                <a:off x="2971440" y="3948120"/>
                <a:ext cx="63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26840" y="4167360"/>
                <a:ext cx="423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3993120" y="3904920"/>
                <a:ext cx="6174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3783960" y="3176640"/>
                <a:ext cx="0" cy="4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3774600" y="4098960"/>
                <a:ext cx="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64840" y="3467160"/>
                <a:ext cx="320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04720" y="3511440"/>
                <a:ext cx="317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50600" y="3090960"/>
                <a:ext cx="31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flipH="1">
              <a:off x="5038200" y="388944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38560" y="2934000"/>
              <a:ext cx="76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41640" y="325908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5771880" y="2711520"/>
              <a:ext cx="481680" cy="415440"/>
              <a:chOff x="5771880" y="2711520"/>
              <a:chExt cx="481680" cy="415440"/>
            </a:xfrm>
          </p:grpSpPr>
          <p:sp>
            <p:nvSpPr>
              <p:cNvPr id="350" name=""/>
              <p:cNvSpPr/>
              <p:nvPr/>
            </p:nvSpPr>
            <p:spPr>
              <a:xfrm>
                <a:off x="5771880" y="2711520"/>
                <a:ext cx="42264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31640" y="2770200"/>
                <a:ext cx="421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759280" y="3668760"/>
              <a:ext cx="459720" cy="415800"/>
              <a:chOff x="5759280" y="3668760"/>
              <a:chExt cx="459720" cy="415800"/>
            </a:xfrm>
          </p:grpSpPr>
          <p:sp>
            <p:nvSpPr>
              <p:cNvPr id="353" name=""/>
              <p:cNvSpPr/>
              <p:nvPr/>
            </p:nvSpPr>
            <p:spPr>
              <a:xfrm>
                <a:off x="5759280" y="3668760"/>
                <a:ext cx="423720" cy="41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5280" y="3725280"/>
                <a:ext cx="423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5128920" y="4838400"/>
              <a:ext cx="595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711760" y="4599000"/>
              <a:ext cx="507240" cy="415800"/>
              <a:chOff x="5711760" y="4599000"/>
              <a:chExt cx="507240" cy="415800"/>
            </a:xfrm>
          </p:grpSpPr>
          <p:sp>
            <p:nvSpPr>
              <p:cNvPr id="357" name=""/>
              <p:cNvSpPr/>
              <p:nvPr/>
            </p:nvSpPr>
            <p:spPr>
              <a:xfrm>
                <a:off x="5711760" y="4599000"/>
                <a:ext cx="423720" cy="41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5280" y="4645440"/>
                <a:ext cx="423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V="1">
              <a:off x="5959080" y="4120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68520" y="340200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7600" y="251460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13160" y="435132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95760" y="3962520"/>
              <a:ext cx="423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949720" y="31147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composición en reg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590920" y="2362320"/>
            <a:ext cx="3892320" cy="2531520"/>
            <a:chOff x="2590920" y="2362320"/>
            <a:chExt cx="3892320" cy="2531520"/>
          </a:xfrm>
        </p:grpSpPr>
        <p:sp>
          <p:nvSpPr>
            <p:cNvPr id="367" name=""/>
            <p:cNvSpPr/>
            <p:nvPr/>
          </p:nvSpPr>
          <p:spPr>
            <a:xfrm>
              <a:off x="5130720" y="3919320"/>
              <a:ext cx="0" cy="58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03840" y="403524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29040" y="3535200"/>
              <a:ext cx="4240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89520" y="357012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35680" y="2998440"/>
              <a:ext cx="936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2080" y="288108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13120" y="3516120"/>
              <a:ext cx="42552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60640" y="357156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200400" y="3795480"/>
              <a:ext cx="63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6160" y="401472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4222440" y="3752640"/>
              <a:ext cx="6174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013280" y="302364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03560" y="3945960"/>
              <a:ext cx="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94160" y="33145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33680" y="335880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79920" y="29383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66800" y="3736800"/>
              <a:ext cx="74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97480" y="3249360"/>
              <a:ext cx="425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7880" y="3516120"/>
              <a:ext cx="4240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24600" y="357156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46520" y="4463640"/>
              <a:ext cx="4255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81320" y="281268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03480" y="2871720"/>
              <a:ext cx="0" cy="6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89280" y="3581280"/>
              <a:ext cx="425520" cy="41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73520" y="3612960"/>
              <a:ext cx="42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06800" y="4479840"/>
              <a:ext cx="424080" cy="41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54520" y="451944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21000" y="4667040"/>
              <a:ext cx="6462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79880" y="4667040"/>
              <a:ext cx="5857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82880" y="2619000"/>
              <a:ext cx="425520" cy="41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52720" y="2700000"/>
              <a:ext cx="42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33960" y="2812680"/>
              <a:ext cx="6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0200" y="3931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90720" y="2552400"/>
              <a:ext cx="42552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74960" y="259848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8240" y="2582640"/>
              <a:ext cx="421920" cy="41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89520" y="26398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5800" y="4463640"/>
              <a:ext cx="42408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86120" y="453060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21080" y="416376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62320" y="4144680"/>
              <a:ext cx="42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82840" y="2384280"/>
              <a:ext cx="319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05240" y="236232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98920" y="2947680"/>
              <a:ext cx="317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90920" y="384300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67160" y="2781000"/>
              <a:ext cx="7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00840" y="2558880"/>
              <a:ext cx="4222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60960" y="261756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0360" y="4446360"/>
              <a:ext cx="4240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24600" y="449244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16560" y="23623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54680" y="451620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70600" y="310644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357880" y="4686120"/>
              <a:ext cx="5950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188040" y="3968640"/>
              <a:ext cx="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42120" y="419868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24360" y="380988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178680" y="2961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14600" y="2362320"/>
            <a:ext cx="3936960" cy="2574000"/>
            <a:chOff x="2514600" y="2362320"/>
            <a:chExt cx="3936960" cy="2574000"/>
          </a:xfrm>
        </p:grpSpPr>
        <p:grpSp>
          <p:nvGrpSpPr>
            <p:cNvPr id="426" name=""/>
            <p:cNvGrpSpPr/>
            <p:nvPr/>
          </p:nvGrpSpPr>
          <p:grpSpPr>
            <a:xfrm>
              <a:off x="2514600" y="3962160"/>
              <a:ext cx="3849120" cy="974160"/>
              <a:chOff x="2514600" y="3962160"/>
              <a:chExt cx="3849120" cy="974160"/>
            </a:xfrm>
          </p:grpSpPr>
          <p:sp>
            <p:nvSpPr>
              <p:cNvPr id="427" name=""/>
              <p:cNvSpPr/>
              <p:nvPr/>
            </p:nvSpPr>
            <p:spPr>
              <a:xfrm>
                <a:off x="2514600" y="3962160"/>
                <a:ext cx="425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46160" y="4506480"/>
                <a:ext cx="42516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906440" y="4522320"/>
                <a:ext cx="423720" cy="41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55440" y="4506480"/>
                <a:ext cx="42372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885760" y="4573080"/>
                <a:ext cx="423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40000" y="4488840"/>
                <a:ext cx="423720" cy="41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666880" y="2362320"/>
              <a:ext cx="3784680" cy="2493000"/>
              <a:chOff x="2666880" y="2362320"/>
              <a:chExt cx="3784680" cy="2493000"/>
            </a:xfrm>
          </p:grpSpPr>
          <p:sp>
            <p:nvSpPr>
              <p:cNvPr id="434" name=""/>
              <p:cNvSpPr/>
              <p:nvPr/>
            </p:nvSpPr>
            <p:spPr>
              <a:xfrm>
                <a:off x="5956200" y="3516120"/>
                <a:ext cx="42372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92560" y="3571560"/>
                <a:ext cx="424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49280" y="2812680"/>
                <a:ext cx="74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971800" y="2871720"/>
                <a:ext cx="0" cy="69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57240" y="3581280"/>
                <a:ext cx="425520" cy="41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41480" y="3612960"/>
                <a:ext cx="425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22480" y="451944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189320" y="4667040"/>
                <a:ext cx="6462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47840" y="4667040"/>
                <a:ext cx="5857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51200" y="2619000"/>
                <a:ext cx="425520" cy="41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21040" y="2700000"/>
                <a:ext cx="423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01920" y="28126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8160" y="3931920"/>
                <a:ext cx="0" cy="58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59040" y="2552400"/>
                <a:ext cx="425160" cy="41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42920" y="2598480"/>
                <a:ext cx="425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86200" y="2582640"/>
                <a:ext cx="422280" cy="41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57480" y="263988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289400" y="4163760"/>
                <a:ext cx="423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230280" y="4144680"/>
                <a:ext cx="422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51160" y="2384280"/>
                <a:ext cx="318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3560" y="2362320"/>
                <a:ext cx="317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666880" y="2947680"/>
                <a:ext cx="317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35480" y="2781000"/>
                <a:ext cx="76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68800" y="2558880"/>
                <a:ext cx="42228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29280" y="261756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2560" y="4492440"/>
                <a:ext cx="424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84520" y="2362320"/>
                <a:ext cx="319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22640" y="451620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938560" y="3106440"/>
                <a:ext cx="319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325840" y="4686120"/>
                <a:ext cx="5954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156000" y="3968640"/>
                <a:ext cx="0" cy="46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10080" y="4198680"/>
                <a:ext cx="425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692680" y="3809880"/>
                <a:ext cx="423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6146640" y="29617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composición en reg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743200" y="2590920"/>
            <a:ext cx="3892320" cy="2531520"/>
            <a:chOff x="2743200" y="2590920"/>
            <a:chExt cx="3892320" cy="2531520"/>
          </a:xfrm>
        </p:grpSpPr>
        <p:sp>
          <p:nvSpPr>
            <p:cNvPr id="470" name=""/>
            <p:cNvSpPr/>
            <p:nvPr/>
          </p:nvSpPr>
          <p:spPr>
            <a:xfrm>
              <a:off x="5283000" y="4147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6120" y="426384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352680" y="4024080"/>
              <a:ext cx="63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165560" y="3252600"/>
              <a:ext cx="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3808440" y="3109680"/>
              <a:ext cx="1655640" cy="1529280"/>
              <a:chOff x="3808440" y="3109680"/>
              <a:chExt cx="1655640" cy="1529280"/>
            </a:xfrm>
          </p:grpSpPr>
          <p:sp>
            <p:nvSpPr>
              <p:cNvPr id="475" name=""/>
              <p:cNvSpPr/>
              <p:nvPr/>
            </p:nvSpPr>
            <p:spPr>
              <a:xfrm>
                <a:off x="4981320" y="3763440"/>
                <a:ext cx="42408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41800" y="379836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187960" y="3227040"/>
                <a:ext cx="936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24360" y="3109680"/>
                <a:ext cx="318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65400" y="3744360"/>
                <a:ext cx="425520" cy="41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12920" y="380016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08440" y="4242960"/>
                <a:ext cx="423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4374720" y="3980880"/>
                <a:ext cx="61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4155840" y="4174200"/>
                <a:ext cx="0" cy="46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46440" y="35427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3585960" y="358776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32200" y="31669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419080" y="3965400"/>
              <a:ext cx="74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9760" y="3477960"/>
              <a:ext cx="425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40160" y="3744720"/>
              <a:ext cx="42408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76880" y="380052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98800" y="4692600"/>
              <a:ext cx="42552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33600" y="304164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55760" y="3100320"/>
              <a:ext cx="0" cy="6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41560" y="3809880"/>
              <a:ext cx="425520" cy="41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25800" y="3841560"/>
              <a:ext cx="42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59080" y="4708440"/>
              <a:ext cx="424080" cy="41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06800" y="474804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73280" y="4895640"/>
              <a:ext cx="6462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2160" y="4895640"/>
              <a:ext cx="5857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35160" y="2847960"/>
              <a:ext cx="425520" cy="41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05000" y="2928960"/>
              <a:ext cx="42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86240" y="3041640"/>
              <a:ext cx="6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92480" y="4160880"/>
              <a:ext cx="0" cy="58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43000" y="2781360"/>
              <a:ext cx="425520" cy="41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27240" y="282708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70520" y="2811240"/>
              <a:ext cx="421920" cy="41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41800" y="28684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08080" y="4692600"/>
              <a:ext cx="4240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38400" y="475920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73360" y="439236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14600" y="4373280"/>
              <a:ext cx="42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35120" y="2612880"/>
              <a:ext cx="319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57520" y="259092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51200" y="3176640"/>
              <a:ext cx="317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43200" y="407196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9440" y="3009960"/>
              <a:ext cx="7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53120" y="2787480"/>
              <a:ext cx="422280" cy="415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13240" y="284616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92640" y="4674960"/>
              <a:ext cx="42408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6880" y="472104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68840" y="25909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6960" y="474480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22880" y="333504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510160" y="4914720"/>
              <a:ext cx="5950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340320" y="4197240"/>
              <a:ext cx="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94400" y="442728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76640" y="403848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330960" y="3190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819520" y="2514600"/>
            <a:ext cx="2646360" cy="2560680"/>
            <a:chOff x="2819520" y="2514600"/>
            <a:chExt cx="2646360" cy="2560680"/>
          </a:xfrm>
        </p:grpSpPr>
        <p:sp>
          <p:nvSpPr>
            <p:cNvPr id="530" name=""/>
            <p:cNvSpPr/>
            <p:nvPr/>
          </p:nvSpPr>
          <p:spPr>
            <a:xfrm>
              <a:off x="3898800" y="4659480"/>
              <a:ext cx="4255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08440" y="4659480"/>
              <a:ext cx="4237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38400" y="4726080"/>
              <a:ext cx="42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1920" y="296568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24080" y="302436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09880" y="3733920"/>
              <a:ext cx="42552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94120" y="376560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75120" y="46720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300480" y="4819680"/>
              <a:ext cx="585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03840" y="2772000"/>
              <a:ext cx="425160" cy="41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73680" y="285300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54560" y="2965680"/>
              <a:ext cx="6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60800" y="4084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11320" y="2705400"/>
              <a:ext cx="42552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95560" y="275112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38840" y="2735280"/>
              <a:ext cx="42228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10120" y="279252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82920" y="4297680"/>
              <a:ext cx="42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03440" y="2536920"/>
              <a:ext cx="319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25840" y="251460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19520" y="310068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83120" y="3762360"/>
              <a:ext cx="424080" cy="41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43600" y="37972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89400" y="3225960"/>
              <a:ext cx="972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6160" y="310860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67200" y="3743640"/>
              <a:ext cx="4255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4720" y="37990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09880" y="424188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4376520" y="3979800"/>
              <a:ext cx="617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157640" y="417384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48240" y="35420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57280" y="630360"/>
            <a:ext cx="7813440" cy="12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se de region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231920" y="1263600"/>
            <a:ext cx="2057400" cy="1501920"/>
            <a:chOff x="1231920" y="1263600"/>
            <a:chExt cx="2057400" cy="1501920"/>
          </a:xfrm>
        </p:grpSpPr>
        <p:sp>
          <p:nvSpPr>
            <p:cNvPr id="563" name=""/>
            <p:cNvSpPr/>
            <p:nvPr/>
          </p:nvSpPr>
          <p:spPr>
            <a:xfrm>
              <a:off x="1231920" y="218592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2968560" y="2489040"/>
              <a:ext cx="320760" cy="271440"/>
              <a:chOff x="2968560" y="2489040"/>
              <a:chExt cx="320760" cy="271440"/>
            </a:xfrm>
          </p:grpSpPr>
          <p:sp>
            <p:nvSpPr>
              <p:cNvPr id="565" name=""/>
              <p:cNvSpPr/>
              <p:nvPr/>
            </p:nvSpPr>
            <p:spPr>
              <a:xfrm>
                <a:off x="2968560" y="248904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68560" y="248904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135160" y="2494080"/>
              <a:ext cx="320760" cy="271440"/>
              <a:chOff x="2135160" y="2494080"/>
              <a:chExt cx="320760" cy="271440"/>
            </a:xfrm>
          </p:grpSpPr>
          <p:sp>
            <p:nvSpPr>
              <p:cNvPr id="568" name=""/>
              <p:cNvSpPr/>
              <p:nvPr/>
            </p:nvSpPr>
            <p:spPr>
              <a:xfrm>
                <a:off x="2135160" y="249408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35160" y="249408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2604960" y="245916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68320" y="245916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84360" y="264312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81200" y="2643120"/>
              <a:ext cx="48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0200" y="1427040"/>
              <a:ext cx="56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2135160" y="1273320"/>
              <a:ext cx="320760" cy="269640"/>
              <a:chOff x="2135160" y="1273320"/>
              <a:chExt cx="320760" cy="269640"/>
            </a:xfrm>
          </p:grpSpPr>
          <p:sp>
            <p:nvSpPr>
              <p:cNvPr id="576" name=""/>
              <p:cNvSpPr/>
              <p:nvPr/>
            </p:nvSpPr>
            <p:spPr>
              <a:xfrm>
                <a:off x="2135160" y="1273320"/>
                <a:ext cx="320760" cy="269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35160" y="127332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467080" y="142704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21000" y="1427040"/>
              <a:ext cx="0" cy="45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21000" y="211140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29120" y="211140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29120" y="1503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03240" y="126360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30520" y="126360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06440" y="157968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06640" y="1579680"/>
              <a:ext cx="238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81440" y="2185920"/>
              <a:ext cx="318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376280" y="1274760"/>
              <a:ext cx="320760" cy="270000"/>
              <a:chOff x="1376280" y="1274760"/>
              <a:chExt cx="320760" cy="270000"/>
            </a:xfrm>
          </p:grpSpPr>
          <p:sp>
            <p:nvSpPr>
              <p:cNvPr id="589" name=""/>
              <p:cNvSpPr/>
              <p:nvPr/>
            </p:nvSpPr>
            <p:spPr>
              <a:xfrm>
                <a:off x="1376280" y="1274760"/>
                <a:ext cx="320760" cy="2700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76280" y="127476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28960" y="1274760"/>
              <a:ext cx="318960" cy="270000"/>
              <a:chOff x="2928960" y="1274760"/>
              <a:chExt cx="318960" cy="270000"/>
            </a:xfrm>
          </p:grpSpPr>
          <p:sp>
            <p:nvSpPr>
              <p:cNvPr id="592" name=""/>
              <p:cNvSpPr/>
              <p:nvPr/>
            </p:nvSpPr>
            <p:spPr>
              <a:xfrm>
                <a:off x="2928960" y="1274760"/>
                <a:ext cx="318960" cy="2700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928960" y="1274760"/>
                <a:ext cx="3189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1376280" y="2494080"/>
              <a:ext cx="320760" cy="271440"/>
              <a:chOff x="1376280" y="2494080"/>
              <a:chExt cx="320760" cy="271440"/>
            </a:xfrm>
          </p:grpSpPr>
          <p:sp>
            <p:nvSpPr>
              <p:cNvPr id="595" name=""/>
              <p:cNvSpPr/>
              <p:nvPr/>
            </p:nvSpPr>
            <p:spPr>
              <a:xfrm>
                <a:off x="1376280" y="249408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6280" y="249408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968560" y="1882800"/>
              <a:ext cx="320760" cy="271440"/>
              <a:chOff x="2968560" y="1882800"/>
              <a:chExt cx="320760" cy="271440"/>
            </a:xfrm>
          </p:grpSpPr>
          <p:sp>
            <p:nvSpPr>
              <p:cNvPr id="598" name=""/>
              <p:cNvSpPr/>
              <p:nvPr/>
            </p:nvSpPr>
            <p:spPr>
              <a:xfrm>
                <a:off x="2968560" y="188280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68560" y="188280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376280" y="1882800"/>
              <a:ext cx="320760" cy="271440"/>
              <a:chOff x="1376280" y="1882800"/>
              <a:chExt cx="320760" cy="271440"/>
            </a:xfrm>
          </p:grpSpPr>
          <p:sp>
            <p:nvSpPr>
              <p:cNvPr id="601" name=""/>
              <p:cNvSpPr/>
              <p:nvPr/>
            </p:nvSpPr>
            <p:spPr>
              <a:xfrm>
                <a:off x="1376280" y="188280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76280" y="188280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1308240" y="3171960"/>
            <a:ext cx="1919160" cy="806400"/>
            <a:chOff x="1308240" y="3171960"/>
            <a:chExt cx="1919160" cy="806400"/>
          </a:xfrm>
        </p:grpSpPr>
        <p:sp>
          <p:nvSpPr>
            <p:cNvPr id="604" name=""/>
            <p:cNvSpPr/>
            <p:nvPr/>
          </p:nvSpPr>
          <p:spPr>
            <a:xfrm>
              <a:off x="1592280" y="33163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109960" y="3179880"/>
              <a:ext cx="311040" cy="244800"/>
              <a:chOff x="2109960" y="3179880"/>
              <a:chExt cx="311040" cy="244800"/>
            </a:xfrm>
          </p:grpSpPr>
          <p:sp>
            <p:nvSpPr>
              <p:cNvPr id="606" name=""/>
              <p:cNvSpPr/>
              <p:nvPr/>
            </p:nvSpPr>
            <p:spPr>
              <a:xfrm>
                <a:off x="2109960" y="3179880"/>
                <a:ext cx="311040" cy="2379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09960" y="3179880"/>
                <a:ext cx="311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2432160" y="331632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14520" y="3316320"/>
              <a:ext cx="144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71880" y="3382920"/>
              <a:ext cx="144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87400" y="3171960"/>
              <a:ext cx="233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89120" y="317196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08240" y="3449520"/>
              <a:ext cx="233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855880" y="344952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374840" y="3181320"/>
              <a:ext cx="311040" cy="244800"/>
              <a:chOff x="1374840" y="3181320"/>
              <a:chExt cx="311040" cy="244800"/>
            </a:xfrm>
          </p:grpSpPr>
          <p:sp>
            <p:nvSpPr>
              <p:cNvPr id="616" name=""/>
              <p:cNvSpPr/>
              <p:nvPr/>
            </p:nvSpPr>
            <p:spPr>
              <a:xfrm>
                <a:off x="1374840" y="3181320"/>
                <a:ext cx="311040" cy="239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74840" y="3181320"/>
                <a:ext cx="311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2878200" y="3181320"/>
              <a:ext cx="309600" cy="244800"/>
              <a:chOff x="2878200" y="3181320"/>
              <a:chExt cx="309600" cy="244800"/>
            </a:xfrm>
          </p:grpSpPr>
          <p:sp>
            <p:nvSpPr>
              <p:cNvPr id="619" name=""/>
              <p:cNvSpPr/>
              <p:nvPr/>
            </p:nvSpPr>
            <p:spPr>
              <a:xfrm>
                <a:off x="2878200" y="3181320"/>
                <a:ext cx="309600" cy="239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878200" y="3181320"/>
                <a:ext cx="3096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2916360" y="3718080"/>
              <a:ext cx="311040" cy="244800"/>
              <a:chOff x="2916360" y="3718080"/>
              <a:chExt cx="311040" cy="244800"/>
            </a:xfrm>
          </p:grpSpPr>
          <p:sp>
            <p:nvSpPr>
              <p:cNvPr id="622" name=""/>
              <p:cNvSpPr/>
              <p:nvPr/>
            </p:nvSpPr>
            <p:spPr>
              <a:xfrm>
                <a:off x="2916360" y="3718080"/>
                <a:ext cx="311040" cy="239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16360" y="3718080"/>
                <a:ext cx="311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1669680" y="3701880"/>
              <a:ext cx="1324080" cy="260640"/>
              <a:chOff x="1669680" y="3701880"/>
              <a:chExt cx="1324080" cy="260640"/>
            </a:xfrm>
          </p:grpSpPr>
          <p:sp>
            <p:nvSpPr>
              <p:cNvPr id="625" name=""/>
              <p:cNvSpPr/>
              <p:nvPr/>
            </p:nvSpPr>
            <p:spPr>
              <a:xfrm>
                <a:off x="2604960" y="3701880"/>
                <a:ext cx="23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41400" y="3701880"/>
                <a:ext cx="233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1669680" y="385164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2447640" y="3851640"/>
                <a:ext cx="54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109960" y="3717720"/>
                <a:ext cx="311040" cy="244800"/>
                <a:chOff x="2109960" y="3717720"/>
                <a:chExt cx="311040" cy="2448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109960" y="3717720"/>
                  <a:ext cx="311040" cy="2379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109960" y="3717720"/>
                  <a:ext cx="311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1374840" y="3718080"/>
              <a:ext cx="380880" cy="260280"/>
              <a:chOff x="1374840" y="3718080"/>
              <a:chExt cx="380880" cy="260280"/>
            </a:xfrm>
          </p:grpSpPr>
          <p:sp>
            <p:nvSpPr>
              <p:cNvPr id="633" name=""/>
              <p:cNvSpPr/>
              <p:nvPr/>
            </p:nvSpPr>
            <p:spPr>
              <a:xfrm>
                <a:off x="1374840" y="3718080"/>
                <a:ext cx="380880" cy="260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74840" y="3718080"/>
                <a:ext cx="3808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5" name=""/>
          <p:cNvGrpSpPr/>
          <p:nvPr/>
        </p:nvGrpSpPr>
        <p:grpSpPr>
          <a:xfrm>
            <a:off x="4398840" y="2897280"/>
            <a:ext cx="2106720" cy="1406520"/>
            <a:chOff x="4398840" y="2897280"/>
            <a:chExt cx="2106720" cy="1406520"/>
          </a:xfrm>
        </p:grpSpPr>
        <p:grpSp>
          <p:nvGrpSpPr>
            <p:cNvPr id="636" name=""/>
            <p:cNvGrpSpPr/>
            <p:nvPr/>
          </p:nvGrpSpPr>
          <p:grpSpPr>
            <a:xfrm>
              <a:off x="5335560" y="4049640"/>
              <a:ext cx="325440" cy="254160"/>
              <a:chOff x="5335560" y="4049640"/>
              <a:chExt cx="325440" cy="254160"/>
            </a:xfrm>
          </p:grpSpPr>
          <p:sp>
            <p:nvSpPr>
              <p:cNvPr id="637" name=""/>
              <p:cNvSpPr/>
              <p:nvPr/>
            </p:nvSpPr>
            <p:spPr>
              <a:xfrm>
                <a:off x="5335560" y="4049640"/>
                <a:ext cx="325440" cy="254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335560" y="404964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4962600" y="4016520"/>
              <a:ext cx="325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73680" y="418788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51320" y="3762360"/>
              <a:ext cx="325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92680" y="305100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5335560" y="2905200"/>
              <a:ext cx="325440" cy="253440"/>
              <a:chOff x="5335560" y="2905200"/>
              <a:chExt cx="325440" cy="253440"/>
            </a:xfrm>
          </p:grpSpPr>
          <p:sp>
            <p:nvSpPr>
              <p:cNvPr id="644" name=""/>
              <p:cNvSpPr/>
              <p:nvPr/>
            </p:nvSpPr>
            <p:spPr>
              <a:xfrm>
                <a:off x="5335560" y="2905200"/>
                <a:ext cx="325440" cy="253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335560" y="290520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5672160" y="3051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11680" y="3051000"/>
              <a:ext cx="0" cy="42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1680" y="36910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43560" y="312264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97520" y="2897280"/>
              <a:ext cx="244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37400" y="2897280"/>
              <a:ext cx="244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94240" y="3192480"/>
              <a:ext cx="244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18200" y="3192480"/>
              <a:ext cx="243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5689440" y="3460680"/>
              <a:ext cx="571680" cy="244800"/>
              <a:chOff x="5689440" y="3460680"/>
              <a:chExt cx="571680" cy="244800"/>
            </a:xfrm>
          </p:grpSpPr>
          <p:sp>
            <p:nvSpPr>
              <p:cNvPr id="655" name=""/>
              <p:cNvSpPr/>
              <p:nvPr/>
            </p:nvSpPr>
            <p:spPr>
              <a:xfrm>
                <a:off x="5853240" y="3460680"/>
                <a:ext cx="244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5689440" y="361944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564080" y="2908440"/>
              <a:ext cx="325440" cy="253800"/>
              <a:chOff x="4564080" y="2908440"/>
              <a:chExt cx="325440" cy="25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4564080" y="2908440"/>
                <a:ext cx="3254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564080" y="290844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140520" y="2908440"/>
              <a:ext cx="323640" cy="253800"/>
              <a:chOff x="6140520" y="2908440"/>
              <a:chExt cx="323640" cy="253800"/>
            </a:xfrm>
          </p:grpSpPr>
          <p:sp>
            <p:nvSpPr>
              <p:cNvPr id="661" name=""/>
              <p:cNvSpPr/>
              <p:nvPr/>
            </p:nvSpPr>
            <p:spPr>
              <a:xfrm>
                <a:off x="6140520" y="2908440"/>
                <a:ext cx="3236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140520" y="2908440"/>
                <a:ext cx="323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564080" y="4049640"/>
              <a:ext cx="325440" cy="254160"/>
              <a:chOff x="4564080" y="4049640"/>
              <a:chExt cx="325440" cy="254160"/>
            </a:xfrm>
          </p:grpSpPr>
          <p:sp>
            <p:nvSpPr>
              <p:cNvPr id="664" name=""/>
              <p:cNvSpPr/>
              <p:nvPr/>
            </p:nvSpPr>
            <p:spPr>
              <a:xfrm>
                <a:off x="4564080" y="4049640"/>
                <a:ext cx="325440" cy="254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64080" y="404964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80120" y="3476520"/>
              <a:ext cx="325440" cy="253800"/>
              <a:chOff x="6180120" y="3476520"/>
              <a:chExt cx="325440" cy="253800"/>
            </a:xfrm>
          </p:grpSpPr>
          <p:sp>
            <p:nvSpPr>
              <p:cNvPr id="667" name=""/>
              <p:cNvSpPr/>
              <p:nvPr/>
            </p:nvSpPr>
            <p:spPr>
              <a:xfrm>
                <a:off x="6180120" y="3476520"/>
                <a:ext cx="3254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80120" y="347652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335560" y="3476520"/>
              <a:ext cx="325440" cy="253800"/>
              <a:chOff x="5335560" y="3476520"/>
              <a:chExt cx="325440" cy="253800"/>
            </a:xfrm>
          </p:grpSpPr>
          <p:sp>
            <p:nvSpPr>
              <p:cNvPr id="670" name=""/>
              <p:cNvSpPr/>
              <p:nvPr/>
            </p:nvSpPr>
            <p:spPr>
              <a:xfrm>
                <a:off x="5335560" y="3476520"/>
                <a:ext cx="3254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335560" y="347652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564080" y="3476520"/>
              <a:ext cx="325440" cy="253800"/>
              <a:chOff x="4564080" y="3476520"/>
              <a:chExt cx="325440" cy="253800"/>
            </a:xfrm>
          </p:grpSpPr>
          <p:sp>
            <p:nvSpPr>
              <p:cNvPr id="673" name=""/>
              <p:cNvSpPr/>
              <p:nvPr/>
            </p:nvSpPr>
            <p:spPr>
              <a:xfrm>
                <a:off x="4564080" y="3476520"/>
                <a:ext cx="3254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564080" y="347652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 flipV="1">
              <a:off x="5527800" y="376056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98840" y="3908520"/>
              <a:ext cx="325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255920" y="1327320"/>
            <a:ext cx="2868480" cy="1344600"/>
            <a:chOff x="4255920" y="1327320"/>
            <a:chExt cx="2868480" cy="1344600"/>
          </a:xfrm>
        </p:grpSpPr>
        <p:sp>
          <p:nvSpPr>
            <p:cNvPr id="678" name=""/>
            <p:cNvSpPr/>
            <p:nvPr/>
          </p:nvSpPr>
          <p:spPr>
            <a:xfrm>
              <a:off x="4387680" y="143352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021000" y="2424240"/>
              <a:ext cx="315720" cy="244800"/>
              <a:chOff x="6021000" y="2424240"/>
              <a:chExt cx="315720" cy="244800"/>
            </a:xfrm>
          </p:grpSpPr>
          <p:sp>
            <p:nvSpPr>
              <p:cNvPr id="680" name=""/>
              <p:cNvSpPr/>
              <p:nvPr/>
            </p:nvSpPr>
            <p:spPr>
              <a:xfrm>
                <a:off x="6021000" y="2424240"/>
                <a:ext cx="315720" cy="242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021000" y="242424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202720" y="2427120"/>
              <a:ext cx="315720" cy="244800"/>
              <a:chOff x="5202720" y="2427120"/>
              <a:chExt cx="315720" cy="244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202720" y="2427120"/>
                <a:ext cx="315720" cy="244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02720" y="242712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5664960" y="2395440"/>
              <a:ext cx="31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42360" y="2395440"/>
              <a:ext cx="31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45800" y="2560680"/>
              <a:ext cx="4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56320" y="2560680"/>
              <a:ext cx="47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76760" y="1473120"/>
              <a:ext cx="5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5202720" y="1333440"/>
              <a:ext cx="315720" cy="244800"/>
              <a:chOff x="5202720" y="1333440"/>
              <a:chExt cx="315720" cy="244800"/>
            </a:xfrm>
          </p:grpSpPr>
          <p:sp>
            <p:nvSpPr>
              <p:cNvPr id="691" name=""/>
              <p:cNvSpPr/>
              <p:nvPr/>
            </p:nvSpPr>
            <p:spPr>
              <a:xfrm>
                <a:off x="5202720" y="1333440"/>
                <a:ext cx="315720" cy="242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02720" y="133344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5529960" y="1473120"/>
              <a:ext cx="4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99000" y="14731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99000" y="208584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77280" y="1327320"/>
              <a:ext cx="236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88720" y="1327320"/>
              <a:ext cx="23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4457880" y="1336680"/>
              <a:ext cx="315720" cy="244800"/>
              <a:chOff x="4457880" y="1336680"/>
              <a:chExt cx="315720" cy="244800"/>
            </a:xfrm>
          </p:grpSpPr>
          <p:sp>
            <p:nvSpPr>
              <p:cNvPr id="699" name=""/>
              <p:cNvSpPr/>
              <p:nvPr/>
            </p:nvSpPr>
            <p:spPr>
              <a:xfrm>
                <a:off x="4457880" y="1336680"/>
                <a:ext cx="315720" cy="244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457880" y="133668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82840" y="1336680"/>
              <a:ext cx="312840" cy="244800"/>
              <a:chOff x="5982840" y="1336680"/>
              <a:chExt cx="312840" cy="244800"/>
            </a:xfrm>
          </p:grpSpPr>
          <p:sp>
            <p:nvSpPr>
              <p:cNvPr id="702" name=""/>
              <p:cNvSpPr/>
              <p:nvPr/>
            </p:nvSpPr>
            <p:spPr>
              <a:xfrm>
                <a:off x="5982840" y="1336680"/>
                <a:ext cx="312840" cy="244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982840" y="1336680"/>
                <a:ext cx="312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457880" y="2427120"/>
              <a:ext cx="315720" cy="244800"/>
              <a:chOff x="4457880" y="2427120"/>
              <a:chExt cx="315720" cy="244800"/>
            </a:xfrm>
          </p:grpSpPr>
          <p:sp>
            <p:nvSpPr>
              <p:cNvPr id="705" name=""/>
              <p:cNvSpPr/>
              <p:nvPr/>
            </p:nvSpPr>
            <p:spPr>
              <a:xfrm>
                <a:off x="4457880" y="2427120"/>
                <a:ext cx="315720" cy="244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57880" y="242712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457880" y="1881360"/>
              <a:ext cx="315720" cy="244800"/>
              <a:chOff x="4457880" y="1881360"/>
              <a:chExt cx="315720" cy="244800"/>
            </a:xfrm>
          </p:grpSpPr>
          <p:sp>
            <p:nvSpPr>
              <p:cNvPr id="708" name=""/>
              <p:cNvSpPr/>
              <p:nvPr/>
            </p:nvSpPr>
            <p:spPr>
              <a:xfrm>
                <a:off x="4457880" y="1881360"/>
                <a:ext cx="315720" cy="243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57880" y="188136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6258960" y="147312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38520" y="2560680"/>
              <a:ext cx="47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47960" y="1327320"/>
              <a:ext cx="236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73760" y="1608120"/>
              <a:ext cx="23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22400" y="2395440"/>
              <a:ext cx="316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94200" y="2152800"/>
              <a:ext cx="312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6810120" y="1336680"/>
              <a:ext cx="314280" cy="244800"/>
              <a:chOff x="6810120" y="1336680"/>
              <a:chExt cx="314280" cy="244800"/>
            </a:xfrm>
          </p:grpSpPr>
          <p:sp>
            <p:nvSpPr>
              <p:cNvPr id="717" name=""/>
              <p:cNvSpPr/>
              <p:nvPr/>
            </p:nvSpPr>
            <p:spPr>
              <a:xfrm>
                <a:off x="6810120" y="1336680"/>
                <a:ext cx="314280" cy="244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10120" y="1336680"/>
                <a:ext cx="31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810120" y="2424240"/>
              <a:ext cx="314280" cy="244800"/>
              <a:chOff x="6810120" y="2424240"/>
              <a:chExt cx="314280" cy="244800"/>
            </a:xfrm>
          </p:grpSpPr>
          <p:sp>
            <p:nvSpPr>
              <p:cNvPr id="720" name=""/>
              <p:cNvSpPr/>
              <p:nvPr/>
            </p:nvSpPr>
            <p:spPr>
              <a:xfrm>
                <a:off x="6810120" y="2424240"/>
                <a:ext cx="314280" cy="242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10120" y="2424240"/>
                <a:ext cx="31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810120" y="1881360"/>
              <a:ext cx="314280" cy="244800"/>
              <a:chOff x="6810120" y="1881360"/>
              <a:chExt cx="314280" cy="244800"/>
            </a:xfrm>
          </p:grpSpPr>
          <p:sp>
            <p:nvSpPr>
              <p:cNvPr id="723" name=""/>
              <p:cNvSpPr/>
              <p:nvPr/>
            </p:nvSpPr>
            <p:spPr>
              <a:xfrm>
                <a:off x="6810120" y="1881360"/>
                <a:ext cx="314280" cy="243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10120" y="1881360"/>
                <a:ext cx="31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 flipV="1">
              <a:off x="6968880" y="215280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968880" y="16077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55920" y="2133720"/>
              <a:ext cx="362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1293840" y="4498920"/>
            <a:ext cx="1278000" cy="1341720"/>
            <a:chOff x="1293840" y="4498920"/>
            <a:chExt cx="1278000" cy="1341720"/>
          </a:xfrm>
        </p:grpSpPr>
        <p:sp>
          <p:nvSpPr>
            <p:cNvPr id="729" name=""/>
            <p:cNvSpPr/>
            <p:nvPr/>
          </p:nvSpPr>
          <p:spPr>
            <a:xfrm>
              <a:off x="2236680" y="5595840"/>
              <a:ext cx="335160" cy="241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36680" y="5595840"/>
              <a:ext cx="33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52560" y="5564160"/>
              <a:ext cx="33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62200" y="57276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79400" y="4645080"/>
              <a:ext cx="5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36680" y="4506840"/>
              <a:ext cx="335160" cy="239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36680" y="4506840"/>
              <a:ext cx="33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95520" y="4645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95520" y="525456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89280" y="4498920"/>
              <a:ext cx="25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71600" y="4780080"/>
              <a:ext cx="250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44680" y="4510080"/>
              <a:ext cx="334800" cy="241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44680" y="4510080"/>
              <a:ext cx="334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444680" y="5595840"/>
              <a:ext cx="334800" cy="241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44680" y="5595840"/>
              <a:ext cx="334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44680" y="5051520"/>
              <a:ext cx="334800" cy="241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44680" y="5051520"/>
              <a:ext cx="334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2236680" y="5051520"/>
              <a:ext cx="335160" cy="244800"/>
              <a:chOff x="2236680" y="5051520"/>
              <a:chExt cx="335160" cy="244800"/>
            </a:xfrm>
          </p:grpSpPr>
          <p:sp>
            <p:nvSpPr>
              <p:cNvPr id="747" name=""/>
              <p:cNvSpPr/>
              <p:nvPr/>
            </p:nvSpPr>
            <p:spPr>
              <a:xfrm>
                <a:off x="2236680" y="5051520"/>
                <a:ext cx="335160" cy="242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36680" y="5051520"/>
                <a:ext cx="3351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2151000" y="4780080"/>
              <a:ext cx="335160" cy="811080"/>
              <a:chOff x="2151000" y="4780080"/>
              <a:chExt cx="335160" cy="811080"/>
            </a:xfrm>
          </p:grpSpPr>
          <p:sp>
            <p:nvSpPr>
              <p:cNvPr id="750" name=""/>
              <p:cNvSpPr/>
              <p:nvPr/>
            </p:nvSpPr>
            <p:spPr>
              <a:xfrm>
                <a:off x="2151000" y="5321160"/>
                <a:ext cx="3351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235240" y="4780080"/>
                <a:ext cx="250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2435400" y="4780080"/>
                <a:ext cx="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2435400" y="532116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1293840" y="5345280"/>
              <a:ext cx="334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4541760" y="4619520"/>
            <a:ext cx="2755800" cy="1504440"/>
            <a:chOff x="4541760" y="4619520"/>
            <a:chExt cx="2755800" cy="1504440"/>
          </a:xfrm>
        </p:grpSpPr>
        <p:sp>
          <p:nvSpPr>
            <p:cNvPr id="756" name=""/>
            <p:cNvSpPr/>
            <p:nvPr/>
          </p:nvSpPr>
          <p:spPr>
            <a:xfrm flipH="1">
              <a:off x="6524640" y="5334480"/>
              <a:ext cx="5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02400" y="5177160"/>
              <a:ext cx="308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6213600" y="5755320"/>
              <a:ext cx="309240" cy="252360"/>
              <a:chOff x="6213600" y="5755320"/>
              <a:chExt cx="309240" cy="252360"/>
            </a:xfrm>
          </p:grpSpPr>
          <p:sp>
            <p:nvSpPr>
              <p:cNvPr id="759" name=""/>
              <p:cNvSpPr/>
              <p:nvPr/>
            </p:nvSpPr>
            <p:spPr>
              <a:xfrm>
                <a:off x="6213600" y="5755320"/>
                <a:ext cx="309240" cy="252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213600" y="575532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5413320" y="5760000"/>
              <a:ext cx="309240" cy="252000"/>
              <a:chOff x="5413320" y="5760000"/>
              <a:chExt cx="309240" cy="252000"/>
            </a:xfrm>
          </p:grpSpPr>
          <p:sp>
            <p:nvSpPr>
              <p:cNvPr id="762" name=""/>
              <p:cNvSpPr/>
              <p:nvPr/>
            </p:nvSpPr>
            <p:spPr>
              <a:xfrm>
                <a:off x="5413320" y="5760000"/>
                <a:ext cx="309240" cy="2520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13320" y="5760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5864400" y="5726880"/>
              <a:ext cx="309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57640" y="5726880"/>
              <a:ext cx="309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48480" y="58986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75200" y="589860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97440" y="477036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5413320" y="4626000"/>
              <a:ext cx="309240" cy="250200"/>
              <a:chOff x="5413320" y="4626000"/>
              <a:chExt cx="309240" cy="250200"/>
            </a:xfrm>
          </p:grpSpPr>
          <p:sp>
            <p:nvSpPr>
              <p:cNvPr id="770" name=""/>
              <p:cNvSpPr/>
              <p:nvPr/>
            </p:nvSpPr>
            <p:spPr>
              <a:xfrm>
                <a:off x="5413320" y="4626000"/>
                <a:ext cx="309240" cy="250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413320" y="4626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5732640" y="477036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19680" y="4770360"/>
              <a:ext cx="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19680" y="54061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69120" y="4842000"/>
              <a:ext cx="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24640" y="58986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091120" y="461952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89600" y="461952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14840" y="491004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54560" y="4910040"/>
              <a:ext cx="230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08880" y="5726880"/>
              <a:ext cx="307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73840" y="5474520"/>
              <a:ext cx="308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4681440" y="4629240"/>
              <a:ext cx="309240" cy="250560"/>
              <a:chOff x="4681440" y="4629240"/>
              <a:chExt cx="309240" cy="250560"/>
            </a:xfrm>
          </p:grpSpPr>
          <p:sp>
            <p:nvSpPr>
              <p:cNvPr id="784" name=""/>
              <p:cNvSpPr/>
              <p:nvPr/>
            </p:nvSpPr>
            <p:spPr>
              <a:xfrm>
                <a:off x="4681440" y="4629240"/>
                <a:ext cx="309240" cy="25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681440" y="462924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6175440" y="4629240"/>
              <a:ext cx="307800" cy="250560"/>
              <a:chOff x="6175440" y="4629240"/>
              <a:chExt cx="307800" cy="250560"/>
            </a:xfrm>
          </p:grpSpPr>
          <p:sp>
            <p:nvSpPr>
              <p:cNvPr id="787" name=""/>
              <p:cNvSpPr/>
              <p:nvPr/>
            </p:nvSpPr>
            <p:spPr>
              <a:xfrm>
                <a:off x="6175440" y="4629240"/>
                <a:ext cx="307800" cy="25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175440" y="4629240"/>
                <a:ext cx="307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988320" y="5755320"/>
              <a:ext cx="309240" cy="252360"/>
              <a:chOff x="6988320" y="5755320"/>
              <a:chExt cx="309240" cy="252360"/>
            </a:xfrm>
          </p:grpSpPr>
          <p:sp>
            <p:nvSpPr>
              <p:cNvPr id="790" name=""/>
              <p:cNvSpPr/>
              <p:nvPr/>
            </p:nvSpPr>
            <p:spPr>
              <a:xfrm>
                <a:off x="6988320" y="5755320"/>
                <a:ext cx="309240" cy="252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988320" y="575532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4681440" y="5760000"/>
              <a:ext cx="309240" cy="252000"/>
              <a:chOff x="4681440" y="5760000"/>
              <a:chExt cx="309240" cy="252000"/>
            </a:xfrm>
          </p:grpSpPr>
          <p:sp>
            <p:nvSpPr>
              <p:cNvPr id="793" name=""/>
              <p:cNvSpPr/>
              <p:nvPr/>
            </p:nvSpPr>
            <p:spPr>
              <a:xfrm>
                <a:off x="4681440" y="5760000"/>
                <a:ext cx="309240" cy="2520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681440" y="5760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988320" y="5193000"/>
              <a:ext cx="309240" cy="250920"/>
              <a:chOff x="6988320" y="5193000"/>
              <a:chExt cx="309240" cy="250920"/>
            </a:xfrm>
          </p:grpSpPr>
          <p:sp>
            <p:nvSpPr>
              <p:cNvPr id="796" name=""/>
              <p:cNvSpPr/>
              <p:nvPr/>
            </p:nvSpPr>
            <p:spPr>
              <a:xfrm>
                <a:off x="6988320" y="5193000"/>
                <a:ext cx="309240" cy="250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988320" y="5193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213600" y="5193000"/>
              <a:ext cx="309240" cy="250920"/>
              <a:chOff x="6213600" y="5193000"/>
              <a:chExt cx="309240" cy="250920"/>
            </a:xfrm>
          </p:grpSpPr>
          <p:sp>
            <p:nvSpPr>
              <p:cNvPr id="799" name=""/>
              <p:cNvSpPr/>
              <p:nvPr/>
            </p:nvSpPr>
            <p:spPr>
              <a:xfrm>
                <a:off x="6213600" y="5193000"/>
                <a:ext cx="309240" cy="250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13600" y="5193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681440" y="5193000"/>
              <a:ext cx="309240" cy="250920"/>
              <a:chOff x="4681440" y="5193000"/>
              <a:chExt cx="309240" cy="250920"/>
            </a:xfrm>
          </p:grpSpPr>
          <p:sp>
            <p:nvSpPr>
              <p:cNvPr id="802" name=""/>
              <p:cNvSpPr/>
              <p:nvPr/>
            </p:nvSpPr>
            <p:spPr>
              <a:xfrm>
                <a:off x="4681440" y="5193000"/>
                <a:ext cx="309240" cy="250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81440" y="5193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 flipV="1">
              <a:off x="7143840" y="5474520"/>
              <a:ext cx="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41760" y="5498280"/>
              <a:ext cx="309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841040" y="6222960"/>
            <a:ext cx="4712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7 arcos - 12 nodos + 1 = 6 region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5200" y="1619640"/>
            <a:ext cx="931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294680" y="1519560"/>
            <a:ext cx="931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" y="3275280"/>
            <a:ext cx="9028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299360" y="3308400"/>
            <a:ext cx="10476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5960" y="5040360"/>
            <a:ext cx="916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43640" y="4894200"/>
            <a:ext cx="1020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0851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ma de reg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0880" y="2209680"/>
            <a:ext cx="2068560" cy="1751040"/>
            <a:chOff x="380880" y="2209680"/>
            <a:chExt cx="2068560" cy="1751040"/>
          </a:xfrm>
        </p:grpSpPr>
        <p:sp>
          <p:nvSpPr>
            <p:cNvPr id="815" name=""/>
            <p:cNvSpPr/>
            <p:nvPr/>
          </p:nvSpPr>
          <p:spPr>
            <a:xfrm>
              <a:off x="380880" y="328608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2127240" y="3639960"/>
              <a:ext cx="322200" cy="316080"/>
              <a:chOff x="2127240" y="3639960"/>
              <a:chExt cx="322200" cy="316080"/>
            </a:xfrm>
          </p:grpSpPr>
          <p:sp>
            <p:nvSpPr>
              <p:cNvPr id="817" name=""/>
              <p:cNvSpPr/>
              <p:nvPr/>
            </p:nvSpPr>
            <p:spPr>
              <a:xfrm>
                <a:off x="2127240" y="363996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127240" y="36399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290600" y="3645000"/>
              <a:ext cx="322200" cy="315720"/>
              <a:chOff x="1290600" y="3645000"/>
              <a:chExt cx="322200" cy="315720"/>
            </a:xfrm>
          </p:grpSpPr>
          <p:sp>
            <p:nvSpPr>
              <p:cNvPr id="820" name=""/>
              <p:cNvSpPr/>
              <p:nvPr/>
            </p:nvSpPr>
            <p:spPr>
              <a:xfrm>
                <a:off x="1290600" y="364500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290600" y="3645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761840" y="360360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20520" y="36036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41240" y="381780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33400" y="38178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2400" y="240048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290600" y="2219400"/>
              <a:ext cx="322200" cy="314280"/>
              <a:chOff x="1290600" y="2219400"/>
              <a:chExt cx="322200" cy="314280"/>
            </a:xfrm>
          </p:grpSpPr>
          <p:sp>
            <p:nvSpPr>
              <p:cNvPr id="828" name=""/>
              <p:cNvSpPr/>
              <p:nvPr/>
            </p:nvSpPr>
            <p:spPr>
              <a:xfrm>
                <a:off x="1290600" y="2219400"/>
                <a:ext cx="322200" cy="314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90600" y="22194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1623960" y="240048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1400" y="2400480"/>
              <a:ext cx="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1400" y="3198960"/>
              <a:ext cx="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88880" y="3198960"/>
              <a:ext cx="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88880" y="2489040"/>
              <a:ext cx="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55440" y="220968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87400" y="220968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7200" y="25765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065320" y="257652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39760" y="328608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527040" y="2222640"/>
              <a:ext cx="322200" cy="315720"/>
              <a:chOff x="527040" y="2222640"/>
              <a:chExt cx="322200" cy="315720"/>
            </a:xfrm>
          </p:grpSpPr>
          <p:sp>
            <p:nvSpPr>
              <p:cNvPr id="841" name=""/>
              <p:cNvSpPr/>
              <p:nvPr/>
            </p:nvSpPr>
            <p:spPr>
              <a:xfrm>
                <a:off x="527040" y="222264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27040" y="2222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2087280" y="2222640"/>
              <a:ext cx="320760" cy="315720"/>
              <a:chOff x="2087280" y="2222640"/>
              <a:chExt cx="320760" cy="315720"/>
            </a:xfrm>
          </p:grpSpPr>
          <p:sp>
            <p:nvSpPr>
              <p:cNvPr id="844" name=""/>
              <p:cNvSpPr/>
              <p:nvPr/>
            </p:nvSpPr>
            <p:spPr>
              <a:xfrm>
                <a:off x="2087280" y="2222640"/>
                <a:ext cx="32076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087280" y="222264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527040" y="3645000"/>
              <a:ext cx="322200" cy="315720"/>
              <a:chOff x="527040" y="3645000"/>
              <a:chExt cx="322200" cy="315720"/>
            </a:xfrm>
          </p:grpSpPr>
          <p:sp>
            <p:nvSpPr>
              <p:cNvPr id="847" name=""/>
              <p:cNvSpPr/>
              <p:nvPr/>
            </p:nvSpPr>
            <p:spPr>
              <a:xfrm>
                <a:off x="527040" y="364500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7040" y="3645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2127240" y="2932200"/>
              <a:ext cx="322200" cy="315720"/>
              <a:chOff x="2127240" y="2932200"/>
              <a:chExt cx="322200" cy="315720"/>
            </a:xfrm>
          </p:grpSpPr>
          <p:sp>
            <p:nvSpPr>
              <p:cNvPr id="850" name=""/>
              <p:cNvSpPr/>
              <p:nvPr/>
            </p:nvSpPr>
            <p:spPr>
              <a:xfrm>
                <a:off x="2127240" y="29322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127240" y="29322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527040" y="2932200"/>
              <a:ext cx="322200" cy="315720"/>
              <a:chOff x="527040" y="2932200"/>
              <a:chExt cx="322200" cy="315720"/>
            </a:xfrm>
          </p:grpSpPr>
          <p:sp>
            <p:nvSpPr>
              <p:cNvPr id="853" name=""/>
              <p:cNvSpPr/>
              <p:nvPr/>
            </p:nvSpPr>
            <p:spPr>
              <a:xfrm>
                <a:off x="527040" y="293220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7040" y="29322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2818800" y="2133720"/>
            <a:ext cx="3351960" cy="1751040"/>
            <a:chOff x="2818800" y="2133720"/>
            <a:chExt cx="3351960" cy="1751040"/>
          </a:xfrm>
        </p:grpSpPr>
        <p:sp>
          <p:nvSpPr>
            <p:cNvPr id="856" name=""/>
            <p:cNvSpPr/>
            <p:nvPr/>
          </p:nvSpPr>
          <p:spPr>
            <a:xfrm>
              <a:off x="3370680" y="250056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3440520" y="2133720"/>
              <a:ext cx="2730240" cy="1751040"/>
              <a:chOff x="3440520" y="2133720"/>
              <a:chExt cx="2730240" cy="1751040"/>
            </a:xfrm>
          </p:grpSpPr>
          <p:grpSp>
            <p:nvGrpSpPr>
              <p:cNvPr id="858" name=""/>
              <p:cNvGrpSpPr/>
              <p:nvPr/>
            </p:nvGrpSpPr>
            <p:grpSpPr>
              <a:xfrm>
                <a:off x="5040720" y="3564000"/>
                <a:ext cx="322200" cy="316080"/>
                <a:chOff x="5040720" y="3564000"/>
                <a:chExt cx="322200" cy="31608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040720" y="356400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040720" y="35640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4204080" y="3569040"/>
                <a:ext cx="322200" cy="315720"/>
                <a:chOff x="4204080" y="3569040"/>
                <a:chExt cx="322200" cy="31572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4204080" y="3569040"/>
                  <a:ext cx="322200" cy="31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204080" y="35690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"/>
              <p:cNvSpPr/>
              <p:nvPr/>
            </p:nvSpPr>
            <p:spPr>
              <a:xfrm>
                <a:off x="4675320" y="3527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834000" y="3527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554720" y="374184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46880" y="3741840"/>
                <a:ext cx="4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65880" y="2324520"/>
                <a:ext cx="56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4204080" y="2143440"/>
                <a:ext cx="322200" cy="314280"/>
                <a:chOff x="4204080" y="2143440"/>
                <a:chExt cx="322200" cy="31428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4204080" y="2143440"/>
                  <a:ext cx="322200" cy="314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204080" y="21434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2" name=""/>
              <p:cNvSpPr/>
              <p:nvPr/>
            </p:nvSpPr>
            <p:spPr>
              <a:xfrm>
                <a:off x="4537440" y="2324520"/>
                <a:ext cx="4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283360" y="232452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584880" y="2324520"/>
                <a:ext cx="0" cy="53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584880" y="3123000"/>
                <a:ext cx="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64360" y="3741840"/>
                <a:ext cx="4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868920" y="213372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77040" y="213372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700880" y="213372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810400" y="2500560"/>
                <a:ext cx="239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451840" y="3527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29400" y="321012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3" name=""/>
              <p:cNvGrpSpPr/>
              <p:nvPr/>
            </p:nvGrpSpPr>
            <p:grpSpPr>
              <a:xfrm>
                <a:off x="3440520" y="2146680"/>
                <a:ext cx="322200" cy="315720"/>
                <a:chOff x="3440520" y="2146680"/>
                <a:chExt cx="322200" cy="3157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440520" y="2146680"/>
                  <a:ext cx="322200" cy="31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440520" y="21466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5000760" y="2146680"/>
                <a:ext cx="320760" cy="315720"/>
                <a:chOff x="5000760" y="2146680"/>
                <a:chExt cx="320760" cy="3157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5000760" y="2146680"/>
                  <a:ext cx="3207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000760" y="2146680"/>
                  <a:ext cx="320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848560" y="2146680"/>
                <a:ext cx="322200" cy="315720"/>
                <a:chOff x="5848560" y="2146680"/>
                <a:chExt cx="322200" cy="3157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848560" y="214668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848560" y="21466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848560" y="3564000"/>
                <a:ext cx="322200" cy="316080"/>
                <a:chOff x="5848560" y="3564000"/>
                <a:chExt cx="322200" cy="31608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848560" y="356400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848560" y="35640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3440520" y="3569040"/>
                <a:ext cx="322200" cy="315720"/>
                <a:chOff x="3440520" y="3569040"/>
                <a:chExt cx="322200" cy="3157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3440520" y="3569040"/>
                  <a:ext cx="322200" cy="31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440520" y="35690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5848560" y="2856240"/>
                <a:ext cx="322200" cy="315720"/>
                <a:chOff x="5848560" y="2856240"/>
                <a:chExt cx="322200" cy="3157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5848560" y="285624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848560" y="28562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3440520" y="2856240"/>
                <a:ext cx="322200" cy="315720"/>
                <a:chOff x="3440520" y="2856240"/>
                <a:chExt cx="322200" cy="3157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440520" y="2856240"/>
                  <a:ext cx="322200" cy="31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40520" y="28562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4" name=""/>
              <p:cNvSpPr/>
              <p:nvPr/>
            </p:nvSpPr>
            <p:spPr>
              <a:xfrm flipV="1">
                <a:off x="6010560" y="3209760"/>
                <a:ext cx="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6010560" y="250056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3276720" y="320076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818800" y="28184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6475680" y="2057400"/>
            <a:ext cx="1650600" cy="1746360"/>
            <a:chOff x="6475680" y="2057400"/>
            <a:chExt cx="1650600" cy="1746360"/>
          </a:xfrm>
        </p:grpSpPr>
        <p:sp>
          <p:nvSpPr>
            <p:cNvPr id="909" name=""/>
            <p:cNvSpPr/>
            <p:nvPr/>
          </p:nvSpPr>
          <p:spPr>
            <a:xfrm>
              <a:off x="6475680" y="274212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6908760" y="2057400"/>
              <a:ext cx="1217520" cy="1746360"/>
              <a:chOff x="6908760" y="2057400"/>
              <a:chExt cx="1217520" cy="174636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6996240" y="3487680"/>
                <a:ext cx="322200" cy="316080"/>
                <a:chOff x="6996240" y="3487680"/>
                <a:chExt cx="322200" cy="3160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6996240" y="348768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996240" y="34876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7238880" y="224820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157880" y="3046680"/>
                <a:ext cx="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157880" y="2336760"/>
                <a:ext cx="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19880" y="3665520"/>
                <a:ext cx="4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432560" y="205740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934320" y="2424240"/>
                <a:ext cx="239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65920" y="2424240"/>
                <a:ext cx="239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407360" y="34513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908760" y="313380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84920" y="313380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956280" y="2070360"/>
                <a:ext cx="320760" cy="315720"/>
                <a:chOff x="6956280" y="2070360"/>
                <a:chExt cx="320760" cy="3157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956280" y="2070360"/>
                  <a:ext cx="3207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956280" y="2070360"/>
                  <a:ext cx="320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7804080" y="2070360"/>
                <a:ext cx="322200" cy="315720"/>
                <a:chOff x="7804080" y="2070360"/>
                <a:chExt cx="322200" cy="31572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7804080" y="207036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804080" y="20703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7804080" y="3487680"/>
                <a:ext cx="322200" cy="316080"/>
                <a:chOff x="7804080" y="3487680"/>
                <a:chExt cx="322200" cy="31608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7804080" y="348768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804080" y="34876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7804080" y="2779920"/>
                <a:ext cx="322200" cy="315720"/>
                <a:chOff x="7804080" y="2779920"/>
                <a:chExt cx="322200" cy="31572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804080" y="277992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804080" y="277992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6996240" y="2779920"/>
                <a:ext cx="322200" cy="315720"/>
                <a:chOff x="6996240" y="2779920"/>
                <a:chExt cx="322200" cy="31572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6996240" y="277992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996240" y="277992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9" name=""/>
              <p:cNvSpPr/>
              <p:nvPr/>
            </p:nvSpPr>
            <p:spPr>
              <a:xfrm flipV="1">
                <a:off x="7966080" y="3133440"/>
                <a:ext cx="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7966080" y="242424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51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ma de reg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57200" y="2438280"/>
            <a:ext cx="1231920" cy="1751040"/>
            <a:chOff x="457200" y="2438280"/>
            <a:chExt cx="1231920" cy="1751040"/>
          </a:xfrm>
        </p:grpSpPr>
        <p:grpSp>
          <p:nvGrpSpPr>
            <p:cNvPr id="943" name=""/>
            <p:cNvGrpSpPr/>
            <p:nvPr/>
          </p:nvGrpSpPr>
          <p:grpSpPr>
            <a:xfrm>
              <a:off x="1366920" y="3873240"/>
              <a:ext cx="322200" cy="316080"/>
              <a:chOff x="1366920" y="3873240"/>
              <a:chExt cx="322200" cy="316080"/>
            </a:xfrm>
          </p:grpSpPr>
          <p:sp>
            <p:nvSpPr>
              <p:cNvPr id="944" name=""/>
              <p:cNvSpPr/>
              <p:nvPr/>
            </p:nvSpPr>
            <p:spPr>
              <a:xfrm>
                <a:off x="1366920" y="387324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366920" y="3873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996840" y="38322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09720" y="40464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284120" y="351468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8720" y="262872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1366920" y="2447640"/>
              <a:ext cx="322200" cy="314640"/>
              <a:chOff x="1366920" y="2447640"/>
              <a:chExt cx="322200" cy="314640"/>
            </a:xfrm>
          </p:grpSpPr>
          <p:sp>
            <p:nvSpPr>
              <p:cNvPr id="951" name=""/>
              <p:cNvSpPr/>
              <p:nvPr/>
            </p:nvSpPr>
            <p:spPr>
              <a:xfrm>
                <a:off x="1366920" y="2447640"/>
                <a:ext cx="322200" cy="314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366920" y="2447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747720" y="2628720"/>
              <a:ext cx="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7720" y="3427200"/>
              <a:ext cx="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31760" y="243828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352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365120" y="280512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603360" y="2450880"/>
              <a:ext cx="322200" cy="316080"/>
              <a:chOff x="603360" y="2450880"/>
              <a:chExt cx="322200" cy="316080"/>
            </a:xfrm>
          </p:grpSpPr>
          <p:sp>
            <p:nvSpPr>
              <p:cNvPr id="959" name=""/>
              <p:cNvSpPr/>
              <p:nvPr/>
            </p:nvSpPr>
            <p:spPr>
              <a:xfrm>
                <a:off x="603360" y="2450880"/>
                <a:ext cx="32220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03360" y="24508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603360" y="3873240"/>
              <a:ext cx="322200" cy="316080"/>
              <a:chOff x="603360" y="3873240"/>
              <a:chExt cx="322200" cy="316080"/>
            </a:xfrm>
          </p:grpSpPr>
          <p:sp>
            <p:nvSpPr>
              <p:cNvPr id="962" name=""/>
              <p:cNvSpPr/>
              <p:nvPr/>
            </p:nvSpPr>
            <p:spPr>
              <a:xfrm>
                <a:off x="603360" y="3873240"/>
                <a:ext cx="32220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03360" y="3873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1366920" y="3160440"/>
              <a:ext cx="322200" cy="316080"/>
              <a:chOff x="1366920" y="3160440"/>
              <a:chExt cx="322200" cy="316080"/>
            </a:xfrm>
          </p:grpSpPr>
          <p:sp>
            <p:nvSpPr>
              <p:cNvPr id="965" name=""/>
              <p:cNvSpPr/>
              <p:nvPr/>
            </p:nvSpPr>
            <p:spPr>
              <a:xfrm>
                <a:off x="1366920" y="316044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366920" y="31604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603360" y="3160440"/>
              <a:ext cx="322200" cy="316080"/>
              <a:chOff x="603360" y="3160440"/>
              <a:chExt cx="322200" cy="316080"/>
            </a:xfrm>
          </p:grpSpPr>
          <p:sp>
            <p:nvSpPr>
              <p:cNvPr id="968" name=""/>
              <p:cNvSpPr/>
              <p:nvPr/>
            </p:nvSpPr>
            <p:spPr>
              <a:xfrm>
                <a:off x="603360" y="3160440"/>
                <a:ext cx="32220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03360" y="31604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 flipV="1">
              <a:off x="1557360" y="280476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1557360" y="35143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7200" y="354492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133000" y="2362320"/>
            <a:ext cx="3562560" cy="1751040"/>
            <a:chOff x="2133000" y="2362320"/>
            <a:chExt cx="3562560" cy="1751040"/>
          </a:xfrm>
        </p:grpSpPr>
        <p:grpSp>
          <p:nvGrpSpPr>
            <p:cNvPr id="974" name=""/>
            <p:cNvGrpSpPr/>
            <p:nvPr/>
          </p:nvGrpSpPr>
          <p:grpSpPr>
            <a:xfrm>
              <a:off x="4565520" y="3792600"/>
              <a:ext cx="321840" cy="316080"/>
              <a:chOff x="4565520" y="3792600"/>
              <a:chExt cx="321840" cy="316080"/>
            </a:xfrm>
          </p:grpSpPr>
          <p:sp>
            <p:nvSpPr>
              <p:cNvPr id="975" name=""/>
              <p:cNvSpPr/>
              <p:nvPr/>
            </p:nvSpPr>
            <p:spPr>
              <a:xfrm>
                <a:off x="4565520" y="3792600"/>
                <a:ext cx="32184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565520" y="379260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3728880" y="3797280"/>
              <a:ext cx="321840" cy="316080"/>
              <a:chOff x="3728880" y="3797280"/>
              <a:chExt cx="321840" cy="316080"/>
            </a:xfrm>
          </p:grpSpPr>
          <p:sp>
            <p:nvSpPr>
              <p:cNvPr id="978" name=""/>
              <p:cNvSpPr/>
              <p:nvPr/>
            </p:nvSpPr>
            <p:spPr>
              <a:xfrm>
                <a:off x="3728880" y="3797280"/>
                <a:ext cx="32184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728880" y="379728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5373720" y="3792600"/>
              <a:ext cx="321840" cy="316080"/>
              <a:chOff x="5373720" y="3792600"/>
              <a:chExt cx="321840" cy="316080"/>
            </a:xfrm>
          </p:grpSpPr>
          <p:sp>
            <p:nvSpPr>
              <p:cNvPr id="981" name=""/>
              <p:cNvSpPr/>
              <p:nvPr/>
            </p:nvSpPr>
            <p:spPr>
              <a:xfrm>
                <a:off x="5373720" y="3792600"/>
                <a:ext cx="32184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73720" y="379260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2965320" y="3797280"/>
              <a:ext cx="321840" cy="316080"/>
              <a:chOff x="2965320" y="3797280"/>
              <a:chExt cx="321840" cy="316080"/>
            </a:xfrm>
          </p:grpSpPr>
          <p:sp>
            <p:nvSpPr>
              <p:cNvPr id="984" name=""/>
              <p:cNvSpPr/>
              <p:nvPr/>
            </p:nvSpPr>
            <p:spPr>
              <a:xfrm>
                <a:off x="2965320" y="3797280"/>
                <a:ext cx="32184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965320" y="379728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2819160" y="2362320"/>
              <a:ext cx="2876040" cy="1638720"/>
              <a:chOff x="2819160" y="2362320"/>
              <a:chExt cx="2876040" cy="1638720"/>
            </a:xfrm>
          </p:grpSpPr>
          <p:sp>
            <p:nvSpPr>
              <p:cNvPr id="987" name=""/>
              <p:cNvSpPr/>
              <p:nvPr/>
            </p:nvSpPr>
            <p:spPr>
              <a:xfrm flipH="1">
                <a:off x="4889160" y="3262320"/>
                <a:ext cx="56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970160" y="3063960"/>
                <a:ext cx="320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0012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35880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079520" y="397044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271320" y="397044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190320" y="2552760"/>
                <a:ext cx="56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3728520" y="2371680"/>
                <a:ext cx="321840" cy="314640"/>
                <a:chOff x="3728520" y="2371680"/>
                <a:chExt cx="321840" cy="3146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728520" y="2371680"/>
                  <a:ext cx="321840" cy="3146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728520" y="23716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7" name=""/>
              <p:cNvSpPr/>
              <p:nvPr/>
            </p:nvSpPr>
            <p:spPr>
              <a:xfrm>
                <a:off x="4061880" y="2552760"/>
                <a:ext cx="4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109320" y="2552760"/>
                <a:ext cx="0" cy="53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109320" y="3351240"/>
                <a:ext cx="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27160" y="2641680"/>
                <a:ext cx="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889160" y="3970440"/>
                <a:ext cx="48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393720" y="2362320"/>
                <a:ext cx="240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225320" y="236232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95120" y="2729160"/>
                <a:ext cx="240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503240" y="2729160"/>
                <a:ext cx="239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28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254200" y="3438720"/>
                <a:ext cx="320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2964960" y="2374920"/>
                <a:ext cx="321840" cy="316080"/>
                <a:chOff x="2964960" y="2374920"/>
                <a:chExt cx="321840" cy="31608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2964960" y="2374920"/>
                  <a:ext cx="32184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2964960" y="237492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4525560" y="2374920"/>
                <a:ext cx="320400" cy="316080"/>
                <a:chOff x="4525560" y="2374920"/>
                <a:chExt cx="320400" cy="31608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4525560" y="2374920"/>
                  <a:ext cx="3204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525560" y="2374920"/>
                  <a:ext cx="320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5373360" y="3084480"/>
                <a:ext cx="321840" cy="316080"/>
                <a:chOff x="5373360" y="3084480"/>
                <a:chExt cx="321840" cy="31608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5373360" y="308448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37336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4565160" y="3084480"/>
                <a:ext cx="321840" cy="316080"/>
                <a:chOff x="4565160" y="3084480"/>
                <a:chExt cx="321840" cy="31608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4565160" y="308448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56516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2964960" y="3084480"/>
                <a:ext cx="321840" cy="316080"/>
                <a:chOff x="2964960" y="3084480"/>
                <a:chExt cx="321840" cy="31608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2964960" y="3084480"/>
                  <a:ext cx="32184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296496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"/>
              <p:cNvSpPr/>
              <p:nvPr/>
            </p:nvSpPr>
            <p:spPr>
              <a:xfrm flipV="1">
                <a:off x="5535000" y="343836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19160" y="34689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2133000" y="30470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942160" y="2362320"/>
            <a:ext cx="2482200" cy="1751040"/>
            <a:chOff x="5942160" y="2362320"/>
            <a:chExt cx="2482200" cy="1751040"/>
          </a:xfrm>
        </p:grpSpPr>
        <p:sp>
          <p:nvSpPr>
            <p:cNvPr id="1027" name=""/>
            <p:cNvSpPr/>
            <p:nvPr/>
          </p:nvSpPr>
          <p:spPr>
            <a:xfrm>
              <a:off x="6400800" y="274320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942160" y="2362320"/>
              <a:ext cx="2482200" cy="1751040"/>
              <a:chOff x="5942160" y="2362320"/>
              <a:chExt cx="2482200" cy="1751040"/>
            </a:xfrm>
          </p:grpSpPr>
          <p:sp>
            <p:nvSpPr>
              <p:cNvPr id="1029" name=""/>
              <p:cNvSpPr/>
              <p:nvPr/>
            </p:nvSpPr>
            <p:spPr>
              <a:xfrm flipH="1">
                <a:off x="7617600" y="3262320"/>
                <a:ext cx="56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98960" y="3063960"/>
                <a:ext cx="320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7294320" y="3792600"/>
                <a:ext cx="321840" cy="316080"/>
                <a:chOff x="7294320" y="3792600"/>
                <a:chExt cx="321840" cy="31608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7294320" y="379260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294320" y="379260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6457680" y="3797280"/>
                <a:ext cx="321840" cy="316080"/>
                <a:chOff x="6457680" y="3797280"/>
                <a:chExt cx="321840" cy="31608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6457680" y="379728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457680" y="37972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7" name=""/>
              <p:cNvSpPr/>
              <p:nvPr/>
            </p:nvSpPr>
            <p:spPr>
              <a:xfrm>
                <a:off x="692928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808680" y="397044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375240" y="343872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6457680" y="2371680"/>
                <a:ext cx="321840" cy="314640"/>
                <a:chOff x="6457680" y="2371680"/>
                <a:chExt cx="321840" cy="3146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457680" y="2371680"/>
                  <a:ext cx="321840" cy="3146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457680" y="23716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6791040" y="255276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456320" y="2641680"/>
                <a:ext cx="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617960" y="3970440"/>
                <a:ext cx="48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54480" y="2362320"/>
                <a:ext cx="240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232400" y="2729160"/>
                <a:ext cx="239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70544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983360" y="3438720"/>
                <a:ext cx="320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0" name=""/>
              <p:cNvGrpSpPr/>
              <p:nvPr/>
            </p:nvGrpSpPr>
            <p:grpSpPr>
              <a:xfrm>
                <a:off x="7254720" y="2374920"/>
                <a:ext cx="320040" cy="316080"/>
                <a:chOff x="7254720" y="2374920"/>
                <a:chExt cx="320040" cy="3160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7254720" y="2374920"/>
                  <a:ext cx="3200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254720" y="2374920"/>
                  <a:ext cx="320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8102160" y="3792600"/>
                <a:ext cx="322200" cy="316080"/>
                <a:chOff x="8102160" y="3792600"/>
                <a:chExt cx="322200" cy="3160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8102160" y="379260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102160" y="37926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8102160" y="3084480"/>
                <a:ext cx="322200" cy="316080"/>
                <a:chOff x="8102160" y="3084480"/>
                <a:chExt cx="322200" cy="31608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8102160" y="308448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8102160" y="30844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7294320" y="3084480"/>
                <a:ext cx="321840" cy="316080"/>
                <a:chOff x="7294320" y="3084480"/>
                <a:chExt cx="321840" cy="31608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7294320" y="308448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29432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6457680" y="3084480"/>
                <a:ext cx="321840" cy="316080"/>
                <a:chOff x="6457680" y="3084480"/>
                <a:chExt cx="321840" cy="31608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457680" y="3084480"/>
                  <a:ext cx="321840" cy="31608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45768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 flipV="1">
                <a:off x="6648120" y="2728800"/>
                <a:ext cx="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6648120" y="343836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8264160" y="343836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942160" y="3047040"/>
                <a:ext cx="357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0848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ma de reg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4920" y="3048120"/>
            <a:ext cx="1992240" cy="1038240"/>
            <a:chOff x="304920" y="3048120"/>
            <a:chExt cx="1992240" cy="1038240"/>
          </a:xfrm>
        </p:grpSpPr>
        <p:sp>
          <p:nvSpPr>
            <p:cNvPr id="1071" name=""/>
            <p:cNvSpPr/>
            <p:nvPr/>
          </p:nvSpPr>
          <p:spPr>
            <a:xfrm>
              <a:off x="1650960" y="374976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0120" y="3238560"/>
              <a:ext cx="566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1138320" y="3057480"/>
              <a:ext cx="322200" cy="314280"/>
              <a:chOff x="1138320" y="3057480"/>
              <a:chExt cx="322200" cy="314280"/>
            </a:xfrm>
          </p:grpSpPr>
          <p:sp>
            <p:nvSpPr>
              <p:cNvPr id="1074" name=""/>
              <p:cNvSpPr/>
              <p:nvPr/>
            </p:nvSpPr>
            <p:spPr>
              <a:xfrm>
                <a:off x="1138320" y="3057480"/>
                <a:ext cx="322200" cy="314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138320" y="30574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1471680" y="3238560"/>
              <a:ext cx="485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9120" y="3238560"/>
              <a:ext cx="144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36600" y="3327480"/>
              <a:ext cx="180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03160" y="304812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635120" y="3048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04920" y="341460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58960" y="374976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913040" y="341460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0760" y="3948120"/>
              <a:ext cx="485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1488600" y="3948120"/>
              <a:ext cx="567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374760" y="3060720"/>
              <a:ext cx="322200" cy="315720"/>
              <a:chOff x="374760" y="3060720"/>
              <a:chExt cx="322200" cy="315720"/>
            </a:xfrm>
          </p:grpSpPr>
          <p:sp>
            <p:nvSpPr>
              <p:cNvPr id="1087" name=""/>
              <p:cNvSpPr/>
              <p:nvPr/>
            </p:nvSpPr>
            <p:spPr>
              <a:xfrm>
                <a:off x="374760" y="306072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74760" y="30607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1935000" y="3060720"/>
              <a:ext cx="320760" cy="315720"/>
              <a:chOff x="1935000" y="3060720"/>
              <a:chExt cx="320760" cy="315720"/>
            </a:xfrm>
          </p:grpSpPr>
          <p:sp>
            <p:nvSpPr>
              <p:cNvPr id="1090" name=""/>
              <p:cNvSpPr/>
              <p:nvPr/>
            </p:nvSpPr>
            <p:spPr>
              <a:xfrm>
                <a:off x="1935000" y="3060720"/>
                <a:ext cx="32076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935000" y="306072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1974960" y="3770280"/>
              <a:ext cx="322200" cy="316080"/>
              <a:chOff x="1974960" y="3770280"/>
              <a:chExt cx="322200" cy="316080"/>
            </a:xfrm>
          </p:grpSpPr>
          <p:sp>
            <p:nvSpPr>
              <p:cNvPr id="1093" name=""/>
              <p:cNvSpPr/>
              <p:nvPr/>
            </p:nvSpPr>
            <p:spPr>
              <a:xfrm>
                <a:off x="1974960" y="3770280"/>
                <a:ext cx="32220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74960" y="37702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1138320" y="3770280"/>
              <a:ext cx="322200" cy="316080"/>
              <a:chOff x="1138320" y="3770280"/>
              <a:chExt cx="322200" cy="316080"/>
            </a:xfrm>
          </p:grpSpPr>
          <p:sp>
            <p:nvSpPr>
              <p:cNvPr id="1096" name=""/>
              <p:cNvSpPr/>
              <p:nvPr/>
            </p:nvSpPr>
            <p:spPr>
              <a:xfrm>
                <a:off x="1138320" y="377028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138320" y="37702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374760" y="3770280"/>
              <a:ext cx="322200" cy="316080"/>
              <a:chOff x="374760" y="3770280"/>
              <a:chExt cx="322200" cy="316080"/>
            </a:xfrm>
          </p:grpSpPr>
          <p:sp>
            <p:nvSpPr>
              <p:cNvPr id="1099" name=""/>
              <p:cNvSpPr/>
              <p:nvPr/>
            </p:nvSpPr>
            <p:spPr>
              <a:xfrm>
                <a:off x="374760" y="377028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4760" y="37702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1" name=""/>
          <p:cNvGrpSpPr/>
          <p:nvPr/>
        </p:nvGrpSpPr>
        <p:grpSpPr>
          <a:xfrm>
            <a:off x="2437560" y="2971800"/>
            <a:ext cx="2678760" cy="1751040"/>
            <a:chOff x="2437560" y="2971800"/>
            <a:chExt cx="2678760" cy="1751040"/>
          </a:xfrm>
        </p:grpSpPr>
        <p:grpSp>
          <p:nvGrpSpPr>
            <p:cNvPr id="1102" name=""/>
            <p:cNvGrpSpPr/>
            <p:nvPr/>
          </p:nvGrpSpPr>
          <p:grpSpPr>
            <a:xfrm>
              <a:off x="3028680" y="2971800"/>
              <a:ext cx="2087640" cy="1751040"/>
              <a:chOff x="3028680" y="2971800"/>
              <a:chExt cx="2087640" cy="1751040"/>
            </a:xfrm>
          </p:grpSpPr>
          <p:grpSp>
            <p:nvGrpSpPr>
              <p:cNvPr id="1103" name=""/>
              <p:cNvGrpSpPr/>
              <p:nvPr/>
            </p:nvGrpSpPr>
            <p:grpSpPr>
              <a:xfrm>
                <a:off x="3957480" y="4406760"/>
                <a:ext cx="322200" cy="316080"/>
                <a:chOff x="3957480" y="4406760"/>
                <a:chExt cx="322200" cy="31608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3957480" y="440676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957480" y="44067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"/>
              <p:cNvSpPr/>
              <p:nvPr/>
            </p:nvSpPr>
            <p:spPr>
              <a:xfrm>
                <a:off x="3587760" y="43657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500280" y="4579920"/>
                <a:ext cx="4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470120" y="3673440"/>
                <a:ext cx="241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875040" y="40482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419280" y="3162240"/>
                <a:ext cx="56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1" name=""/>
              <p:cNvGrpSpPr/>
              <p:nvPr/>
            </p:nvGrpSpPr>
            <p:grpSpPr>
              <a:xfrm>
                <a:off x="3957480" y="2981160"/>
                <a:ext cx="322200" cy="314640"/>
                <a:chOff x="3957480" y="2981160"/>
                <a:chExt cx="322200" cy="31464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3957480" y="2981160"/>
                  <a:ext cx="322200" cy="314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957480" y="29811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4" name=""/>
              <p:cNvSpPr/>
              <p:nvPr/>
            </p:nvSpPr>
            <p:spPr>
              <a:xfrm>
                <a:off x="4290840" y="316224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338280" y="3162240"/>
                <a:ext cx="0" cy="53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338280" y="3960720"/>
                <a:ext cx="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956120" y="3251160"/>
                <a:ext cx="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622680" y="297180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54280" y="2971800"/>
                <a:ext cx="241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124080" y="333864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32200" y="3338640"/>
                <a:ext cx="239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4308480" y="3871800"/>
                <a:ext cx="56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3" name=""/>
              <p:cNvGrpSpPr/>
              <p:nvPr/>
            </p:nvGrpSpPr>
            <p:grpSpPr>
              <a:xfrm>
                <a:off x="3193920" y="2984400"/>
                <a:ext cx="322200" cy="316080"/>
                <a:chOff x="3193920" y="2984400"/>
                <a:chExt cx="322200" cy="31608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3193920" y="2984400"/>
                  <a:ext cx="32220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193920" y="29844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4754520" y="2984400"/>
                <a:ext cx="320760" cy="316080"/>
                <a:chOff x="4754520" y="2984400"/>
                <a:chExt cx="320760" cy="31608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4754520" y="2984400"/>
                  <a:ext cx="32076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754520" y="2984400"/>
                  <a:ext cx="320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3193920" y="4406760"/>
                <a:ext cx="322200" cy="316080"/>
                <a:chOff x="3193920" y="4406760"/>
                <a:chExt cx="322200" cy="31608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3193920" y="440676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193920" y="44067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4794120" y="3693960"/>
                <a:ext cx="322200" cy="316080"/>
                <a:chOff x="4794120" y="3693960"/>
                <a:chExt cx="322200" cy="31608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4794120" y="3693960"/>
                  <a:ext cx="32220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794120" y="36939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3957480" y="3693960"/>
                <a:ext cx="322200" cy="316080"/>
                <a:chOff x="3957480" y="3693960"/>
                <a:chExt cx="322200" cy="31608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3957480" y="369396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957480" y="36939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3193920" y="3693960"/>
                <a:ext cx="322200" cy="316080"/>
                <a:chOff x="3193920" y="3693960"/>
                <a:chExt cx="322200" cy="31608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3193920" y="369396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193920" y="36939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 flipV="1">
                <a:off x="4147920" y="404784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028680" y="4230720"/>
                <a:ext cx="322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2437560" y="342792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5408640" y="3200400"/>
            <a:ext cx="1849320" cy="1049040"/>
            <a:chOff x="5408640" y="3200400"/>
            <a:chExt cx="1849320" cy="1049040"/>
          </a:xfrm>
        </p:grpSpPr>
        <p:grpSp>
          <p:nvGrpSpPr>
            <p:cNvPr id="1145" name=""/>
            <p:cNvGrpSpPr/>
            <p:nvPr/>
          </p:nvGrpSpPr>
          <p:grpSpPr>
            <a:xfrm>
              <a:off x="6171840" y="3200400"/>
              <a:ext cx="1086120" cy="1049040"/>
              <a:chOff x="6171840" y="3200400"/>
              <a:chExt cx="1086120" cy="1049040"/>
            </a:xfrm>
          </p:grpSpPr>
          <p:grpSp>
            <p:nvGrpSpPr>
              <p:cNvPr id="1146" name=""/>
              <p:cNvGrpSpPr/>
              <p:nvPr/>
            </p:nvGrpSpPr>
            <p:grpSpPr>
              <a:xfrm>
                <a:off x="6935400" y="3933720"/>
                <a:ext cx="322560" cy="315720"/>
                <a:chOff x="6935400" y="3933720"/>
                <a:chExt cx="322560" cy="31572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6935400" y="3933720"/>
                  <a:ext cx="3225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935400" y="393372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9" name=""/>
              <p:cNvSpPr/>
              <p:nvPr/>
            </p:nvSpPr>
            <p:spPr>
              <a:xfrm>
                <a:off x="6565680" y="38923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478200" y="410688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52960" y="3574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316560" y="3487680"/>
                <a:ext cx="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656040" y="3200400"/>
                <a:ext cx="241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6478200" y="339876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6171840" y="3933720"/>
                <a:ext cx="322560" cy="315720"/>
                <a:chOff x="6171840" y="3933720"/>
                <a:chExt cx="322560" cy="3157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171840" y="3933720"/>
                  <a:ext cx="3225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171840" y="393372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935400" y="3220920"/>
                <a:ext cx="322560" cy="316080"/>
                <a:chOff x="6935400" y="3220920"/>
                <a:chExt cx="322560" cy="31608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935400" y="3220920"/>
                  <a:ext cx="32256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935400" y="322092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6171840" y="3220920"/>
                <a:ext cx="322560" cy="316080"/>
                <a:chOff x="6171840" y="3220920"/>
                <a:chExt cx="322560" cy="31608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6171840" y="3220920"/>
                  <a:ext cx="32256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6171840" y="322092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4" name=""/>
              <p:cNvSpPr/>
              <p:nvPr/>
            </p:nvSpPr>
            <p:spPr>
              <a:xfrm flipV="1">
                <a:off x="7126200" y="3574800"/>
                <a:ext cx="0" cy="3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6246720" y="375732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08640" y="341172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uentra un flujo fac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uentra una base de reg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erativamente equilibra las regiones bá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 detiene si todas las regiones básicas están equilibr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terísticas de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80240" cy="14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3920" indent="-31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ficiente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s regiones básicas no se modifican durante la it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rrecto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ma de regiones no es estable bajo equilib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000" y="686880"/>
            <a:ext cx="7770600" cy="12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UT problema básico: equilibrio de Wardro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oblema de optimización equivalente: Beckmann y 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lgoritm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lobales: Gradiente, Newt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ariables: flujo total en arcos, flujo en rutas, flujo por origen y por arcos, partición en no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. fuerte se preserva al su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442800" y="2438280"/>
            <a:ext cx="1231920" cy="1751040"/>
            <a:chOff x="442800" y="2438280"/>
            <a:chExt cx="1231920" cy="1751040"/>
          </a:xfrm>
        </p:grpSpPr>
        <p:grpSp>
          <p:nvGrpSpPr>
            <p:cNvPr id="1173" name=""/>
            <p:cNvGrpSpPr/>
            <p:nvPr/>
          </p:nvGrpSpPr>
          <p:grpSpPr>
            <a:xfrm>
              <a:off x="1352520" y="3873600"/>
              <a:ext cx="322200" cy="315720"/>
              <a:chOff x="1352520" y="3873600"/>
              <a:chExt cx="322200" cy="315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1352520" y="38736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35252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982800" y="3832200"/>
              <a:ext cx="323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95320" y="40464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270080" y="351468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4320" y="262908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1352520" y="2448000"/>
              <a:ext cx="322200" cy="315360"/>
              <a:chOff x="1352520" y="2448000"/>
              <a:chExt cx="322200" cy="315360"/>
            </a:xfrm>
          </p:grpSpPr>
          <p:sp>
            <p:nvSpPr>
              <p:cNvPr id="1181" name=""/>
              <p:cNvSpPr/>
              <p:nvPr/>
            </p:nvSpPr>
            <p:spPr>
              <a:xfrm>
                <a:off x="1352520" y="2448000"/>
                <a:ext cx="322200" cy="31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352520" y="2448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733320" y="2629080"/>
              <a:ext cx="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3320" y="3427560"/>
              <a:ext cx="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017720" y="2438280"/>
              <a:ext cx="242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912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35108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588960" y="2451240"/>
              <a:ext cx="322200" cy="315720"/>
              <a:chOff x="588960" y="2451240"/>
              <a:chExt cx="322200" cy="315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588960" y="245124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8960" y="2451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588960" y="3873600"/>
              <a:ext cx="322200" cy="315720"/>
              <a:chOff x="588960" y="3873600"/>
              <a:chExt cx="322200" cy="315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588960" y="38736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896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1352520" y="3160800"/>
              <a:ext cx="322200" cy="315720"/>
              <a:chOff x="1352520" y="3160800"/>
              <a:chExt cx="322200" cy="315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1352520" y="31608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35252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588960" y="3160800"/>
              <a:ext cx="322200" cy="315720"/>
              <a:chOff x="588960" y="3160800"/>
              <a:chExt cx="322200" cy="315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588960" y="31608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896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 flipV="1">
              <a:off x="1542960" y="28051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1542960" y="35143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2800" y="354492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808600" y="2438280"/>
            <a:ext cx="2876760" cy="1751040"/>
            <a:chOff x="5808600" y="2438280"/>
            <a:chExt cx="2876760" cy="1751040"/>
          </a:xfrm>
        </p:grpSpPr>
        <p:grpSp>
          <p:nvGrpSpPr>
            <p:cNvPr id="1204" name=""/>
            <p:cNvGrpSpPr/>
            <p:nvPr/>
          </p:nvGrpSpPr>
          <p:grpSpPr>
            <a:xfrm>
              <a:off x="7554960" y="3868560"/>
              <a:ext cx="322200" cy="316080"/>
              <a:chOff x="7554960" y="3868560"/>
              <a:chExt cx="322200" cy="316080"/>
            </a:xfrm>
          </p:grpSpPr>
          <p:sp>
            <p:nvSpPr>
              <p:cNvPr id="1205" name=""/>
              <p:cNvSpPr/>
              <p:nvPr/>
            </p:nvSpPr>
            <p:spPr>
              <a:xfrm>
                <a:off x="7554960" y="386856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54960" y="38685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6718320" y="3873600"/>
              <a:ext cx="322200" cy="315720"/>
              <a:chOff x="6718320" y="3873600"/>
              <a:chExt cx="322200" cy="315720"/>
            </a:xfrm>
          </p:grpSpPr>
          <p:sp>
            <p:nvSpPr>
              <p:cNvPr id="1208" name=""/>
              <p:cNvSpPr/>
              <p:nvPr/>
            </p:nvSpPr>
            <p:spPr>
              <a:xfrm>
                <a:off x="6718320" y="38736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71832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8362800" y="3868560"/>
              <a:ext cx="322560" cy="316080"/>
              <a:chOff x="8362800" y="3868560"/>
              <a:chExt cx="322560" cy="316080"/>
            </a:xfrm>
          </p:grpSpPr>
          <p:sp>
            <p:nvSpPr>
              <p:cNvPr id="1211" name=""/>
              <p:cNvSpPr/>
              <p:nvPr/>
            </p:nvSpPr>
            <p:spPr>
              <a:xfrm>
                <a:off x="8362800" y="3868560"/>
                <a:ext cx="32256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362800" y="3868560"/>
                <a:ext cx="322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5954760" y="3873600"/>
              <a:ext cx="322200" cy="315720"/>
              <a:chOff x="5954760" y="3873600"/>
              <a:chExt cx="322200" cy="315720"/>
            </a:xfrm>
          </p:grpSpPr>
          <p:sp>
            <p:nvSpPr>
              <p:cNvPr id="1214" name=""/>
              <p:cNvSpPr/>
              <p:nvPr/>
            </p:nvSpPr>
            <p:spPr>
              <a:xfrm>
                <a:off x="5954760" y="38736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95476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 flipH="1">
              <a:off x="7878600" y="333864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959600" y="313992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189920" y="38322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348240" y="383220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068960" y="404640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61120" y="40464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80120" y="262908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6718320" y="2448000"/>
              <a:ext cx="322200" cy="315360"/>
              <a:chOff x="6718320" y="2448000"/>
              <a:chExt cx="322200" cy="315360"/>
            </a:xfrm>
          </p:grpSpPr>
          <p:sp>
            <p:nvSpPr>
              <p:cNvPr id="1224" name=""/>
              <p:cNvSpPr/>
              <p:nvPr/>
            </p:nvSpPr>
            <p:spPr>
              <a:xfrm>
                <a:off x="6718320" y="2448000"/>
                <a:ext cx="322200" cy="31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718320" y="2448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7051680" y="262908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099120" y="2629080"/>
              <a:ext cx="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9120" y="3427560"/>
              <a:ext cx="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16960" y="2717640"/>
              <a:ext cx="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878600" y="404640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383160" y="243828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215120" y="243828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88492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93040" y="280512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966080" y="38322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44000" y="3514680"/>
              <a:ext cx="320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5954760" y="2451240"/>
              <a:ext cx="322200" cy="315720"/>
              <a:chOff x="5954760" y="2451240"/>
              <a:chExt cx="322200" cy="315720"/>
            </a:xfrm>
          </p:grpSpPr>
          <p:sp>
            <p:nvSpPr>
              <p:cNvPr id="1238" name=""/>
              <p:cNvSpPr/>
              <p:nvPr/>
            </p:nvSpPr>
            <p:spPr>
              <a:xfrm>
                <a:off x="5954760" y="245124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954760" y="2451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7515360" y="2451240"/>
              <a:ext cx="320400" cy="315720"/>
              <a:chOff x="7515360" y="2451240"/>
              <a:chExt cx="320400" cy="315720"/>
            </a:xfrm>
          </p:grpSpPr>
          <p:sp>
            <p:nvSpPr>
              <p:cNvPr id="1241" name=""/>
              <p:cNvSpPr/>
              <p:nvPr/>
            </p:nvSpPr>
            <p:spPr>
              <a:xfrm>
                <a:off x="7515360" y="2451240"/>
                <a:ext cx="3204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15360" y="2451240"/>
                <a:ext cx="320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8362800" y="3160800"/>
              <a:ext cx="322560" cy="315720"/>
              <a:chOff x="8362800" y="3160800"/>
              <a:chExt cx="322560" cy="315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8362800" y="3160800"/>
                <a:ext cx="32256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362800" y="3160800"/>
                <a:ext cx="322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7554960" y="3160800"/>
              <a:ext cx="322200" cy="315720"/>
              <a:chOff x="7554960" y="3160800"/>
              <a:chExt cx="322200" cy="315720"/>
            </a:xfrm>
          </p:grpSpPr>
          <p:sp>
            <p:nvSpPr>
              <p:cNvPr id="1247" name=""/>
              <p:cNvSpPr/>
              <p:nvPr/>
            </p:nvSpPr>
            <p:spPr>
              <a:xfrm>
                <a:off x="7554960" y="31608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5496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5954760" y="3160800"/>
              <a:ext cx="322200" cy="315720"/>
              <a:chOff x="5954760" y="3160800"/>
              <a:chExt cx="322200" cy="315720"/>
            </a:xfrm>
          </p:grpSpPr>
          <p:sp>
            <p:nvSpPr>
              <p:cNvPr id="1250" name=""/>
              <p:cNvSpPr/>
              <p:nvPr/>
            </p:nvSpPr>
            <p:spPr>
              <a:xfrm>
                <a:off x="5954760" y="31608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95476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 flipV="1">
              <a:off x="8524800" y="35143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08600" y="354492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513880" y="312300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200400" y="2438280"/>
            <a:ext cx="2049480" cy="1751040"/>
            <a:chOff x="3200400" y="2438280"/>
            <a:chExt cx="2049480" cy="1751040"/>
          </a:xfrm>
        </p:grpSpPr>
        <p:sp>
          <p:nvSpPr>
            <p:cNvPr id="1256" name=""/>
            <p:cNvSpPr/>
            <p:nvPr/>
          </p:nvSpPr>
          <p:spPr>
            <a:xfrm flipH="1">
              <a:off x="4443480" y="333864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24480" y="3139920"/>
              <a:ext cx="320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4119480" y="3868560"/>
              <a:ext cx="322200" cy="316080"/>
              <a:chOff x="4119480" y="3868560"/>
              <a:chExt cx="322200" cy="316080"/>
            </a:xfrm>
          </p:grpSpPr>
          <p:sp>
            <p:nvSpPr>
              <p:cNvPr id="1259" name=""/>
              <p:cNvSpPr/>
              <p:nvPr/>
            </p:nvSpPr>
            <p:spPr>
              <a:xfrm>
                <a:off x="4119480" y="386856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119480" y="38685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3282840" y="3873600"/>
              <a:ext cx="322200" cy="315720"/>
              <a:chOff x="3282840" y="3873600"/>
              <a:chExt cx="322200" cy="315720"/>
            </a:xfrm>
          </p:grpSpPr>
          <p:sp>
            <p:nvSpPr>
              <p:cNvPr id="1262" name=""/>
              <p:cNvSpPr/>
              <p:nvPr/>
            </p:nvSpPr>
            <p:spPr>
              <a:xfrm>
                <a:off x="3282840" y="38736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8284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4" name=""/>
            <p:cNvSpPr/>
            <p:nvPr/>
          </p:nvSpPr>
          <p:spPr>
            <a:xfrm>
              <a:off x="3754440" y="38322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633840" y="40464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200400" y="351468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3282840" y="2448000"/>
              <a:ext cx="322200" cy="315360"/>
              <a:chOff x="3282840" y="2448000"/>
              <a:chExt cx="322200" cy="315360"/>
            </a:xfrm>
          </p:grpSpPr>
          <p:sp>
            <p:nvSpPr>
              <p:cNvPr id="1268" name=""/>
              <p:cNvSpPr/>
              <p:nvPr/>
            </p:nvSpPr>
            <p:spPr>
              <a:xfrm>
                <a:off x="3282840" y="2448000"/>
                <a:ext cx="322200" cy="31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82840" y="2448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0" name=""/>
            <p:cNvSpPr/>
            <p:nvPr/>
          </p:nvSpPr>
          <p:spPr>
            <a:xfrm>
              <a:off x="3616200" y="262908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1480" y="2717640"/>
              <a:ext cx="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443480" y="404640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80000" y="243828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57560" y="280512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530600" y="383220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08520" y="351468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8140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4079880" y="2451240"/>
              <a:ext cx="320760" cy="315720"/>
              <a:chOff x="4079880" y="2451240"/>
              <a:chExt cx="320760" cy="315720"/>
            </a:xfrm>
          </p:grpSpPr>
          <p:sp>
            <p:nvSpPr>
              <p:cNvPr id="1279" name=""/>
              <p:cNvSpPr/>
              <p:nvPr/>
            </p:nvSpPr>
            <p:spPr>
              <a:xfrm>
                <a:off x="4079880" y="2451240"/>
                <a:ext cx="32076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079880" y="245124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4927680" y="3868560"/>
              <a:ext cx="322200" cy="316080"/>
              <a:chOff x="4927680" y="3868560"/>
              <a:chExt cx="322200" cy="316080"/>
            </a:xfrm>
          </p:grpSpPr>
          <p:sp>
            <p:nvSpPr>
              <p:cNvPr id="1282" name=""/>
              <p:cNvSpPr/>
              <p:nvPr/>
            </p:nvSpPr>
            <p:spPr>
              <a:xfrm>
                <a:off x="4927680" y="386856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927680" y="38685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4927680" y="3160800"/>
              <a:ext cx="322200" cy="315720"/>
              <a:chOff x="4927680" y="3160800"/>
              <a:chExt cx="322200" cy="315720"/>
            </a:xfrm>
          </p:grpSpPr>
          <p:sp>
            <p:nvSpPr>
              <p:cNvPr id="1285" name=""/>
              <p:cNvSpPr/>
              <p:nvPr/>
            </p:nvSpPr>
            <p:spPr>
              <a:xfrm>
                <a:off x="4927680" y="31608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92768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4119480" y="3160800"/>
              <a:ext cx="322200" cy="315720"/>
              <a:chOff x="4119480" y="3160800"/>
              <a:chExt cx="322200" cy="315720"/>
            </a:xfrm>
          </p:grpSpPr>
          <p:sp>
            <p:nvSpPr>
              <p:cNvPr id="1288" name=""/>
              <p:cNvSpPr/>
              <p:nvPr/>
            </p:nvSpPr>
            <p:spPr>
              <a:xfrm>
                <a:off x="4119480" y="31608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1948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3282840" y="3160800"/>
              <a:ext cx="322200" cy="315720"/>
              <a:chOff x="3282840" y="3160800"/>
              <a:chExt cx="322200" cy="315720"/>
            </a:xfrm>
          </p:grpSpPr>
          <p:sp>
            <p:nvSpPr>
              <p:cNvPr id="1291" name=""/>
              <p:cNvSpPr/>
              <p:nvPr/>
            </p:nvSpPr>
            <p:spPr>
              <a:xfrm>
                <a:off x="3282840" y="31608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28284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 flipV="1">
              <a:off x="3473280" y="28051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3473280" y="35143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5089680" y="35143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5484960" y="312300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75600" y="463860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b=Caj+C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642840" y="463860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jg=Cjb+C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5562720"/>
            <a:ext cx="62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g=Caj+Cjg=Caj+Cjb+Cbg=Cab+C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. débil no siempre se preser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33480" y="1295280"/>
            <a:ext cx="2114640" cy="1447560"/>
            <a:chOff x="933480" y="1295280"/>
            <a:chExt cx="2114640" cy="1447560"/>
          </a:xfrm>
        </p:grpSpPr>
        <p:sp>
          <p:nvSpPr>
            <p:cNvPr id="1302" name=""/>
            <p:cNvSpPr/>
            <p:nvPr/>
          </p:nvSpPr>
          <p:spPr>
            <a:xfrm>
              <a:off x="1169640" y="26146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107000" y="144468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522080" y="1295280"/>
              <a:ext cx="249840" cy="259200"/>
              <a:chOff x="1522080" y="1295280"/>
              <a:chExt cx="249840" cy="259200"/>
            </a:xfrm>
          </p:grpSpPr>
          <p:sp>
            <p:nvSpPr>
              <p:cNvPr id="1305" name=""/>
              <p:cNvSpPr/>
              <p:nvPr/>
            </p:nvSpPr>
            <p:spPr>
              <a:xfrm>
                <a:off x="1522080" y="1295280"/>
                <a:ext cx="248400" cy="25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522080" y="1295280"/>
                <a:ext cx="249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 flipH="1">
              <a:off x="1044720" y="1483920"/>
              <a:ext cx="57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44720" y="2103480"/>
              <a:ext cx="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933480" y="1297800"/>
              <a:ext cx="249840" cy="260640"/>
              <a:chOff x="933480" y="1297800"/>
              <a:chExt cx="249840" cy="260640"/>
            </a:xfrm>
          </p:grpSpPr>
          <p:sp>
            <p:nvSpPr>
              <p:cNvPr id="1310" name=""/>
              <p:cNvSpPr/>
              <p:nvPr/>
            </p:nvSpPr>
            <p:spPr>
              <a:xfrm>
                <a:off x="933480" y="1297800"/>
                <a:ext cx="248400" cy="260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933480" y="1297800"/>
                <a:ext cx="249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933480" y="2471760"/>
              <a:ext cx="248400" cy="260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22080" y="1883520"/>
              <a:ext cx="248400" cy="260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33480" y="1883520"/>
              <a:ext cx="248400" cy="260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1668960" y="159012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1668960" y="217548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421000" y="2030400"/>
              <a:ext cx="43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71160" y="2467800"/>
              <a:ext cx="248400" cy="260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96400" y="26146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3080" y="1444680"/>
              <a:ext cx="3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96080" y="1518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421000" y="2614680"/>
              <a:ext cx="3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40560" y="1297800"/>
              <a:ext cx="247320" cy="260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794680" y="1883520"/>
              <a:ext cx="248400" cy="260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2171160" y="1883520"/>
              <a:ext cx="248400" cy="260640"/>
              <a:chOff x="2171160" y="1883520"/>
              <a:chExt cx="248400" cy="260640"/>
            </a:xfrm>
          </p:grpSpPr>
          <p:sp>
            <p:nvSpPr>
              <p:cNvPr id="1326" name=""/>
              <p:cNvSpPr/>
              <p:nvPr/>
            </p:nvSpPr>
            <p:spPr>
              <a:xfrm>
                <a:off x="2171160" y="1883520"/>
                <a:ext cx="248400" cy="260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171160" y="1884960"/>
                <a:ext cx="248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>
              <a:off x="1525680" y="1883520"/>
              <a:ext cx="248400" cy="260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2919240" y="217548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142280" y="1857960"/>
              <a:ext cx="3906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758240" y="1871280"/>
              <a:ext cx="3906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1536840" y="2482560"/>
              <a:ext cx="248400" cy="260280"/>
              <a:chOff x="1536840" y="2482560"/>
              <a:chExt cx="248400" cy="260280"/>
            </a:xfrm>
          </p:grpSpPr>
          <p:sp>
            <p:nvSpPr>
              <p:cNvPr id="1333" name=""/>
              <p:cNvSpPr/>
              <p:nvPr/>
            </p:nvSpPr>
            <p:spPr>
              <a:xfrm>
                <a:off x="1536840" y="2482560"/>
                <a:ext cx="248400" cy="260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536840" y="2482560"/>
                <a:ext cx="248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5" name=""/>
            <p:cNvSpPr/>
            <p:nvPr/>
          </p:nvSpPr>
          <p:spPr>
            <a:xfrm>
              <a:off x="2799360" y="2482560"/>
              <a:ext cx="248760" cy="260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4114800" y="1371600"/>
            <a:ext cx="2285640" cy="1023840"/>
            <a:chOff x="4114800" y="1371600"/>
            <a:chExt cx="2285640" cy="1023840"/>
          </a:xfrm>
        </p:grpSpPr>
        <p:grpSp>
          <p:nvGrpSpPr>
            <p:cNvPr id="1337" name=""/>
            <p:cNvGrpSpPr/>
            <p:nvPr/>
          </p:nvGrpSpPr>
          <p:grpSpPr>
            <a:xfrm>
              <a:off x="4114800" y="1670040"/>
              <a:ext cx="282240" cy="247320"/>
              <a:chOff x="4114800" y="1670040"/>
              <a:chExt cx="282240" cy="247320"/>
            </a:xfrm>
          </p:grpSpPr>
          <p:sp>
            <p:nvSpPr>
              <p:cNvPr id="1338" name=""/>
              <p:cNvSpPr/>
              <p:nvPr/>
            </p:nvSpPr>
            <p:spPr>
              <a:xfrm>
                <a:off x="4114800" y="1670040"/>
                <a:ext cx="282240" cy="247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114800" y="1670040"/>
                <a:ext cx="282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5116320" y="1371600"/>
              <a:ext cx="282240" cy="246240"/>
              <a:chOff x="5116320" y="1371600"/>
              <a:chExt cx="282240" cy="246240"/>
            </a:xfrm>
          </p:grpSpPr>
          <p:sp>
            <p:nvSpPr>
              <p:cNvPr id="1341" name=""/>
              <p:cNvSpPr/>
              <p:nvPr/>
            </p:nvSpPr>
            <p:spPr>
              <a:xfrm>
                <a:off x="5116320" y="1371600"/>
                <a:ext cx="282240" cy="2462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116320" y="1371600"/>
                <a:ext cx="282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5116320" y="2146680"/>
              <a:ext cx="282240" cy="248760"/>
              <a:chOff x="5116320" y="2146680"/>
              <a:chExt cx="282240" cy="248760"/>
            </a:xfrm>
          </p:grpSpPr>
          <p:sp>
            <p:nvSpPr>
              <p:cNvPr id="1344" name=""/>
              <p:cNvSpPr/>
              <p:nvPr/>
            </p:nvSpPr>
            <p:spPr>
              <a:xfrm>
                <a:off x="5116320" y="2147760"/>
                <a:ext cx="282240" cy="247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16320" y="2146680"/>
                <a:ext cx="282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6118200" y="1670040"/>
              <a:ext cx="282240" cy="247320"/>
              <a:chOff x="6118200" y="1670040"/>
              <a:chExt cx="282240" cy="247320"/>
            </a:xfrm>
          </p:grpSpPr>
          <p:sp>
            <p:nvSpPr>
              <p:cNvPr id="1347" name=""/>
              <p:cNvSpPr/>
              <p:nvPr/>
            </p:nvSpPr>
            <p:spPr>
              <a:xfrm>
                <a:off x="6118200" y="1670040"/>
                <a:ext cx="282240" cy="247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118200" y="1670040"/>
                <a:ext cx="282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9" name=""/>
            <p:cNvSpPr/>
            <p:nvPr/>
          </p:nvSpPr>
          <p:spPr>
            <a:xfrm flipV="1">
              <a:off x="4381560" y="1491120"/>
              <a:ext cx="734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81560" y="1849320"/>
              <a:ext cx="80136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5249880" y="1610280"/>
              <a:ext cx="0" cy="53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383440" y="1907640"/>
              <a:ext cx="80136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83440" y="1491120"/>
              <a:ext cx="734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63360" y="1667160"/>
              <a:ext cx="339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529600" y="1667160"/>
              <a:ext cx="339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53720" y="3048480"/>
            <a:ext cx="3287880" cy="1617120"/>
            <a:chOff x="153720" y="3048480"/>
            <a:chExt cx="3287880" cy="1617120"/>
          </a:xfrm>
        </p:grpSpPr>
        <p:grpSp>
          <p:nvGrpSpPr>
            <p:cNvPr id="1357" name=""/>
            <p:cNvGrpSpPr/>
            <p:nvPr/>
          </p:nvGrpSpPr>
          <p:grpSpPr>
            <a:xfrm>
              <a:off x="833040" y="3358800"/>
              <a:ext cx="2608560" cy="1306800"/>
              <a:chOff x="833040" y="3358800"/>
              <a:chExt cx="2608560" cy="1306800"/>
            </a:xfrm>
          </p:grpSpPr>
          <p:sp>
            <p:nvSpPr>
              <p:cNvPr id="1358" name=""/>
              <p:cNvSpPr/>
              <p:nvPr/>
            </p:nvSpPr>
            <p:spPr>
              <a:xfrm>
                <a:off x="1290240" y="4165560"/>
                <a:ext cx="455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7/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289520" y="3358800"/>
                <a:ext cx="445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0" name=""/>
              <p:cNvGrpSpPr/>
              <p:nvPr/>
            </p:nvGrpSpPr>
            <p:grpSpPr>
              <a:xfrm>
                <a:off x="1976040" y="3359160"/>
                <a:ext cx="322560" cy="314280"/>
                <a:chOff x="1976040" y="3359160"/>
                <a:chExt cx="322560" cy="31428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1976040" y="3359160"/>
                  <a:ext cx="322560" cy="314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976040" y="335916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3" name=""/>
              <p:cNvGrpSpPr/>
              <p:nvPr/>
            </p:nvGrpSpPr>
            <p:grpSpPr>
              <a:xfrm>
                <a:off x="1976040" y="4349880"/>
                <a:ext cx="322560" cy="315720"/>
                <a:chOff x="1976040" y="4349880"/>
                <a:chExt cx="322560" cy="31572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1976040" y="4349880"/>
                  <a:ext cx="3225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976040" y="434988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3119040" y="3740040"/>
                <a:ext cx="322560" cy="316080"/>
                <a:chOff x="3119040" y="3740040"/>
                <a:chExt cx="322560" cy="31608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3119040" y="3740040"/>
                  <a:ext cx="32256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3119040" y="374004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9" name=""/>
              <p:cNvSpPr/>
              <p:nvPr/>
            </p:nvSpPr>
            <p:spPr>
              <a:xfrm flipV="1">
                <a:off x="1137960" y="3511080"/>
                <a:ext cx="8380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137960" y="3968640"/>
                <a:ext cx="914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2128680" y="36637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2280960" y="4044960"/>
                <a:ext cx="9144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280960" y="3511440"/>
                <a:ext cx="8380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369080" y="3776760"/>
                <a:ext cx="339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472480" y="3776760"/>
                <a:ext cx="339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585880" y="3403440"/>
                <a:ext cx="531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/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661840" y="4165560"/>
                <a:ext cx="532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6/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747440" y="3816360"/>
                <a:ext cx="525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/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9" name=""/>
              <p:cNvGrpSpPr/>
              <p:nvPr/>
            </p:nvGrpSpPr>
            <p:grpSpPr>
              <a:xfrm>
                <a:off x="833040" y="3740040"/>
                <a:ext cx="322560" cy="316080"/>
                <a:chOff x="833040" y="3740040"/>
                <a:chExt cx="322560" cy="31608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833040" y="3740040"/>
                  <a:ext cx="322560" cy="31608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833040" y="374004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2" name=""/>
            <p:cNvSpPr/>
            <p:nvPr/>
          </p:nvSpPr>
          <p:spPr>
            <a:xfrm>
              <a:off x="153720" y="3048480"/>
              <a:ext cx="1091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teración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4496760" y="3276360"/>
            <a:ext cx="44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35240" y="5123160"/>
            <a:ext cx="8431920" cy="1733760"/>
            <a:chOff x="435240" y="5123160"/>
            <a:chExt cx="8431920" cy="1733760"/>
          </a:xfrm>
        </p:grpSpPr>
        <p:grpSp>
          <p:nvGrpSpPr>
            <p:cNvPr id="1385" name=""/>
            <p:cNvGrpSpPr/>
            <p:nvPr/>
          </p:nvGrpSpPr>
          <p:grpSpPr>
            <a:xfrm>
              <a:off x="762120" y="5225760"/>
              <a:ext cx="8105040" cy="1631160"/>
              <a:chOff x="762120" y="5225760"/>
              <a:chExt cx="8105040" cy="1631160"/>
            </a:xfrm>
          </p:grpSpPr>
          <p:sp>
            <p:nvSpPr>
              <p:cNvPr id="1386" name=""/>
              <p:cNvSpPr/>
              <p:nvPr/>
            </p:nvSpPr>
            <p:spPr>
              <a:xfrm>
                <a:off x="1219320" y="6216480"/>
                <a:ext cx="684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6/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216800" y="5320800"/>
                <a:ext cx="445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8" name=""/>
              <p:cNvGrpSpPr/>
              <p:nvPr/>
            </p:nvGrpSpPr>
            <p:grpSpPr>
              <a:xfrm>
                <a:off x="1905120" y="5321160"/>
                <a:ext cx="322200" cy="314640"/>
                <a:chOff x="1905120" y="5321160"/>
                <a:chExt cx="322200" cy="31464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1905120" y="5321160"/>
                  <a:ext cx="322200" cy="314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1905120" y="53211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80808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1905120" y="6311880"/>
                <a:ext cx="322200" cy="316080"/>
                <a:chOff x="1905120" y="6311880"/>
                <a:chExt cx="322200" cy="31608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1905120" y="6311880"/>
                  <a:ext cx="322200" cy="316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905120" y="63118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80808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3048120" y="5702400"/>
                <a:ext cx="322200" cy="315720"/>
                <a:chOff x="3048120" y="5702400"/>
                <a:chExt cx="322200" cy="31572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3048120" y="570240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048120" y="57024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"/>
              <p:cNvSpPr/>
              <p:nvPr/>
            </p:nvSpPr>
            <p:spPr>
              <a:xfrm flipV="1">
                <a:off x="1066680" y="5473800"/>
                <a:ext cx="8384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066680" y="5931000"/>
                <a:ext cx="914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2209680" y="6006600"/>
                <a:ext cx="9144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209680" y="5473800"/>
                <a:ext cx="8384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298160" y="5740200"/>
                <a:ext cx="339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401200" y="5740200"/>
                <a:ext cx="339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3" name=""/>
              <p:cNvGrpSpPr/>
              <p:nvPr/>
            </p:nvGrpSpPr>
            <p:grpSpPr>
              <a:xfrm>
                <a:off x="762120" y="5702400"/>
                <a:ext cx="322200" cy="315720"/>
                <a:chOff x="762120" y="5702400"/>
                <a:chExt cx="322200" cy="3157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762120" y="5702400"/>
                  <a:ext cx="322200" cy="3157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62120" y="57024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400640" y="5225760"/>
                <a:ext cx="2608200" cy="1631160"/>
                <a:chOff x="4400640" y="5225760"/>
                <a:chExt cx="2608200" cy="16311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5395680" y="5225760"/>
                  <a:ext cx="5479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5/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8" name=""/>
                <p:cNvGrpSpPr/>
                <p:nvPr/>
              </p:nvGrpSpPr>
              <p:grpSpPr>
                <a:xfrm>
                  <a:off x="6686640" y="5791320"/>
                  <a:ext cx="322200" cy="315720"/>
                  <a:chOff x="6686640" y="5791320"/>
                  <a:chExt cx="322200" cy="315720"/>
                </a:xfrm>
              </p:grpSpPr>
              <p:sp>
                <p:nvSpPr>
                  <p:cNvPr id="1409" name=""/>
                  <p:cNvSpPr/>
                  <p:nvPr/>
                </p:nvSpPr>
                <p:spPr>
                  <a:xfrm>
                    <a:off x="6686640" y="5791320"/>
                    <a:ext cx="322200" cy="31572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686640" y="5791320"/>
                    <a:ext cx="3222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1" name=""/>
                <p:cNvSpPr/>
                <p:nvPr/>
              </p:nvSpPr>
              <p:spPr>
                <a:xfrm flipV="1">
                  <a:off x="4705200" y="5562720"/>
                  <a:ext cx="100980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724280" y="6019920"/>
                  <a:ext cx="106704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V="1">
                  <a:off x="5791320" y="6095880"/>
                  <a:ext cx="9712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638680" y="5562720"/>
                  <a:ext cx="106704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4936680" y="5829120"/>
                  <a:ext cx="339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6039720" y="5829120"/>
                  <a:ext cx="339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7" name=""/>
                <p:cNvGrpSpPr/>
                <p:nvPr/>
              </p:nvGrpSpPr>
              <p:grpSpPr>
                <a:xfrm>
                  <a:off x="4400640" y="5791320"/>
                  <a:ext cx="322200" cy="315720"/>
                  <a:chOff x="4400640" y="5791320"/>
                  <a:chExt cx="322200" cy="31572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4400640" y="5791320"/>
                    <a:ext cx="322200" cy="3157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4400640" y="5791320"/>
                    <a:ext cx="3222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5484600" y="6521040"/>
                  <a:ext cx="5479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5/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1" name=""/>
              <p:cNvSpPr/>
              <p:nvPr/>
            </p:nvSpPr>
            <p:spPr>
              <a:xfrm>
                <a:off x="7776720" y="5819760"/>
                <a:ext cx="1090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Eq. fue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2" name=""/>
            <p:cNvSpPr/>
            <p:nvPr/>
          </p:nvSpPr>
          <p:spPr>
            <a:xfrm>
              <a:off x="435240" y="5123160"/>
              <a:ext cx="55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116960" y="5150160"/>
              <a:ext cx="55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4113360" y="2895840"/>
            <a:ext cx="4704120" cy="1693440"/>
            <a:chOff x="4113360" y="2895840"/>
            <a:chExt cx="4704120" cy="1693440"/>
          </a:xfrm>
        </p:grpSpPr>
        <p:sp>
          <p:nvSpPr>
            <p:cNvPr id="1425" name=""/>
            <p:cNvSpPr/>
            <p:nvPr/>
          </p:nvSpPr>
          <p:spPr>
            <a:xfrm>
              <a:off x="4113360" y="2895840"/>
              <a:ext cx="55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573440" y="4076640"/>
              <a:ext cx="45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/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5259240" y="3270240"/>
              <a:ext cx="322200" cy="314280"/>
              <a:chOff x="5259240" y="3270240"/>
              <a:chExt cx="322200" cy="314280"/>
            </a:xfrm>
          </p:grpSpPr>
          <p:sp>
            <p:nvSpPr>
              <p:cNvPr id="1428" name=""/>
              <p:cNvSpPr/>
              <p:nvPr/>
            </p:nvSpPr>
            <p:spPr>
              <a:xfrm>
                <a:off x="5259240" y="3270240"/>
                <a:ext cx="322200" cy="314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59240" y="3270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5259240" y="4260600"/>
              <a:ext cx="322200" cy="316080"/>
              <a:chOff x="5259240" y="4260600"/>
              <a:chExt cx="322200" cy="316080"/>
            </a:xfrm>
          </p:grpSpPr>
          <p:sp>
            <p:nvSpPr>
              <p:cNvPr id="1431" name=""/>
              <p:cNvSpPr/>
              <p:nvPr/>
            </p:nvSpPr>
            <p:spPr>
              <a:xfrm>
                <a:off x="5259240" y="426060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59240" y="4260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 flipV="1">
              <a:off x="4421160" y="342216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21160" y="38797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411520" y="3574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52280" y="3687840"/>
              <a:ext cx="339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030640" y="3727440"/>
              <a:ext cx="52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4116240" y="3651120"/>
              <a:ext cx="322200" cy="316080"/>
              <a:chOff x="4116240" y="3651120"/>
              <a:chExt cx="322200" cy="3160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116240" y="3651120"/>
                <a:ext cx="322200" cy="31608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116240" y="36511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6040440" y="3282840"/>
              <a:ext cx="322200" cy="314280"/>
              <a:chOff x="6040440" y="3282840"/>
              <a:chExt cx="322200" cy="314280"/>
            </a:xfrm>
          </p:grpSpPr>
          <p:sp>
            <p:nvSpPr>
              <p:cNvPr id="1442" name=""/>
              <p:cNvSpPr/>
              <p:nvPr/>
            </p:nvSpPr>
            <p:spPr>
              <a:xfrm>
                <a:off x="6040440" y="3282840"/>
                <a:ext cx="322200" cy="314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040440" y="32828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6040440" y="4273560"/>
              <a:ext cx="322200" cy="315720"/>
              <a:chOff x="6040440" y="4273560"/>
              <a:chExt cx="322200" cy="315720"/>
            </a:xfrm>
          </p:grpSpPr>
          <p:sp>
            <p:nvSpPr>
              <p:cNvPr id="1445" name=""/>
              <p:cNvSpPr/>
              <p:nvPr/>
            </p:nvSpPr>
            <p:spPr>
              <a:xfrm>
                <a:off x="6040440" y="427356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040440" y="42735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7183440" y="3663720"/>
              <a:ext cx="322200" cy="316080"/>
              <a:chOff x="7183440" y="3663720"/>
              <a:chExt cx="322200" cy="316080"/>
            </a:xfrm>
          </p:grpSpPr>
          <p:sp>
            <p:nvSpPr>
              <p:cNvPr id="1448" name=""/>
              <p:cNvSpPr/>
              <p:nvPr/>
            </p:nvSpPr>
            <p:spPr>
              <a:xfrm>
                <a:off x="7183440" y="366372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183440" y="36637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"/>
            <p:cNvSpPr/>
            <p:nvPr/>
          </p:nvSpPr>
          <p:spPr>
            <a:xfrm flipV="1">
              <a:off x="6192720" y="3587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6345000" y="396864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345000" y="343512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536520" y="3700440"/>
              <a:ext cx="339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49920" y="3327120"/>
              <a:ext cx="531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26240" y="4089240"/>
              <a:ext cx="531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/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17960" y="3740040"/>
              <a:ext cx="52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03360" y="371448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q. déb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973400" y="3733560"/>
              <a:ext cx="87480" cy="303480"/>
            </a:xfrm>
            <a:custGeom>
              <a:avLst/>
              <a:gdLst/>
              <a:ahLst/>
              <a:rect l="l" t="t" r="r" b="b"/>
              <a:pathLst>
                <a:path w="248" h="848">
                  <a:moveTo>
                    <a:pt x="0" y="847"/>
                  </a:moveTo>
                  <a:cubicBezTo>
                    <a:pt x="88" y="794"/>
                    <a:pt x="176" y="741"/>
                    <a:pt x="212" y="635"/>
                  </a:cubicBezTo>
                  <a:cubicBezTo>
                    <a:pt x="247" y="529"/>
                    <a:pt x="247" y="318"/>
                    <a:pt x="212" y="212"/>
                  </a:cubicBezTo>
                  <a:cubicBezTo>
                    <a:pt x="176" y="106"/>
                    <a:pt x="35" y="3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ómo evitar eq. Déb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ción 1: cambiar las regiones básicas dinámicamente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pérdida de efici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ción 2: Usar una función de barrera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érdida de exact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0"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ón de costo modific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2211120" y="2317680"/>
            <a:ext cx="19080" cy="415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190600" y="4889520"/>
            <a:ext cx="453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253120" y="2392200"/>
            <a:ext cx="19080" cy="249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102280" y="4849200"/>
            <a:ext cx="4348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961640" y="48848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457360" y="4510080"/>
            <a:ext cx="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305080" y="4824360"/>
            <a:ext cx="28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634800" y="4829400"/>
            <a:ext cx="354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856520" y="2212920"/>
            <a:ext cx="409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438280" y="2057400"/>
            <a:ext cx="2667240" cy="2438280"/>
          </a:xfrm>
          <a:custGeom>
            <a:avLst/>
            <a:gdLst/>
            <a:ahLst/>
            <a:rect l="l" t="t" r="r" b="b"/>
            <a:pathLst>
              <a:path w="1680" h="1536">
                <a:moveTo>
                  <a:pt x="0" y="1536"/>
                </a:moveTo>
                <a:cubicBezTo>
                  <a:pt x="228" y="1532"/>
                  <a:pt x="456" y="1528"/>
                  <a:pt x="672" y="1440"/>
                </a:cubicBezTo>
                <a:cubicBezTo>
                  <a:pt x="888" y="1352"/>
                  <a:pt x="1128" y="1248"/>
                  <a:pt x="1296" y="1008"/>
                </a:cubicBezTo>
                <a:cubicBezTo>
                  <a:pt x="1464" y="768"/>
                  <a:pt x="1572" y="384"/>
                  <a:pt x="16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209680" y="4495680"/>
            <a:ext cx="228600" cy="1800"/>
          </a:xfrm>
          <a:custGeom>
            <a:avLst/>
            <a:gdLst/>
            <a:ahLst/>
            <a:rect l="l" t="t" r="r" b="b"/>
            <a:pathLst>
              <a:path w="144" h="1">
                <a:moveTo>
                  <a:pt x="144" y="0"/>
                </a:moveTo>
                <a:cubicBezTo>
                  <a:pt x="144" y="0"/>
                  <a:pt x="72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1981080" y="2133720"/>
            <a:ext cx="457200" cy="4038480"/>
            <a:chOff x="1981080" y="2133720"/>
            <a:chExt cx="457200" cy="4038480"/>
          </a:xfrm>
        </p:grpSpPr>
        <p:sp>
          <p:nvSpPr>
            <p:cNvPr id="1474" name=""/>
            <p:cNvSpPr/>
            <p:nvPr/>
          </p:nvSpPr>
          <p:spPr>
            <a:xfrm>
              <a:off x="2209680" y="4444920"/>
              <a:ext cx="228600" cy="1727280"/>
            </a:xfrm>
            <a:custGeom>
              <a:avLst/>
              <a:gdLst/>
              <a:ahLst/>
              <a:rect l="l" t="t" r="r" b="b"/>
              <a:pathLst>
                <a:path w="144" h="1088">
                  <a:moveTo>
                    <a:pt x="144" y="32"/>
                  </a:moveTo>
                  <a:cubicBezTo>
                    <a:pt x="108" y="16"/>
                    <a:pt x="72" y="0"/>
                    <a:pt x="48" y="176"/>
                  </a:cubicBezTo>
                  <a:cubicBezTo>
                    <a:pt x="24" y="352"/>
                    <a:pt x="12" y="720"/>
                    <a:pt x="0" y="10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981080" y="2133720"/>
              <a:ext cx="284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gir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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licar 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2) usando las funcion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cterísticas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0960" cy="47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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ge a un óptim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 3.8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do punto de acumulación de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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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s una  solución d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 3.9)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18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gio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ural para redes de transp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eficiente y correc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giones bás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eño de redes: bases simil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álculo paralelo: bases independ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spaso de flujo unidimens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77060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estros Algorit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bles: flujos por orígenes y ar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cales: descomponen la red en subredes elementales llamad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eg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erativamen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libra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reg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391520" y="3048120"/>
          <a:ext cx="63792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3048120"/>
                    <a:ext cx="6379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297320" y="3189240"/>
          <a:ext cx="71640" cy="1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7320" y="3189240"/>
                    <a:ext cx="7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0" y="762120"/>
            <a:ext cx="4341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gión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=(R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28195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26040" y="4618440"/>
            <a:ext cx="1230480" cy="517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479920" y="4081320"/>
            <a:ext cx="1605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3947040"/>
            <a:ext cx="1792440" cy="103500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06480" y="3575160"/>
            <a:ext cx="247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68920" y="2463840"/>
            <a:ext cx="1619280" cy="103500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321600" y="3216240"/>
            <a:ext cx="33336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57400" y="2068200"/>
            <a:ext cx="1233720" cy="517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9877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41403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1403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9117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8447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3073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441600"/>
            <a:ext cx="150840" cy="150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454560"/>
            <a:ext cx="150840" cy="150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006720"/>
            <a:ext cx="50760" cy="11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51320" y="2622600"/>
            <a:ext cx="4896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7760" y="4489560"/>
            <a:ext cx="1265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ta R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11840" y="2016000"/>
            <a:ext cx="1322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ta R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27080" y="1917720"/>
            <a:ext cx="1123920" cy="976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21280" y="221472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024600" y="388476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452840" y="4254120"/>
            <a:ext cx="68112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69840" y="2584440"/>
            <a:ext cx="48276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78000" y="2857680"/>
            <a:ext cx="4019760" cy="1347480"/>
            <a:chOff x="2178000" y="2857680"/>
            <a:chExt cx="4019760" cy="1347480"/>
          </a:xfrm>
        </p:grpSpPr>
        <p:sp>
          <p:nvSpPr>
            <p:cNvPr id="77" name=""/>
            <p:cNvSpPr/>
            <p:nvPr/>
          </p:nvSpPr>
          <p:spPr>
            <a:xfrm flipV="1">
              <a:off x="2178000" y="3079440"/>
              <a:ext cx="568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808360" y="2906280"/>
              <a:ext cx="6793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14720" y="3587760"/>
              <a:ext cx="53172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2120" y="4057560"/>
              <a:ext cx="59364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86280" y="2894040"/>
              <a:ext cx="9270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1520" y="2857680"/>
              <a:ext cx="116352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87680" y="4205160"/>
              <a:ext cx="12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799160" y="3970440"/>
              <a:ext cx="97776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875200" y="3611520"/>
              <a:ext cx="32256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75200" y="3154320"/>
              <a:ext cx="29700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48720" y="532440"/>
            <a:ext cx="454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quilibrio  de una reg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2793960"/>
            <a:ext cx="6094440" cy="40626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90640" y="1460520"/>
            <a:ext cx="5548320" cy="844560"/>
            <a:chOff x="1790640" y="1460520"/>
            <a:chExt cx="5548320" cy="844560"/>
          </a:xfrm>
        </p:grpSpPr>
        <p:sp>
          <p:nvSpPr>
            <p:cNvPr id="90" name=""/>
            <p:cNvSpPr/>
            <p:nvPr/>
          </p:nvSpPr>
          <p:spPr>
            <a:xfrm>
              <a:off x="1790640" y="1460520"/>
              <a:ext cx="5548320" cy="844560"/>
            </a:xfrm>
            <a:prstGeom prst="roundRect">
              <a:avLst>
                <a:gd name="adj" fmla="val 18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790640" y="1460520"/>
                  <a:ext cx="554832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  <m:sup/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  <m:r>
                        <m:t xml:space="preserve">&gt;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sub>
                        <m:sup/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o</m:t>
                          </m:r>
                        </m:sub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1790640" y="1460520"/>
              <a:ext cx="5548320" cy="844560"/>
            </a:xfrm>
            <a:prstGeom prst="roundRect">
              <a:avLst>
                <a:gd name="adj" fmla="val 1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802320" y="2595600"/>
            <a:ext cx="48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7400" y="5757840"/>
            <a:ext cx="43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4080" y="4091040"/>
            <a:ext cx="3802320" cy="1388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6120" y="548172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6120" y="409104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7840" y="524988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51080" y="540540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9880" y="540540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560" y="517212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28800" y="416880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22720" y="4091040"/>
            <a:ext cx="680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4091040"/>
            <a:ext cx="680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560" y="432288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4240" y="4710240"/>
            <a:ext cx="1396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88000" y="4710240"/>
            <a:ext cx="1396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08160" y="2492280"/>
            <a:ext cx="3878640" cy="2603520"/>
            <a:chOff x="3908160" y="2492280"/>
            <a:chExt cx="3878640" cy="2603520"/>
          </a:xfrm>
        </p:grpSpPr>
        <p:grpSp>
          <p:nvGrpSpPr>
            <p:cNvPr id="109" name=""/>
            <p:cNvGrpSpPr/>
            <p:nvPr/>
          </p:nvGrpSpPr>
          <p:grpSpPr>
            <a:xfrm>
              <a:off x="5730840" y="2492280"/>
              <a:ext cx="2055960" cy="1065240"/>
              <a:chOff x="5730840" y="2492280"/>
              <a:chExt cx="2055960" cy="10652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0840" y="2492280"/>
                <a:ext cx="2055960" cy="1065240"/>
              </a:xfrm>
              <a:custGeom>
                <a:avLst/>
                <a:gdLst/>
                <a:ahLst/>
                <a:rect l="l" t="t" r="r" b="b"/>
                <a:pathLst>
                  <a:path w="5716" h="2965">
                    <a:moveTo>
                      <a:pt x="0" y="360"/>
                    </a:moveTo>
                    <a:cubicBezTo>
                      <a:pt x="0" y="0"/>
                      <a:pt x="0" y="0"/>
                      <a:pt x="799" y="0"/>
                    </a:cubicBezTo>
                    <a:lnTo>
                      <a:pt x="4916" y="0"/>
                    </a:lnTo>
                    <a:cubicBezTo>
                      <a:pt x="5715" y="0"/>
                      <a:pt x="5715" y="0"/>
                      <a:pt x="5715" y="360"/>
                    </a:cubicBezTo>
                    <a:lnTo>
                      <a:pt x="5715" y="2217"/>
                    </a:lnTo>
                    <a:cubicBezTo>
                      <a:pt x="5715" y="2577"/>
                      <a:pt x="5715" y="2577"/>
                      <a:pt x="4916" y="2577"/>
                    </a:cubicBezTo>
                    <a:lnTo>
                      <a:pt x="2284" y="2577"/>
                    </a:lnTo>
                    <a:lnTo>
                      <a:pt x="391" y="2964"/>
                    </a:lnTo>
                    <a:lnTo>
                      <a:pt x="904" y="2577"/>
                    </a:lnTo>
                    <a:lnTo>
                      <a:pt x="799" y="2577"/>
                    </a:lnTo>
                    <a:cubicBezTo>
                      <a:pt x="0" y="2577"/>
                      <a:pt x="0" y="2577"/>
                      <a:pt x="0" y="2217"/>
                    </a:cubicBezTo>
                    <a:lnTo>
                      <a:pt x="0" y="360"/>
                    </a:lnTo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33880" y="2567880"/>
                <a:ext cx="164808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Traspaso desd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uno/varios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oríge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flipH="1" flipV="1">
              <a:off x="3908160" y="4452840"/>
              <a:ext cx="1260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43640" y="507528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86600" y="4110120"/>
            <a:ext cx="1427040" cy="744480"/>
          </a:xfrm>
          <a:custGeom>
            <a:avLst/>
            <a:gdLst/>
            <a:ahLst/>
            <a:rect l="l" t="t" r="r" b="b"/>
            <a:pathLst>
              <a:path w="3970" h="2074">
                <a:moveTo>
                  <a:pt x="0" y="2073"/>
                </a:moveTo>
                <a:cubicBezTo>
                  <a:pt x="373" y="1924"/>
                  <a:pt x="731" y="1564"/>
                  <a:pt x="1129" y="1683"/>
                </a:cubicBezTo>
                <a:cubicBezTo>
                  <a:pt x="1526" y="1801"/>
                  <a:pt x="1916" y="1540"/>
                  <a:pt x="2294" y="1359"/>
                </a:cubicBezTo>
                <a:cubicBezTo>
                  <a:pt x="2718" y="1156"/>
                  <a:pt x="3201" y="991"/>
                  <a:pt x="3459" y="259"/>
                </a:cubicBezTo>
                <a:lnTo>
                  <a:pt x="3823" y="63"/>
                </a:lnTo>
                <a:lnTo>
                  <a:pt x="39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8120" y="4046400"/>
            <a:ext cx="1698840" cy="640080"/>
          </a:xfrm>
          <a:custGeom>
            <a:avLst/>
            <a:gdLst/>
            <a:ahLst/>
            <a:rect l="l" t="t" r="r" b="b"/>
            <a:pathLst>
              <a:path w="4721" h="1783">
                <a:moveTo>
                  <a:pt x="0" y="0"/>
                </a:moveTo>
                <a:cubicBezTo>
                  <a:pt x="126" y="446"/>
                  <a:pt x="601" y="598"/>
                  <a:pt x="1001" y="715"/>
                </a:cubicBezTo>
                <a:cubicBezTo>
                  <a:pt x="1381" y="826"/>
                  <a:pt x="1721" y="1060"/>
                  <a:pt x="2110" y="1144"/>
                </a:cubicBezTo>
                <a:cubicBezTo>
                  <a:pt x="2482" y="1224"/>
                  <a:pt x="2995" y="864"/>
                  <a:pt x="3254" y="1144"/>
                </a:cubicBezTo>
                <a:cubicBezTo>
                  <a:pt x="3565" y="1481"/>
                  <a:pt x="3844" y="1782"/>
                  <a:pt x="4219" y="1645"/>
                </a:cubicBezTo>
                <a:lnTo>
                  <a:pt x="4577" y="1680"/>
                </a:lnTo>
                <a:lnTo>
                  <a:pt x="4720" y="1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86440" y="514512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as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98640" y="3235320"/>
            <a:ext cx="4543560" cy="2263680"/>
            <a:chOff x="1898640" y="3235320"/>
            <a:chExt cx="4543560" cy="2263680"/>
          </a:xfrm>
        </p:grpSpPr>
        <p:sp>
          <p:nvSpPr>
            <p:cNvPr id="118" name=""/>
            <p:cNvSpPr/>
            <p:nvPr/>
          </p:nvSpPr>
          <p:spPr>
            <a:xfrm flipV="1">
              <a:off x="6442200" y="4084200"/>
              <a:ext cx="0" cy="10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898640" y="3235320"/>
              <a:ext cx="3716280" cy="2263680"/>
              <a:chOff x="1898640" y="3235320"/>
              <a:chExt cx="3716280" cy="2263680"/>
            </a:xfrm>
          </p:grpSpPr>
          <p:sp>
            <p:nvSpPr>
              <p:cNvPr id="120" name=""/>
              <p:cNvSpPr/>
              <p:nvPr/>
            </p:nvSpPr>
            <p:spPr>
              <a:xfrm>
                <a:off x="1898640" y="3468600"/>
                <a:ext cx="302760" cy="938160"/>
              </a:xfrm>
              <a:custGeom>
                <a:avLst/>
                <a:gdLst>
                  <a:gd name="textAreaLeft" fmla="*/ 360 w 302760"/>
                  <a:gd name="textAreaRight" fmla="*/ 302400 w 302760"/>
                  <a:gd name="textAreaTop" fmla="*/ 360 h 938160"/>
                  <a:gd name="textAreaBottom" fmla="*/ 937800 h 938160"/>
                </a:gdLst>
                <a:ahLst/>
                <a:rect l="textAreaLeft" t="textAreaTop" r="textAreaRight" b="textAreaBottom"/>
                <a:pathLst>
                  <a:path w="21600" h="66878">
                    <a:moveTo>
                      <a:pt x="112" y="0"/>
                    </a:moveTo>
                    <a:arcTo wR="112" hR="112" stAng="16200000" swAng="-5400000"/>
                    <a:lnTo>
                      <a:pt x="0" y="66766"/>
                    </a:lnTo>
                    <a:arcTo wR="112" hR="112" stAng="10800000" swAng="-5400000"/>
                    <a:lnTo>
                      <a:pt x="21488" y="66878"/>
                    </a:lnTo>
                    <a:arcTo wR="112" hR="112" stAng="5400000" swAng="-5400000"/>
                    <a:lnTo>
                      <a:pt x="21600" y="112"/>
                    </a:lnTo>
                    <a:arcTo wR="112" hR="11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09440" y="3355920"/>
                <a:ext cx="277560" cy="784440"/>
              </a:xfrm>
              <a:custGeom>
                <a:avLst/>
                <a:gdLst>
                  <a:gd name="textAreaLeft" fmla="*/ 360 w 277560"/>
                  <a:gd name="textAreaRight" fmla="*/ 277200 w 277560"/>
                  <a:gd name="textAreaTop" fmla="*/ 360 h 784440"/>
                  <a:gd name="textAreaBottom" fmla="*/ 784080 h 784440"/>
                </a:gdLst>
                <a:ahLst/>
                <a:rect l="textAreaLeft" t="textAreaTop" r="textAreaRight" b="textAreaBottom"/>
                <a:pathLst>
                  <a:path w="21600" h="60995">
                    <a:moveTo>
                      <a:pt x="122" y="0"/>
                    </a:moveTo>
                    <a:arcTo wR="122" hR="122" stAng="16200000" swAng="-5400000"/>
                    <a:lnTo>
                      <a:pt x="0" y="60873"/>
                    </a:lnTo>
                    <a:arcTo wR="122" hR="122" stAng="10800000" swAng="-5400000"/>
                    <a:lnTo>
                      <a:pt x="21478" y="60995"/>
                    </a:lnTo>
                    <a:arcTo wR="122" hR="122" stAng="5400000" swAng="-5400000"/>
                    <a:lnTo>
                      <a:pt x="21600" y="122"/>
                    </a:lnTo>
                    <a:arcTo wR="122" hR="12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398040" y="3395520"/>
                <a:ext cx="257040" cy="660600"/>
              </a:xfrm>
              <a:custGeom>
                <a:avLst/>
                <a:gdLst>
                  <a:gd name="textAreaLeft" fmla="*/ 360 w 257040"/>
                  <a:gd name="textAreaRight" fmla="*/ 256680 w 257040"/>
                  <a:gd name="textAreaTop" fmla="*/ 360 h 660600"/>
                  <a:gd name="textAreaBottom" fmla="*/ 660240 h 660600"/>
                </a:gdLst>
                <a:ahLst/>
                <a:rect l="textAreaLeft" t="textAreaTop" r="textAreaRight" b="textAreaBottom"/>
                <a:pathLst>
                  <a:path w="21600" h="55465">
                    <a:moveTo>
                      <a:pt x="133" y="0"/>
                    </a:moveTo>
                    <a:arcTo wR="133" hR="133" stAng="16200000" swAng="-5400000"/>
                    <a:lnTo>
                      <a:pt x="0" y="55332"/>
                    </a:lnTo>
                    <a:arcTo wR="133" hR="133" stAng="10800000" swAng="-5400000"/>
                    <a:lnTo>
                      <a:pt x="21467" y="55465"/>
                    </a:lnTo>
                    <a:arcTo wR="133" hR="133" stAng="5400000" swAng="-5400000"/>
                    <a:lnTo>
                      <a:pt x="21600" y="133"/>
                    </a:lnTo>
                    <a:arcTo wR="133" hR="13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69440" y="3235320"/>
                <a:ext cx="231120" cy="819000"/>
              </a:xfrm>
              <a:custGeom>
                <a:avLst/>
                <a:gdLst>
                  <a:gd name="textAreaLeft" fmla="*/ 360 w 231120"/>
                  <a:gd name="textAreaRight" fmla="*/ 230760 w 231120"/>
                  <a:gd name="textAreaTop" fmla="*/ 360 h 819000"/>
                  <a:gd name="textAreaBottom" fmla="*/ 818640 h 819000"/>
                </a:gdLst>
                <a:ahLst/>
                <a:rect l="textAreaLeft" t="textAreaTop" r="textAreaRight" b="textAreaBottom"/>
                <a:pathLst>
                  <a:path w="21600" h="76457">
                    <a:moveTo>
                      <a:pt x="147" y="0"/>
                    </a:moveTo>
                    <a:arcTo wR="147" hR="147" stAng="16200000" swAng="-5400000"/>
                    <a:lnTo>
                      <a:pt x="0" y="76310"/>
                    </a:lnTo>
                    <a:arcTo wR="147" hR="147" stAng="10800000" swAng="-5400000"/>
                    <a:lnTo>
                      <a:pt x="21453" y="76457"/>
                    </a:lnTo>
                    <a:arcTo wR="147" hR="147" stAng="5400000" swAng="-5400000"/>
                    <a:lnTo>
                      <a:pt x="21600" y="147"/>
                    </a:lnTo>
                    <a:arcTo wR="147" hR="147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65680" y="3556080"/>
                <a:ext cx="212400" cy="615960"/>
              </a:xfrm>
              <a:custGeom>
                <a:avLst/>
                <a:gdLst>
                  <a:gd name="textAreaLeft" fmla="*/ 360 w 212400"/>
                  <a:gd name="textAreaRight" fmla="*/ 212040 w 212400"/>
                  <a:gd name="textAreaTop" fmla="*/ 360 h 615960"/>
                  <a:gd name="textAreaBottom" fmla="*/ 615600 h 615960"/>
                </a:gdLst>
                <a:ahLst/>
                <a:rect l="textAreaLeft" t="textAreaTop" r="textAreaRight" b="textAreaBottom"/>
                <a:pathLst>
                  <a:path w="21600" h="62571">
                    <a:moveTo>
                      <a:pt x="161" y="0"/>
                    </a:moveTo>
                    <a:arcTo wR="161" hR="161" stAng="16200000" swAng="-5400000"/>
                    <a:lnTo>
                      <a:pt x="0" y="62410"/>
                    </a:lnTo>
                    <a:arcTo wR="161" hR="161" stAng="10800000" swAng="-5400000"/>
                    <a:lnTo>
                      <a:pt x="21439" y="62571"/>
                    </a:lnTo>
                    <a:arcTo wR="161" hR="161" stAng="5400000" swAng="-5400000"/>
                    <a:lnTo>
                      <a:pt x="21600" y="161"/>
                    </a:lnTo>
                    <a:arcTo wR="161" hR="161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97480" y="3943440"/>
                <a:ext cx="217440" cy="565200"/>
              </a:xfrm>
              <a:custGeom>
                <a:avLst/>
                <a:gdLst>
                  <a:gd name="textAreaLeft" fmla="*/ 360 w 217440"/>
                  <a:gd name="textAreaRight" fmla="*/ 217080 w 217440"/>
                  <a:gd name="textAreaTop" fmla="*/ 360 h 565200"/>
                  <a:gd name="textAreaBottom" fmla="*/ 564840 h 565200"/>
                </a:gdLst>
                <a:ahLst/>
                <a:rect l="textAreaLeft" t="textAreaTop" r="textAreaRight" b="textAreaBottom"/>
                <a:pathLst>
                  <a:path w="21600" h="56089">
                    <a:moveTo>
                      <a:pt x="156" y="0"/>
                    </a:moveTo>
                    <a:arcTo wR="156" hR="156" stAng="16200000" swAng="-5400000"/>
                    <a:lnTo>
                      <a:pt x="0" y="55933"/>
                    </a:lnTo>
                    <a:arcTo wR="156" hR="156" stAng="10800000" swAng="-5400000"/>
                    <a:lnTo>
                      <a:pt x="21444" y="56089"/>
                    </a:lnTo>
                    <a:arcTo wR="156" hR="156" stAng="5400000" swAng="-5400000"/>
                    <a:lnTo>
                      <a:pt x="21600" y="156"/>
                    </a:lnTo>
                    <a:arcTo wR="156" hR="156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99880" y="4944960"/>
                <a:ext cx="128160" cy="217440"/>
              </a:xfrm>
              <a:custGeom>
                <a:avLst/>
                <a:gdLst>
                  <a:gd name="textAreaLeft" fmla="*/ 360 w 128160"/>
                  <a:gd name="textAreaRight" fmla="*/ 127800 w 128160"/>
                  <a:gd name="textAreaTop" fmla="*/ 360 h 217440"/>
                  <a:gd name="textAreaBottom" fmla="*/ 217080 h 217440"/>
                </a:gdLst>
                <a:ahLst/>
                <a:rect l="textAreaLeft" t="textAreaTop" r="textAreaRight" b="textAreaBottom"/>
                <a:pathLst>
                  <a:path w="21600" h="36605">
                    <a:moveTo>
                      <a:pt x="263" y="0"/>
                    </a:moveTo>
                    <a:arcTo wR="263" hR="263" stAng="16200000" swAng="-5400000"/>
                    <a:lnTo>
                      <a:pt x="0" y="36342"/>
                    </a:lnTo>
                    <a:arcTo wR="263" hR="263" stAng="10800000" swAng="-5400000"/>
                    <a:lnTo>
                      <a:pt x="21337" y="36605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65080" y="5130720"/>
                <a:ext cx="128160" cy="284400"/>
              </a:xfrm>
              <a:custGeom>
                <a:avLst/>
                <a:gdLst>
                  <a:gd name="textAreaLeft" fmla="*/ 360 w 128160"/>
                  <a:gd name="textAreaRight" fmla="*/ 127800 w 128160"/>
                  <a:gd name="textAreaTop" fmla="*/ 360 h 284400"/>
                  <a:gd name="textAreaBottom" fmla="*/ 284040 h 284400"/>
                </a:gdLst>
                <a:ahLst/>
                <a:rect l="textAreaLeft" t="textAreaTop" r="textAreaRight" b="textAreaBottom"/>
                <a:pathLst>
                  <a:path w="21600" h="47859">
                    <a:moveTo>
                      <a:pt x="263" y="0"/>
                    </a:moveTo>
                    <a:arcTo wR="263" hR="263" stAng="16200000" swAng="-5400000"/>
                    <a:lnTo>
                      <a:pt x="0" y="47596"/>
                    </a:lnTo>
                    <a:arcTo wR="263" hR="263" stAng="10800000" swAng="-5400000"/>
                    <a:lnTo>
                      <a:pt x="21337" y="47859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417120" y="5248440"/>
                <a:ext cx="114120" cy="25056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50560"/>
                  <a:gd name="textAreaBottom" fmla="*/ 250200 h 250560"/>
                </a:gdLst>
                <a:ahLst/>
                <a:rect l="textAreaLeft" t="textAreaTop" r="textAreaRight" b="textAreaBottom"/>
                <a:pathLst>
                  <a:path w="21600" h="47343">
                    <a:moveTo>
                      <a:pt x="300" y="0"/>
                    </a:moveTo>
                    <a:arcTo wR="300" hR="300" stAng="16200000" swAng="-5400000"/>
                    <a:lnTo>
                      <a:pt x="0" y="47043"/>
                    </a:lnTo>
                    <a:arcTo wR="300" hR="300" stAng="10800000" swAng="-5400000"/>
                    <a:lnTo>
                      <a:pt x="21300" y="47343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19960" y="5164200"/>
                <a:ext cx="113760" cy="250920"/>
              </a:xfrm>
              <a:custGeom>
                <a:avLst/>
                <a:gdLst>
                  <a:gd name="textAreaLeft" fmla="*/ 360 w 113760"/>
                  <a:gd name="textAreaRight" fmla="*/ 113400 w 113760"/>
                  <a:gd name="textAreaTop" fmla="*/ 360 h 250920"/>
                  <a:gd name="textAreaBottom" fmla="*/ 250560 h 250920"/>
                </a:gdLst>
                <a:ahLst/>
                <a:rect l="textAreaLeft" t="textAreaTop" r="textAreaRight" b="textAreaBottom"/>
                <a:pathLst>
                  <a:path w="21600" h="47561">
                    <a:moveTo>
                      <a:pt x="300" y="0"/>
                    </a:moveTo>
                    <a:arcTo wR="300" hR="300" stAng="16200000" swAng="-5400000"/>
                    <a:lnTo>
                      <a:pt x="0" y="47261"/>
                    </a:lnTo>
                    <a:arcTo wR="300" hR="300" stAng="10800000" swAng="-5400000"/>
                    <a:lnTo>
                      <a:pt x="21300" y="47561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13680" y="4878360"/>
                <a:ext cx="113760" cy="184320"/>
              </a:xfrm>
              <a:custGeom>
                <a:avLst/>
                <a:gdLst>
                  <a:gd name="textAreaLeft" fmla="*/ 360 w 113760"/>
                  <a:gd name="textAreaRight" fmla="*/ 113400 w 113760"/>
                  <a:gd name="textAreaTop" fmla="*/ 360 h 184320"/>
                  <a:gd name="textAreaBottom" fmla="*/ 183960 h 184320"/>
                </a:gdLst>
                <a:ahLst/>
                <a:rect l="textAreaLeft" t="textAreaTop" r="textAreaRight" b="textAreaBottom"/>
                <a:pathLst>
                  <a:path w="21600" h="34955">
                    <a:moveTo>
                      <a:pt x="300" y="0"/>
                    </a:moveTo>
                    <a:arcTo wR="300" hR="300" stAng="16200000" swAng="-5400000"/>
                    <a:lnTo>
                      <a:pt x="0" y="34655"/>
                    </a:lnTo>
                    <a:arcTo wR="300" hR="300" stAng="10800000" swAng="-5400000"/>
                    <a:lnTo>
                      <a:pt x="21300" y="34955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78720" y="5315040"/>
                <a:ext cx="77400" cy="176040"/>
              </a:xfrm>
              <a:custGeom>
                <a:avLst/>
                <a:gdLst>
                  <a:gd name="textAreaLeft" fmla="*/ 360 w 77400"/>
                  <a:gd name="textAreaRight" fmla="*/ 77040 w 77400"/>
                  <a:gd name="textAreaTop" fmla="*/ 360 h 176040"/>
                  <a:gd name="textAreaBottom" fmla="*/ 175680 h 176040"/>
                </a:gdLst>
                <a:ahLst/>
                <a:rect l="textAreaLeft" t="textAreaTop" r="textAreaRight" b="textAreaBottom"/>
                <a:pathLst>
                  <a:path w="21600" h="49000">
                    <a:moveTo>
                      <a:pt x="432" y="0"/>
                    </a:moveTo>
                    <a:arcTo wR="432" hR="432" stAng="16200000" swAng="-5400000"/>
                    <a:lnTo>
                      <a:pt x="0" y="48568"/>
                    </a:lnTo>
                    <a:arcTo wR="432" hR="432" stAng="10800000" swAng="-5400000"/>
                    <a:lnTo>
                      <a:pt x="21168" y="49000"/>
                    </a:lnTo>
                    <a:arcTo wR="432" hR="432" stAng="5400000" swAng="-5400000"/>
                    <a:lnTo>
                      <a:pt x="21600" y="432"/>
                    </a:lnTo>
                    <a:arcTo wR="432" hR="43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1898640" y="3673440"/>
            <a:ext cx="5340240" cy="1833480"/>
            <a:chOff x="1898640" y="3673440"/>
            <a:chExt cx="5340240" cy="1833480"/>
          </a:xfrm>
        </p:grpSpPr>
        <p:sp>
          <p:nvSpPr>
            <p:cNvPr id="133" name=""/>
            <p:cNvSpPr/>
            <p:nvPr/>
          </p:nvSpPr>
          <p:spPr>
            <a:xfrm>
              <a:off x="2994840" y="4533840"/>
              <a:ext cx="172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Aumenta el 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898640" y="3673440"/>
              <a:ext cx="5340240" cy="1833480"/>
              <a:chOff x="1898640" y="3673440"/>
              <a:chExt cx="5340240" cy="18334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898640" y="3673440"/>
                <a:ext cx="3728880" cy="1833480"/>
                <a:chOff x="1898640" y="3673440"/>
                <a:chExt cx="3728880" cy="18334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898640" y="3981600"/>
                  <a:ext cx="323640" cy="473040"/>
                </a:xfrm>
                <a:custGeom>
                  <a:avLst/>
                  <a:gdLst>
                    <a:gd name="textAreaLeft" fmla="*/ 360 w 323640"/>
                    <a:gd name="textAreaRight" fmla="*/ 323280 w 323640"/>
                    <a:gd name="textAreaTop" fmla="*/ 360 h 473040"/>
                    <a:gd name="textAreaBottom" fmla="*/ 472680 h 473040"/>
                  </a:gdLst>
                  <a:ahLst/>
                  <a:rect l="textAreaLeft" t="textAreaTop" r="textAreaRight" b="textAreaBottom"/>
                  <a:pathLst>
                    <a:path w="21600" h="31560">
                      <a:moveTo>
                        <a:pt x="105" y="0"/>
                      </a:moveTo>
                      <a:arcTo wR="105" hR="105" stAng="16200000" swAng="-5400000"/>
                      <a:lnTo>
                        <a:pt x="0" y="31455"/>
                      </a:lnTo>
                      <a:arcTo wR="105" hR="105" stAng="10800000" swAng="-5400000"/>
                      <a:lnTo>
                        <a:pt x="21495" y="31560"/>
                      </a:lnTo>
                      <a:arcTo wR="105" hR="105" stAng="5400000" swAng="-5400000"/>
                      <a:lnTo>
                        <a:pt x="21600" y="105"/>
                      </a:lnTo>
                      <a:arcTo wR="105" hR="105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812680" y="3686040"/>
                  <a:ext cx="294840" cy="509760"/>
                </a:xfrm>
                <a:custGeom>
                  <a:avLst/>
                  <a:gdLst>
                    <a:gd name="textAreaLeft" fmla="*/ 360 w 294840"/>
                    <a:gd name="textAreaRight" fmla="*/ 294480 w 294840"/>
                    <a:gd name="textAreaTop" fmla="*/ 360 h 509760"/>
                    <a:gd name="textAreaBottom" fmla="*/ 509400 h 509760"/>
                  </a:gdLst>
                  <a:ahLst/>
                  <a:rect l="textAreaLeft" t="textAreaTop" r="textAreaRight" b="textAreaBottom"/>
                  <a:pathLst>
                    <a:path w="21600" h="37326">
                      <a:moveTo>
                        <a:pt x="116" y="0"/>
                      </a:moveTo>
                      <a:arcTo wR="116" hR="116" stAng="16200000" swAng="-5400000"/>
                      <a:lnTo>
                        <a:pt x="0" y="37210"/>
                      </a:lnTo>
                      <a:arcTo wR="116" hR="116" stAng="10800000" swAng="-5400000"/>
                      <a:lnTo>
                        <a:pt x="21484" y="37326"/>
                      </a:lnTo>
                      <a:arcTo wR="116" hR="116" stAng="5400000" swAng="-5400000"/>
                      <a:lnTo>
                        <a:pt x="21600" y="116"/>
                      </a:lnTo>
                      <a:arcTo wR="116" hR="116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442680" y="3749760"/>
                  <a:ext cx="229680" cy="365040"/>
                </a:xfrm>
                <a:custGeom>
                  <a:avLst/>
                  <a:gdLst>
                    <a:gd name="textAreaLeft" fmla="*/ 360 w 229680"/>
                    <a:gd name="textAreaRight" fmla="*/ 229320 w 229680"/>
                    <a:gd name="textAreaTop" fmla="*/ 360 h 365040"/>
                    <a:gd name="textAreaBottom" fmla="*/ 364680 h 365040"/>
                  </a:gdLst>
                  <a:ahLst/>
                  <a:rect l="textAreaLeft" t="textAreaTop" r="textAreaRight" b="textAreaBottom"/>
                  <a:pathLst>
                    <a:path w="21600" h="34310">
                      <a:moveTo>
                        <a:pt x="147" y="0"/>
                      </a:moveTo>
                      <a:arcTo wR="147" hR="147" stAng="16200000" swAng="-5400000"/>
                      <a:lnTo>
                        <a:pt x="0" y="34163"/>
                      </a:lnTo>
                      <a:arcTo wR="147" hR="147" stAng="10800000" swAng="-5400000"/>
                      <a:lnTo>
                        <a:pt x="21453" y="34310"/>
                      </a:lnTo>
                      <a:arcTo wR="147" hR="147" stAng="5400000" swAng="-5400000"/>
                      <a:lnTo>
                        <a:pt x="21600" y="147"/>
                      </a:lnTo>
                      <a:arcTo wR="147" hR="147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085280" y="3673440"/>
                  <a:ext cx="229680" cy="441360"/>
                </a:xfrm>
                <a:custGeom>
                  <a:avLst/>
                  <a:gdLst>
                    <a:gd name="textAreaLeft" fmla="*/ 360 w 229680"/>
                    <a:gd name="textAreaRight" fmla="*/ 229320 w 229680"/>
                    <a:gd name="textAreaTop" fmla="*/ 360 h 441360"/>
                    <a:gd name="textAreaBottom" fmla="*/ 441000 h 441360"/>
                  </a:gdLst>
                  <a:ahLst/>
                  <a:rect l="textAreaLeft" t="textAreaTop" r="textAreaRight" b="textAreaBottom"/>
                  <a:pathLst>
                    <a:path w="21600" h="41476">
                      <a:moveTo>
                        <a:pt x="147" y="0"/>
                      </a:moveTo>
                      <a:arcTo wR="147" hR="147" stAng="16200000" swAng="-5400000"/>
                      <a:lnTo>
                        <a:pt x="0" y="41329"/>
                      </a:lnTo>
                      <a:arcTo wR="147" hR="147" stAng="10800000" swAng="-5400000"/>
                      <a:lnTo>
                        <a:pt x="21453" y="41476"/>
                      </a:lnTo>
                      <a:arcTo wR="147" hR="147" stAng="5400000" swAng="-5400000"/>
                      <a:lnTo>
                        <a:pt x="21600" y="147"/>
                      </a:lnTo>
                      <a:arcTo wR="147" hR="147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754880" y="3890880"/>
                  <a:ext cx="237600" cy="336600"/>
                </a:xfrm>
                <a:custGeom>
                  <a:avLst/>
                  <a:gdLst>
                    <a:gd name="textAreaLeft" fmla="*/ 360 w 237600"/>
                    <a:gd name="textAreaRight" fmla="*/ 237240 w 237600"/>
                    <a:gd name="textAreaTop" fmla="*/ 360 h 336600"/>
                    <a:gd name="textAreaBottom" fmla="*/ 336240 h 336600"/>
                  </a:gdLst>
                  <a:ahLst/>
                  <a:rect l="textAreaLeft" t="textAreaTop" r="textAreaRight" b="textAreaBottom"/>
                  <a:pathLst>
                    <a:path w="21600" h="30586">
                      <a:moveTo>
                        <a:pt x="144" y="0"/>
                      </a:moveTo>
                      <a:arcTo wR="144" hR="144" stAng="16200000" swAng="-5400000"/>
                      <a:lnTo>
                        <a:pt x="0" y="30442"/>
                      </a:lnTo>
                      <a:arcTo wR="144" hR="144" stAng="10800000" swAng="-5400000"/>
                      <a:lnTo>
                        <a:pt x="21456" y="30586"/>
                      </a:lnTo>
                      <a:arcTo wR="144" hR="144" stAng="5400000" swAng="-5400000"/>
                      <a:lnTo>
                        <a:pt x="21600" y="144"/>
                      </a:lnTo>
                      <a:arcTo wR="144" hR="144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24480" y="4238640"/>
                  <a:ext cx="203040" cy="312840"/>
                </a:xfrm>
                <a:custGeom>
                  <a:avLst/>
                  <a:gdLst>
                    <a:gd name="textAreaLeft" fmla="*/ 360 w 203040"/>
                    <a:gd name="textAreaRight" fmla="*/ 202680 w 203040"/>
                    <a:gd name="textAreaTop" fmla="*/ 360 h 312840"/>
                    <a:gd name="textAreaBottom" fmla="*/ 312480 h 312840"/>
                  </a:gdLst>
                  <a:ahLst/>
                  <a:rect l="textAreaLeft" t="textAreaTop" r="textAreaRight" b="textAreaBottom"/>
                  <a:pathLst>
                    <a:path w="21600" h="33260">
                      <a:moveTo>
                        <a:pt x="168" y="0"/>
                      </a:moveTo>
                      <a:arcTo wR="168" hR="168" stAng="16200000" swAng="-5400000"/>
                      <a:lnTo>
                        <a:pt x="0" y="33092"/>
                      </a:lnTo>
                      <a:arcTo wR="168" hR="168" stAng="10800000" swAng="-5400000"/>
                      <a:lnTo>
                        <a:pt x="21432" y="33260"/>
                      </a:lnTo>
                      <a:arcTo wR="168" hR="168" stAng="5400000" swAng="-5400000"/>
                      <a:lnTo>
                        <a:pt x="21600" y="168"/>
                      </a:lnTo>
                      <a:arcTo wR="168" hR="168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22200" y="4754520"/>
                  <a:ext cx="121680" cy="428760"/>
                </a:xfrm>
                <a:custGeom>
                  <a:avLst/>
                  <a:gdLst>
                    <a:gd name="textAreaLeft" fmla="*/ 360 w 121680"/>
                    <a:gd name="textAreaRight" fmla="*/ 121320 w 121680"/>
                    <a:gd name="textAreaTop" fmla="*/ 360 h 428760"/>
                    <a:gd name="textAreaBottom" fmla="*/ 428400 h 428760"/>
                  </a:gdLst>
                  <a:ahLst/>
                  <a:rect l="textAreaLeft" t="textAreaTop" r="textAreaRight" b="textAreaBottom"/>
                  <a:pathLst>
                    <a:path w="21600" h="75950">
                      <a:moveTo>
                        <a:pt x="276" y="0"/>
                      </a:moveTo>
                      <a:arcTo wR="276" hR="276" stAng="16200000" swAng="-5400000"/>
                      <a:lnTo>
                        <a:pt x="0" y="75674"/>
                      </a:lnTo>
                      <a:arcTo wR="276" hR="276" stAng="10800000" swAng="-5400000"/>
                      <a:lnTo>
                        <a:pt x="21324" y="75950"/>
                      </a:lnTo>
                      <a:arcTo wR="276" hR="276" stAng="5400000" swAng="-5400000"/>
                      <a:lnTo>
                        <a:pt x="21600" y="276"/>
                      </a:lnTo>
                      <a:arcTo wR="276" hR="276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685600" y="5024520"/>
                  <a:ext cx="125280" cy="401400"/>
                </a:xfrm>
                <a:custGeom>
                  <a:avLst/>
                  <a:gdLst>
                    <a:gd name="textAreaLeft" fmla="*/ 360 w 125280"/>
                    <a:gd name="textAreaRight" fmla="*/ 124920 w 125280"/>
                    <a:gd name="textAreaTop" fmla="*/ 360 h 401400"/>
                    <a:gd name="textAreaBottom" fmla="*/ 401040 h 401400"/>
                  </a:gdLst>
                  <a:ahLst/>
                  <a:rect l="textAreaLeft" t="textAreaTop" r="textAreaRight" b="textAreaBottom"/>
                  <a:pathLst>
                    <a:path w="21600" h="69070">
                      <a:moveTo>
                        <a:pt x="270" y="0"/>
                      </a:moveTo>
                      <a:arcTo wR="270" hR="270" stAng="16200000" swAng="-5400000"/>
                      <a:lnTo>
                        <a:pt x="0" y="68800"/>
                      </a:lnTo>
                      <a:arcTo wR="270" hR="270" stAng="10800000" swAng="-5400000"/>
                      <a:lnTo>
                        <a:pt x="21330" y="69070"/>
                      </a:lnTo>
                      <a:arcTo wR="270" hR="270" stAng="5400000" swAng="-5400000"/>
                      <a:lnTo>
                        <a:pt x="21600" y="270"/>
                      </a:lnTo>
                      <a:arcTo wR="270" hR="270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6200" y="5102280"/>
                  <a:ext cx="109080" cy="404640"/>
                </a:xfrm>
                <a:custGeom>
                  <a:avLst/>
                  <a:gdLst>
                    <a:gd name="textAreaLeft" fmla="*/ 360 w 109080"/>
                    <a:gd name="textAreaRight" fmla="*/ 108720 w 109080"/>
                    <a:gd name="textAreaTop" fmla="*/ 360 h 404640"/>
                    <a:gd name="textAreaBottom" fmla="*/ 404280 h 404640"/>
                  </a:gdLst>
                  <a:ahLst/>
                  <a:rect l="textAreaLeft" t="textAreaTop" r="textAreaRight" b="textAreaBottom"/>
                  <a:pathLst>
                    <a:path w="21600" h="79934">
                      <a:moveTo>
                        <a:pt x="308" y="0"/>
                      </a:moveTo>
                      <a:arcTo wR="308" hR="308" stAng="16200000" swAng="-5400000"/>
                      <a:lnTo>
                        <a:pt x="0" y="79626"/>
                      </a:lnTo>
                      <a:arcTo wR="308" hR="308" stAng="10800000" swAng="-5400000"/>
                      <a:lnTo>
                        <a:pt x="21292" y="79934"/>
                      </a:lnTo>
                      <a:arcTo wR="308" hR="308" stAng="5400000" swAng="-5400000"/>
                      <a:lnTo>
                        <a:pt x="21600" y="308"/>
                      </a:lnTo>
                      <a:arcTo wR="308" hR="308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761000" y="4933800"/>
                  <a:ext cx="134640" cy="490680"/>
                </a:xfrm>
                <a:custGeom>
                  <a:avLst/>
                  <a:gdLst>
                    <a:gd name="textAreaLeft" fmla="*/ 360 w 134640"/>
                    <a:gd name="textAreaRight" fmla="*/ 134280 w 134640"/>
                    <a:gd name="textAreaTop" fmla="*/ 360 h 490680"/>
                    <a:gd name="textAreaBottom" fmla="*/ 490320 h 490680"/>
                  </a:gdLst>
                  <a:ahLst/>
                  <a:rect l="textAreaLeft" t="textAreaTop" r="textAreaRight" b="textAreaBottom"/>
                  <a:pathLst>
                    <a:path w="21600" h="78566">
                      <a:moveTo>
                        <a:pt x="251" y="0"/>
                      </a:moveTo>
                      <a:arcTo wR="251" hR="251" stAng="16200000" swAng="-5400000"/>
                      <a:lnTo>
                        <a:pt x="0" y="78315"/>
                      </a:lnTo>
                      <a:arcTo wR="251" hR="251" stAng="10800000" swAng="-5400000"/>
                      <a:lnTo>
                        <a:pt x="21349" y="78566"/>
                      </a:lnTo>
                      <a:arcTo wR="251" hR="251" stAng="5400000" swAng="-5400000"/>
                      <a:lnTo>
                        <a:pt x="21600" y="251"/>
                      </a:lnTo>
                      <a:arcTo wR="251" hR="251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384880" y="4651200"/>
                  <a:ext cx="155160" cy="435240"/>
                </a:xfrm>
                <a:custGeom>
                  <a:avLst/>
                  <a:gdLst>
                    <a:gd name="textAreaLeft" fmla="*/ 360 w 155160"/>
                    <a:gd name="textAreaRight" fmla="*/ 154800 w 155160"/>
                    <a:gd name="textAreaTop" fmla="*/ 360 h 435240"/>
                    <a:gd name="textAreaBottom" fmla="*/ 434880 h 435240"/>
                  </a:gdLst>
                  <a:ahLst/>
                  <a:rect l="textAreaLeft" t="textAreaTop" r="textAreaRight" b="textAreaBottom"/>
                  <a:pathLst>
                    <a:path w="21600" h="60500">
                      <a:moveTo>
                        <a:pt x="220" y="0"/>
                      </a:moveTo>
                      <a:arcTo wR="220" hR="220" stAng="16200000" swAng="-5400000"/>
                      <a:lnTo>
                        <a:pt x="0" y="60280"/>
                      </a:lnTo>
                      <a:arcTo wR="220" hR="220" stAng="10800000" swAng="-5400000"/>
                      <a:lnTo>
                        <a:pt x="21380" y="60500"/>
                      </a:lnTo>
                      <a:arcTo wR="220" hR="220" stAng="5400000" swAng="-5400000"/>
                      <a:lnTo>
                        <a:pt x="21600" y="220"/>
                      </a:lnTo>
                      <a:arcTo wR="220" hR="220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94560" y="5075280"/>
                  <a:ext cx="128160" cy="423720"/>
                </a:xfrm>
                <a:custGeom>
                  <a:avLst/>
                  <a:gdLst>
                    <a:gd name="textAreaLeft" fmla="*/ 360 w 128160"/>
                    <a:gd name="textAreaRight" fmla="*/ 127800 w 128160"/>
                    <a:gd name="textAreaTop" fmla="*/ 360 h 423720"/>
                    <a:gd name="textAreaBottom" fmla="*/ 423360 h 423720"/>
                  </a:gdLst>
                  <a:ahLst/>
                  <a:rect l="textAreaLeft" t="textAreaTop" r="textAreaRight" b="textAreaBottom"/>
                  <a:pathLst>
                    <a:path w="21600" h="71274">
                      <a:moveTo>
                        <a:pt x="263" y="0"/>
                      </a:moveTo>
                      <a:arcTo wR="263" hR="263" stAng="16200000" swAng="-5400000"/>
                      <a:lnTo>
                        <a:pt x="0" y="71011"/>
                      </a:lnTo>
                      <a:arcTo wR="263" hR="263" stAng="10800000" swAng="-5400000"/>
                      <a:lnTo>
                        <a:pt x="21337" y="71274"/>
                      </a:lnTo>
                      <a:arcTo wR="263" hR="263" stAng="5400000" swAng="-5400000"/>
                      <a:lnTo>
                        <a:pt x="21600" y="263"/>
                      </a:lnTo>
                      <a:arcTo wR="263" hR="263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 flipV="1">
                <a:off x="7238880" y="412272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7728120" y="3897360"/>
            <a:ext cx="30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15160" y="4626000"/>
            <a:ext cx="30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84080" y="3292560"/>
            <a:ext cx="509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78120" y="533160"/>
            <a:ext cx="569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quilibrio  fuerte de una reg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676520"/>
            <a:ext cx="6094440" cy="406224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7400" y="1784160"/>
            <a:ext cx="48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31400" y="4946400"/>
            <a:ext cx="43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3279600"/>
            <a:ext cx="3801960" cy="1389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1200" y="4670280"/>
            <a:ext cx="28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1200" y="3279600"/>
            <a:ext cx="28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2560" y="443880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6160" y="459432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4600" y="459432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70280" y="436104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63880" y="335772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57440" y="3279600"/>
            <a:ext cx="684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4440" y="3279600"/>
            <a:ext cx="684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70280" y="351144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898800"/>
            <a:ext cx="1396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2720" y="3898800"/>
            <a:ext cx="1396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78360" y="426420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21320" y="3298680"/>
            <a:ext cx="1427040" cy="744840"/>
          </a:xfrm>
          <a:custGeom>
            <a:avLst/>
            <a:gdLst/>
            <a:ahLst/>
            <a:rect l="l" t="t" r="r" b="b"/>
            <a:pathLst>
              <a:path w="3970" h="2074">
                <a:moveTo>
                  <a:pt x="0" y="2073"/>
                </a:moveTo>
                <a:cubicBezTo>
                  <a:pt x="373" y="1924"/>
                  <a:pt x="731" y="1564"/>
                  <a:pt x="1129" y="1683"/>
                </a:cubicBezTo>
                <a:cubicBezTo>
                  <a:pt x="1526" y="1801"/>
                  <a:pt x="1916" y="1540"/>
                  <a:pt x="2294" y="1359"/>
                </a:cubicBezTo>
                <a:cubicBezTo>
                  <a:pt x="2718" y="1156"/>
                  <a:pt x="3201" y="991"/>
                  <a:pt x="3459" y="259"/>
                </a:cubicBezTo>
                <a:lnTo>
                  <a:pt x="3823" y="63"/>
                </a:lnTo>
                <a:lnTo>
                  <a:pt x="39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53200" y="3235320"/>
            <a:ext cx="1698480" cy="639720"/>
          </a:xfrm>
          <a:custGeom>
            <a:avLst/>
            <a:gdLst/>
            <a:ahLst/>
            <a:rect l="l" t="t" r="r" b="b"/>
            <a:pathLst>
              <a:path w="4721" h="1783">
                <a:moveTo>
                  <a:pt x="0" y="0"/>
                </a:moveTo>
                <a:cubicBezTo>
                  <a:pt x="126" y="446"/>
                  <a:pt x="601" y="598"/>
                  <a:pt x="1001" y="715"/>
                </a:cubicBezTo>
                <a:cubicBezTo>
                  <a:pt x="1381" y="826"/>
                  <a:pt x="1721" y="1060"/>
                  <a:pt x="2110" y="1144"/>
                </a:cubicBezTo>
                <a:cubicBezTo>
                  <a:pt x="2482" y="1224"/>
                  <a:pt x="2995" y="864"/>
                  <a:pt x="3254" y="1144"/>
                </a:cubicBezTo>
                <a:cubicBezTo>
                  <a:pt x="3565" y="1481"/>
                  <a:pt x="3844" y="1782"/>
                  <a:pt x="4219" y="1645"/>
                </a:cubicBezTo>
                <a:lnTo>
                  <a:pt x="4577" y="1680"/>
                </a:lnTo>
                <a:lnTo>
                  <a:pt x="4720" y="1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21160" y="433404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as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33360" y="2424240"/>
            <a:ext cx="4543560" cy="2263680"/>
            <a:chOff x="1233360" y="2424240"/>
            <a:chExt cx="4543560" cy="2263680"/>
          </a:xfrm>
        </p:grpSpPr>
        <p:sp>
          <p:nvSpPr>
            <p:cNvPr id="174" name=""/>
            <p:cNvSpPr/>
            <p:nvPr/>
          </p:nvSpPr>
          <p:spPr>
            <a:xfrm flipV="1">
              <a:off x="5776920" y="3273120"/>
              <a:ext cx="0" cy="10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233360" y="2424240"/>
              <a:ext cx="3716280" cy="2263680"/>
              <a:chOff x="1233360" y="2424240"/>
              <a:chExt cx="3716280" cy="2263680"/>
            </a:xfrm>
          </p:grpSpPr>
          <p:sp>
            <p:nvSpPr>
              <p:cNvPr id="176" name=""/>
              <p:cNvSpPr/>
              <p:nvPr/>
            </p:nvSpPr>
            <p:spPr>
              <a:xfrm>
                <a:off x="1233360" y="2657520"/>
                <a:ext cx="302760" cy="938160"/>
              </a:xfrm>
              <a:custGeom>
                <a:avLst/>
                <a:gdLst>
                  <a:gd name="textAreaLeft" fmla="*/ 360 w 302760"/>
                  <a:gd name="textAreaRight" fmla="*/ 302400 w 302760"/>
                  <a:gd name="textAreaTop" fmla="*/ 360 h 938160"/>
                  <a:gd name="textAreaBottom" fmla="*/ 937800 h 938160"/>
                </a:gdLst>
                <a:ahLst/>
                <a:rect l="textAreaLeft" t="textAreaTop" r="textAreaRight" b="textAreaBottom"/>
                <a:pathLst>
                  <a:path w="21600" h="66878">
                    <a:moveTo>
                      <a:pt x="112" y="0"/>
                    </a:moveTo>
                    <a:arcTo wR="112" hR="112" stAng="16200000" swAng="-5400000"/>
                    <a:lnTo>
                      <a:pt x="0" y="66766"/>
                    </a:lnTo>
                    <a:arcTo wR="112" hR="112" stAng="10800000" swAng="-5400000"/>
                    <a:lnTo>
                      <a:pt x="21488" y="66878"/>
                    </a:lnTo>
                    <a:arcTo wR="112" hR="112" stAng="5400000" swAng="-5400000"/>
                    <a:lnTo>
                      <a:pt x="21600" y="112"/>
                    </a:lnTo>
                    <a:arcTo wR="112" hR="11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44160" y="2544840"/>
                <a:ext cx="277560" cy="784440"/>
              </a:xfrm>
              <a:custGeom>
                <a:avLst/>
                <a:gdLst>
                  <a:gd name="textAreaLeft" fmla="*/ 360 w 277560"/>
                  <a:gd name="textAreaRight" fmla="*/ 277200 w 277560"/>
                  <a:gd name="textAreaTop" fmla="*/ 360 h 784440"/>
                  <a:gd name="textAreaBottom" fmla="*/ 784080 h 784440"/>
                </a:gdLst>
                <a:ahLst/>
                <a:rect l="textAreaLeft" t="textAreaTop" r="textAreaRight" b="textAreaBottom"/>
                <a:pathLst>
                  <a:path w="21600" h="60995">
                    <a:moveTo>
                      <a:pt x="122" y="0"/>
                    </a:moveTo>
                    <a:arcTo wR="122" hR="122" stAng="16200000" swAng="-5400000"/>
                    <a:lnTo>
                      <a:pt x="0" y="60873"/>
                    </a:lnTo>
                    <a:arcTo wR="122" hR="122" stAng="10800000" swAng="-5400000"/>
                    <a:lnTo>
                      <a:pt x="21478" y="60995"/>
                    </a:lnTo>
                    <a:arcTo wR="122" hR="122" stAng="5400000" swAng="-5400000"/>
                    <a:lnTo>
                      <a:pt x="21600" y="122"/>
                    </a:lnTo>
                    <a:arcTo wR="122" hR="12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32760" y="2584440"/>
                <a:ext cx="257040" cy="660600"/>
              </a:xfrm>
              <a:custGeom>
                <a:avLst/>
                <a:gdLst>
                  <a:gd name="textAreaLeft" fmla="*/ 360 w 257040"/>
                  <a:gd name="textAreaRight" fmla="*/ 256680 w 257040"/>
                  <a:gd name="textAreaTop" fmla="*/ 360 h 660600"/>
                  <a:gd name="textAreaBottom" fmla="*/ 660240 h 660600"/>
                </a:gdLst>
                <a:ahLst/>
                <a:rect l="textAreaLeft" t="textAreaTop" r="textAreaRight" b="textAreaBottom"/>
                <a:pathLst>
                  <a:path w="21600" h="55465">
                    <a:moveTo>
                      <a:pt x="133" y="0"/>
                    </a:moveTo>
                    <a:arcTo wR="133" hR="133" stAng="16200000" swAng="-5400000"/>
                    <a:lnTo>
                      <a:pt x="0" y="55332"/>
                    </a:lnTo>
                    <a:arcTo wR="133" hR="133" stAng="10800000" swAng="-5400000"/>
                    <a:lnTo>
                      <a:pt x="21467" y="55465"/>
                    </a:lnTo>
                    <a:arcTo wR="133" hR="133" stAng="5400000" swAng="-5400000"/>
                    <a:lnTo>
                      <a:pt x="21600" y="133"/>
                    </a:lnTo>
                    <a:arcTo wR="133" hR="13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04160" y="2424240"/>
                <a:ext cx="231120" cy="819000"/>
              </a:xfrm>
              <a:custGeom>
                <a:avLst/>
                <a:gdLst>
                  <a:gd name="textAreaLeft" fmla="*/ 360 w 231120"/>
                  <a:gd name="textAreaRight" fmla="*/ 230760 w 231120"/>
                  <a:gd name="textAreaTop" fmla="*/ 360 h 819000"/>
                  <a:gd name="textAreaBottom" fmla="*/ 818640 h 819000"/>
                </a:gdLst>
                <a:ahLst/>
                <a:rect l="textAreaLeft" t="textAreaTop" r="textAreaRight" b="textAreaBottom"/>
                <a:pathLst>
                  <a:path w="21600" h="76457">
                    <a:moveTo>
                      <a:pt x="147" y="0"/>
                    </a:moveTo>
                    <a:arcTo wR="147" hR="147" stAng="16200000" swAng="-5400000"/>
                    <a:lnTo>
                      <a:pt x="0" y="76310"/>
                    </a:lnTo>
                    <a:arcTo wR="147" hR="147" stAng="10800000" swAng="-5400000"/>
                    <a:lnTo>
                      <a:pt x="21453" y="76457"/>
                    </a:lnTo>
                    <a:arcTo wR="147" hR="147" stAng="5400000" swAng="-5400000"/>
                    <a:lnTo>
                      <a:pt x="21600" y="147"/>
                    </a:lnTo>
                    <a:arcTo wR="147" hR="147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00400" y="2745000"/>
                <a:ext cx="212400" cy="615960"/>
              </a:xfrm>
              <a:custGeom>
                <a:avLst/>
                <a:gdLst>
                  <a:gd name="textAreaLeft" fmla="*/ 360 w 212400"/>
                  <a:gd name="textAreaRight" fmla="*/ 212040 w 212400"/>
                  <a:gd name="textAreaTop" fmla="*/ 360 h 615960"/>
                  <a:gd name="textAreaBottom" fmla="*/ 615600 h 615960"/>
                </a:gdLst>
                <a:ahLst/>
                <a:rect l="textAreaLeft" t="textAreaTop" r="textAreaRight" b="textAreaBottom"/>
                <a:pathLst>
                  <a:path w="21600" h="62571">
                    <a:moveTo>
                      <a:pt x="161" y="0"/>
                    </a:moveTo>
                    <a:arcTo wR="161" hR="161" stAng="16200000" swAng="-5400000"/>
                    <a:lnTo>
                      <a:pt x="0" y="62410"/>
                    </a:lnTo>
                    <a:arcTo wR="161" hR="161" stAng="10800000" swAng="-5400000"/>
                    <a:lnTo>
                      <a:pt x="21439" y="62571"/>
                    </a:lnTo>
                    <a:arcTo wR="161" hR="161" stAng="5400000" swAng="-5400000"/>
                    <a:lnTo>
                      <a:pt x="21600" y="161"/>
                    </a:lnTo>
                    <a:arcTo wR="161" hR="161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32200" y="3132360"/>
                <a:ext cx="217440" cy="565200"/>
              </a:xfrm>
              <a:custGeom>
                <a:avLst/>
                <a:gdLst>
                  <a:gd name="textAreaLeft" fmla="*/ 360 w 217440"/>
                  <a:gd name="textAreaRight" fmla="*/ 217080 w 217440"/>
                  <a:gd name="textAreaTop" fmla="*/ 360 h 565200"/>
                  <a:gd name="textAreaBottom" fmla="*/ 564840 h 565200"/>
                </a:gdLst>
                <a:ahLst/>
                <a:rect l="textAreaLeft" t="textAreaTop" r="textAreaRight" b="textAreaBottom"/>
                <a:pathLst>
                  <a:path w="21600" h="56089">
                    <a:moveTo>
                      <a:pt x="156" y="0"/>
                    </a:moveTo>
                    <a:arcTo wR="156" hR="156" stAng="16200000" swAng="-5400000"/>
                    <a:lnTo>
                      <a:pt x="0" y="55933"/>
                    </a:lnTo>
                    <a:arcTo wR="156" hR="156" stAng="10800000" swAng="-5400000"/>
                    <a:lnTo>
                      <a:pt x="21444" y="56089"/>
                    </a:lnTo>
                    <a:arcTo wR="156" hR="156" stAng="5400000" swAng="-5400000"/>
                    <a:lnTo>
                      <a:pt x="21600" y="156"/>
                    </a:lnTo>
                    <a:arcTo wR="156" hR="156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34600" y="4133880"/>
                <a:ext cx="128160" cy="217440"/>
              </a:xfrm>
              <a:custGeom>
                <a:avLst/>
                <a:gdLst>
                  <a:gd name="textAreaLeft" fmla="*/ 360 w 128160"/>
                  <a:gd name="textAreaRight" fmla="*/ 127800 w 128160"/>
                  <a:gd name="textAreaTop" fmla="*/ 360 h 217440"/>
                  <a:gd name="textAreaBottom" fmla="*/ 217080 h 217440"/>
                </a:gdLst>
                <a:ahLst/>
                <a:rect l="textAreaLeft" t="textAreaTop" r="textAreaRight" b="textAreaBottom"/>
                <a:pathLst>
                  <a:path w="21600" h="36605">
                    <a:moveTo>
                      <a:pt x="263" y="0"/>
                    </a:moveTo>
                    <a:arcTo wR="263" hR="263" stAng="16200000" swAng="-5400000"/>
                    <a:lnTo>
                      <a:pt x="0" y="36342"/>
                    </a:lnTo>
                    <a:arcTo wR="263" hR="263" stAng="10800000" swAng="-5400000"/>
                    <a:lnTo>
                      <a:pt x="21337" y="36605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99800" y="4319640"/>
                <a:ext cx="128160" cy="284400"/>
              </a:xfrm>
              <a:custGeom>
                <a:avLst/>
                <a:gdLst>
                  <a:gd name="textAreaLeft" fmla="*/ 360 w 128160"/>
                  <a:gd name="textAreaRight" fmla="*/ 127800 w 128160"/>
                  <a:gd name="textAreaTop" fmla="*/ 360 h 284400"/>
                  <a:gd name="textAreaBottom" fmla="*/ 284040 h 284400"/>
                </a:gdLst>
                <a:ahLst/>
                <a:rect l="textAreaLeft" t="textAreaTop" r="textAreaRight" b="textAreaBottom"/>
                <a:pathLst>
                  <a:path w="21600" h="47859">
                    <a:moveTo>
                      <a:pt x="263" y="0"/>
                    </a:moveTo>
                    <a:arcTo wR="263" hR="263" stAng="16200000" swAng="-5400000"/>
                    <a:lnTo>
                      <a:pt x="0" y="47596"/>
                    </a:lnTo>
                    <a:arcTo wR="263" hR="263" stAng="10800000" swAng="-5400000"/>
                    <a:lnTo>
                      <a:pt x="21337" y="47859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51840" y="4437360"/>
                <a:ext cx="114120" cy="25056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50560"/>
                  <a:gd name="textAreaBottom" fmla="*/ 250200 h 250560"/>
                </a:gdLst>
                <a:ahLst/>
                <a:rect l="textAreaLeft" t="textAreaTop" r="textAreaRight" b="textAreaBottom"/>
                <a:pathLst>
                  <a:path w="21600" h="47343">
                    <a:moveTo>
                      <a:pt x="300" y="0"/>
                    </a:moveTo>
                    <a:arcTo wR="300" hR="300" stAng="16200000" swAng="-5400000"/>
                    <a:lnTo>
                      <a:pt x="0" y="47043"/>
                    </a:lnTo>
                    <a:arcTo wR="300" hR="300" stAng="10800000" swAng="-5400000"/>
                    <a:lnTo>
                      <a:pt x="21300" y="47343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054680" y="4353120"/>
                <a:ext cx="113760" cy="250920"/>
              </a:xfrm>
              <a:custGeom>
                <a:avLst/>
                <a:gdLst>
                  <a:gd name="textAreaLeft" fmla="*/ 360 w 113760"/>
                  <a:gd name="textAreaRight" fmla="*/ 113400 w 113760"/>
                  <a:gd name="textAreaTop" fmla="*/ 360 h 250920"/>
                  <a:gd name="textAreaBottom" fmla="*/ 250560 h 250920"/>
                </a:gdLst>
                <a:ahLst/>
                <a:rect l="textAreaLeft" t="textAreaTop" r="textAreaRight" b="textAreaBottom"/>
                <a:pathLst>
                  <a:path w="21600" h="47561">
                    <a:moveTo>
                      <a:pt x="300" y="0"/>
                    </a:moveTo>
                    <a:arcTo wR="300" hR="300" stAng="16200000" swAng="-5400000"/>
                    <a:lnTo>
                      <a:pt x="0" y="47261"/>
                    </a:lnTo>
                    <a:arcTo wR="300" hR="300" stAng="10800000" swAng="-5400000"/>
                    <a:lnTo>
                      <a:pt x="21300" y="47561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48400" y="4067280"/>
                <a:ext cx="113760" cy="184320"/>
              </a:xfrm>
              <a:custGeom>
                <a:avLst/>
                <a:gdLst>
                  <a:gd name="textAreaLeft" fmla="*/ 360 w 113760"/>
                  <a:gd name="textAreaRight" fmla="*/ 113400 w 113760"/>
                  <a:gd name="textAreaTop" fmla="*/ 360 h 184320"/>
                  <a:gd name="textAreaBottom" fmla="*/ 183960 h 184320"/>
                </a:gdLst>
                <a:ahLst/>
                <a:rect l="textAreaLeft" t="textAreaTop" r="textAreaRight" b="textAreaBottom"/>
                <a:pathLst>
                  <a:path w="21600" h="34955">
                    <a:moveTo>
                      <a:pt x="300" y="0"/>
                    </a:moveTo>
                    <a:arcTo wR="300" hR="300" stAng="16200000" swAng="-5400000"/>
                    <a:lnTo>
                      <a:pt x="0" y="34655"/>
                    </a:lnTo>
                    <a:arcTo wR="300" hR="300" stAng="10800000" swAng="-5400000"/>
                    <a:lnTo>
                      <a:pt x="21300" y="34955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13440" y="4503960"/>
                <a:ext cx="77400" cy="176040"/>
              </a:xfrm>
              <a:custGeom>
                <a:avLst/>
                <a:gdLst>
                  <a:gd name="textAreaLeft" fmla="*/ 360 w 77400"/>
                  <a:gd name="textAreaRight" fmla="*/ 77040 w 77400"/>
                  <a:gd name="textAreaTop" fmla="*/ 360 h 176040"/>
                  <a:gd name="textAreaBottom" fmla="*/ 175680 h 176040"/>
                </a:gdLst>
                <a:ahLst/>
                <a:rect l="textAreaLeft" t="textAreaTop" r="textAreaRight" b="textAreaBottom"/>
                <a:pathLst>
                  <a:path w="21600" h="49000">
                    <a:moveTo>
                      <a:pt x="432" y="0"/>
                    </a:moveTo>
                    <a:arcTo wR="432" hR="432" stAng="16200000" swAng="-5400000"/>
                    <a:lnTo>
                      <a:pt x="0" y="48568"/>
                    </a:lnTo>
                    <a:arcTo wR="432" hR="432" stAng="10800000" swAng="-5400000"/>
                    <a:lnTo>
                      <a:pt x="21168" y="49000"/>
                    </a:lnTo>
                    <a:arcTo wR="432" hR="432" stAng="5400000" swAng="-5400000"/>
                    <a:lnTo>
                      <a:pt x="21600" y="432"/>
                    </a:lnTo>
                    <a:arcTo wR="432" hR="43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233360" y="2862360"/>
            <a:ext cx="5319720" cy="1833480"/>
            <a:chOff x="1233360" y="2862360"/>
            <a:chExt cx="5319720" cy="1833480"/>
          </a:xfrm>
        </p:grpSpPr>
        <p:grpSp>
          <p:nvGrpSpPr>
            <p:cNvPr id="189" name=""/>
            <p:cNvGrpSpPr/>
            <p:nvPr/>
          </p:nvGrpSpPr>
          <p:grpSpPr>
            <a:xfrm>
              <a:off x="1233360" y="2862360"/>
              <a:ext cx="3730680" cy="1833480"/>
              <a:chOff x="1233360" y="2862360"/>
              <a:chExt cx="3730680" cy="1833480"/>
            </a:xfrm>
          </p:grpSpPr>
          <p:sp>
            <p:nvSpPr>
              <p:cNvPr id="190" name=""/>
              <p:cNvSpPr/>
              <p:nvPr/>
            </p:nvSpPr>
            <p:spPr>
              <a:xfrm>
                <a:off x="1233360" y="3170520"/>
                <a:ext cx="324000" cy="473040"/>
              </a:xfrm>
              <a:custGeom>
                <a:avLst/>
                <a:gdLst>
                  <a:gd name="textAreaLeft" fmla="*/ 360 w 324000"/>
                  <a:gd name="textAreaRight" fmla="*/ 323640 w 324000"/>
                  <a:gd name="textAreaTop" fmla="*/ 360 h 473040"/>
                  <a:gd name="textAreaBottom" fmla="*/ 472680 h 473040"/>
                </a:gdLst>
                <a:ahLst/>
                <a:rect l="textAreaLeft" t="textAreaTop" r="textAreaRight" b="textAreaBottom"/>
                <a:pathLst>
                  <a:path w="21600" h="31525">
                    <a:moveTo>
                      <a:pt x="105" y="0"/>
                    </a:moveTo>
                    <a:arcTo wR="105" hR="105" stAng="16200000" swAng="-5400000"/>
                    <a:lnTo>
                      <a:pt x="0" y="31420"/>
                    </a:lnTo>
                    <a:arcTo wR="105" hR="105" stAng="10800000" swAng="-5400000"/>
                    <a:lnTo>
                      <a:pt x="21495" y="31525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47760" y="2874960"/>
                <a:ext cx="295200" cy="509760"/>
              </a:xfrm>
              <a:custGeom>
                <a:avLst/>
                <a:gdLst>
                  <a:gd name="textAreaLeft" fmla="*/ 360 w 295200"/>
                  <a:gd name="textAreaRight" fmla="*/ 294840 w 295200"/>
                  <a:gd name="textAreaTop" fmla="*/ 360 h 509760"/>
                  <a:gd name="textAreaBottom" fmla="*/ 509400 h 509760"/>
                </a:gdLst>
                <a:ahLst/>
                <a:rect l="textAreaLeft" t="textAreaTop" r="textAreaRight" b="textAreaBottom"/>
                <a:pathLst>
                  <a:path w="21600" h="37280">
                    <a:moveTo>
                      <a:pt x="116" y="0"/>
                    </a:moveTo>
                    <a:arcTo wR="116" hR="116" stAng="16200000" swAng="-5400000"/>
                    <a:lnTo>
                      <a:pt x="0" y="37164"/>
                    </a:lnTo>
                    <a:arcTo wR="116" hR="116" stAng="10800000" swAng="-5400000"/>
                    <a:lnTo>
                      <a:pt x="21484" y="37280"/>
                    </a:lnTo>
                    <a:arcTo wR="116" hR="116" stAng="5400000" swAng="-5400000"/>
                    <a:lnTo>
                      <a:pt x="21600" y="116"/>
                    </a:lnTo>
                    <a:arcTo wR="116" hR="116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8120" y="2938680"/>
                <a:ext cx="230040" cy="365040"/>
              </a:xfrm>
              <a:custGeom>
                <a:avLst/>
                <a:gdLst>
                  <a:gd name="textAreaLeft" fmla="*/ 360 w 230040"/>
                  <a:gd name="textAreaRight" fmla="*/ 229680 w 230040"/>
                  <a:gd name="textAreaTop" fmla="*/ 360 h 365040"/>
                  <a:gd name="textAreaBottom" fmla="*/ 364680 h 365040"/>
                </a:gdLst>
                <a:ahLst/>
                <a:rect l="textAreaLeft" t="textAreaTop" r="textAreaRight" b="textAreaBottom"/>
                <a:pathLst>
                  <a:path w="21600" h="34256">
                    <a:moveTo>
                      <a:pt x="147" y="0"/>
                    </a:moveTo>
                    <a:arcTo wR="147" hR="147" stAng="16200000" swAng="-5400000"/>
                    <a:lnTo>
                      <a:pt x="0" y="34109"/>
                    </a:lnTo>
                    <a:arcTo wR="147" hR="147" stAng="10800000" swAng="-5400000"/>
                    <a:lnTo>
                      <a:pt x="21453" y="34256"/>
                    </a:lnTo>
                    <a:arcTo wR="147" hR="147" stAng="5400000" swAng="-5400000"/>
                    <a:lnTo>
                      <a:pt x="21600" y="147"/>
                    </a:lnTo>
                    <a:arcTo wR="147" hR="147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21080" y="2862360"/>
                <a:ext cx="230040" cy="441360"/>
              </a:xfrm>
              <a:custGeom>
                <a:avLst/>
                <a:gdLst>
                  <a:gd name="textAreaLeft" fmla="*/ 360 w 230040"/>
                  <a:gd name="textAreaRight" fmla="*/ 229680 w 230040"/>
                  <a:gd name="textAreaTop" fmla="*/ 360 h 441360"/>
                  <a:gd name="textAreaBottom" fmla="*/ 441000 h 441360"/>
                </a:gdLst>
                <a:ahLst/>
                <a:rect l="textAreaLeft" t="textAreaTop" r="textAreaRight" b="textAreaBottom"/>
                <a:pathLst>
                  <a:path w="21600" h="41411">
                    <a:moveTo>
                      <a:pt x="147" y="0"/>
                    </a:moveTo>
                    <a:arcTo wR="147" hR="147" stAng="16200000" swAng="-5400000"/>
                    <a:lnTo>
                      <a:pt x="0" y="41264"/>
                    </a:lnTo>
                    <a:arcTo wR="147" hR="147" stAng="10800000" swAng="-5400000"/>
                    <a:lnTo>
                      <a:pt x="21453" y="41411"/>
                    </a:lnTo>
                    <a:arcTo wR="147" hR="147" stAng="5400000" swAng="-5400000"/>
                    <a:lnTo>
                      <a:pt x="21600" y="147"/>
                    </a:lnTo>
                    <a:arcTo wR="147" hR="147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91040" y="3079800"/>
                <a:ext cx="237960" cy="336600"/>
              </a:xfrm>
              <a:custGeom>
                <a:avLst/>
                <a:gdLst>
                  <a:gd name="textAreaLeft" fmla="*/ 360 w 237960"/>
                  <a:gd name="textAreaRight" fmla="*/ 237600 w 237960"/>
                  <a:gd name="textAreaTop" fmla="*/ 360 h 336600"/>
                  <a:gd name="textAreaBottom" fmla="*/ 336240 h 336600"/>
                </a:gdLst>
                <a:ahLst/>
                <a:rect l="textAreaLeft" t="textAreaTop" r="textAreaRight" b="textAreaBottom"/>
                <a:pathLst>
                  <a:path w="21600" h="30540">
                    <a:moveTo>
                      <a:pt x="144" y="0"/>
                    </a:moveTo>
                    <a:arcTo wR="144" hR="144" stAng="16200000" swAng="-5400000"/>
                    <a:lnTo>
                      <a:pt x="0" y="30396"/>
                    </a:lnTo>
                    <a:arcTo wR="144" hR="144" stAng="10800000" swAng="-5400000"/>
                    <a:lnTo>
                      <a:pt x="21456" y="30540"/>
                    </a:lnTo>
                    <a:arcTo wR="144" hR="144" stAng="5400000" swAng="-5400000"/>
                    <a:lnTo>
                      <a:pt x="21600" y="144"/>
                    </a:lnTo>
                    <a:arcTo wR="144" hR="144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60640" y="3427560"/>
                <a:ext cx="203400" cy="312840"/>
              </a:xfrm>
              <a:custGeom>
                <a:avLst/>
                <a:gdLst>
                  <a:gd name="textAreaLeft" fmla="*/ 360 w 203400"/>
                  <a:gd name="textAreaRight" fmla="*/ 203040 w 203400"/>
                  <a:gd name="textAreaTop" fmla="*/ 360 h 312840"/>
                  <a:gd name="textAreaBottom" fmla="*/ 312480 h 312840"/>
                </a:gdLst>
                <a:ahLst/>
                <a:rect l="textAreaLeft" t="textAreaTop" r="textAreaRight" b="textAreaBottom"/>
                <a:pathLst>
                  <a:path w="21600" h="33201">
                    <a:moveTo>
                      <a:pt x="168" y="0"/>
                    </a:moveTo>
                    <a:arcTo wR="168" hR="168" stAng="16200000" swAng="-5400000"/>
                    <a:lnTo>
                      <a:pt x="0" y="33033"/>
                    </a:lnTo>
                    <a:arcTo wR="168" hR="168" stAng="10800000" swAng="-5400000"/>
                    <a:lnTo>
                      <a:pt x="21432" y="33201"/>
                    </a:lnTo>
                    <a:arcTo wR="168" hR="168" stAng="5400000" swAng="-5400000"/>
                    <a:lnTo>
                      <a:pt x="21600" y="168"/>
                    </a:lnTo>
                    <a:arcTo wR="168" hR="168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57280" y="3943440"/>
                <a:ext cx="122040" cy="428760"/>
              </a:xfrm>
              <a:custGeom>
                <a:avLst/>
                <a:gdLst>
                  <a:gd name="textAreaLeft" fmla="*/ 360 w 122040"/>
                  <a:gd name="textAreaRight" fmla="*/ 121680 w 122040"/>
                  <a:gd name="textAreaTop" fmla="*/ 360 h 428760"/>
                  <a:gd name="textAreaBottom" fmla="*/ 428400 h 428760"/>
                </a:gdLst>
                <a:ahLst/>
                <a:rect l="textAreaLeft" t="textAreaTop" r="textAreaRight" b="textAreaBottom"/>
                <a:pathLst>
                  <a:path w="21600" h="75727">
                    <a:moveTo>
                      <a:pt x="276" y="0"/>
                    </a:moveTo>
                    <a:arcTo wR="276" hR="276" stAng="16200000" swAng="-5400000"/>
                    <a:lnTo>
                      <a:pt x="0" y="75451"/>
                    </a:lnTo>
                    <a:arcTo wR="276" hR="276" stAng="10800000" swAng="-5400000"/>
                    <a:lnTo>
                      <a:pt x="21324" y="75727"/>
                    </a:lnTo>
                    <a:arcTo wR="276" hR="276" stAng="5400000" swAng="-5400000"/>
                    <a:lnTo>
                      <a:pt x="21600" y="276"/>
                    </a:lnTo>
                    <a:arcTo wR="276" hR="276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20680" y="4213440"/>
                <a:ext cx="125640" cy="401400"/>
              </a:xfrm>
              <a:custGeom>
                <a:avLst/>
                <a:gdLst>
                  <a:gd name="textAreaLeft" fmla="*/ 360 w 125640"/>
                  <a:gd name="textAreaRight" fmla="*/ 125280 w 125640"/>
                  <a:gd name="textAreaTop" fmla="*/ 360 h 401400"/>
                  <a:gd name="textAreaBottom" fmla="*/ 401040 h 401400"/>
                </a:gdLst>
                <a:ahLst/>
                <a:rect l="textAreaLeft" t="textAreaTop" r="textAreaRight" b="textAreaBottom"/>
                <a:pathLst>
                  <a:path w="21600" h="68873">
                    <a:moveTo>
                      <a:pt x="270" y="0"/>
                    </a:moveTo>
                    <a:arcTo wR="270" hR="270" stAng="16200000" swAng="-5400000"/>
                    <a:lnTo>
                      <a:pt x="0" y="68603"/>
                    </a:lnTo>
                    <a:arcTo wR="270" hR="270" stAng="10800000" swAng="-5400000"/>
                    <a:lnTo>
                      <a:pt x="21330" y="68873"/>
                    </a:lnTo>
                    <a:arcTo wR="270" hR="270" stAng="5400000" swAng="-5400000"/>
                    <a:lnTo>
                      <a:pt x="21600" y="270"/>
                    </a:lnTo>
                    <a:arcTo wR="270" hR="270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771640" y="4291200"/>
                <a:ext cx="109440" cy="404640"/>
              </a:xfrm>
              <a:custGeom>
                <a:avLst/>
                <a:gdLst>
                  <a:gd name="textAreaLeft" fmla="*/ 360 w 109440"/>
                  <a:gd name="textAreaRight" fmla="*/ 109080 w 109440"/>
                  <a:gd name="textAreaTop" fmla="*/ 360 h 404640"/>
                  <a:gd name="textAreaBottom" fmla="*/ 404280 h 404640"/>
                </a:gdLst>
                <a:ahLst/>
                <a:rect l="textAreaLeft" t="textAreaTop" r="textAreaRight" b="textAreaBottom"/>
                <a:pathLst>
                  <a:path w="21600" h="79672">
                    <a:moveTo>
                      <a:pt x="308" y="0"/>
                    </a:moveTo>
                    <a:arcTo wR="308" hR="308" stAng="16200000" swAng="-5400000"/>
                    <a:lnTo>
                      <a:pt x="0" y="79364"/>
                    </a:lnTo>
                    <a:arcTo wR="308" hR="308" stAng="10800000" swAng="-5400000"/>
                    <a:lnTo>
                      <a:pt x="21292" y="79672"/>
                    </a:lnTo>
                    <a:arcTo wR="308" hR="308" stAng="5400000" swAng="-5400000"/>
                    <a:lnTo>
                      <a:pt x="21600" y="308"/>
                    </a:lnTo>
                    <a:arcTo wR="308" hR="308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97160" y="4122720"/>
                <a:ext cx="135000" cy="490680"/>
              </a:xfrm>
              <a:custGeom>
                <a:avLst/>
                <a:gdLst>
                  <a:gd name="textAreaLeft" fmla="*/ 360 w 135000"/>
                  <a:gd name="textAreaRight" fmla="*/ 134640 w 135000"/>
                  <a:gd name="textAreaTop" fmla="*/ 360 h 490680"/>
                  <a:gd name="textAreaBottom" fmla="*/ 490320 h 490680"/>
                </a:gdLst>
                <a:ahLst/>
                <a:rect l="textAreaLeft" t="textAreaTop" r="textAreaRight" b="textAreaBottom"/>
                <a:pathLst>
                  <a:path w="21600" h="78357">
                    <a:moveTo>
                      <a:pt x="251" y="0"/>
                    </a:moveTo>
                    <a:arcTo wR="251" hR="251" stAng="16200000" swAng="-5400000"/>
                    <a:lnTo>
                      <a:pt x="0" y="78106"/>
                    </a:lnTo>
                    <a:arcTo wR="251" hR="251" stAng="10800000" swAng="-5400000"/>
                    <a:lnTo>
                      <a:pt x="21349" y="78357"/>
                    </a:lnTo>
                    <a:arcTo wR="251" hR="251" stAng="5400000" swAng="-5400000"/>
                    <a:lnTo>
                      <a:pt x="21600" y="251"/>
                    </a:lnTo>
                    <a:arcTo wR="251" hR="251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21040" y="3840120"/>
                <a:ext cx="155520" cy="435240"/>
              </a:xfrm>
              <a:custGeom>
                <a:avLst/>
                <a:gdLst>
                  <a:gd name="textAreaLeft" fmla="*/ 360 w 155520"/>
                  <a:gd name="textAreaRight" fmla="*/ 155160 w 155520"/>
                  <a:gd name="textAreaTop" fmla="*/ 360 h 435240"/>
                  <a:gd name="textAreaBottom" fmla="*/ 434880 h 435240"/>
                </a:gdLst>
                <a:ahLst/>
                <a:rect l="textAreaLeft" t="textAreaTop" r="textAreaRight" b="textAreaBottom"/>
                <a:pathLst>
                  <a:path w="21600" h="60360">
                    <a:moveTo>
                      <a:pt x="220" y="0"/>
                    </a:moveTo>
                    <a:arcTo wR="220" hR="220" stAng="16200000" swAng="-5400000"/>
                    <a:lnTo>
                      <a:pt x="0" y="60140"/>
                    </a:lnTo>
                    <a:arcTo wR="220" hR="220" stAng="10800000" swAng="-5400000"/>
                    <a:lnTo>
                      <a:pt x="21380" y="60360"/>
                    </a:lnTo>
                    <a:arcTo wR="220" hR="220" stAng="5400000" swAng="-5400000"/>
                    <a:lnTo>
                      <a:pt x="21600" y="220"/>
                    </a:lnTo>
                    <a:arcTo wR="220" hR="220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30360" y="4264200"/>
                <a:ext cx="128520" cy="423720"/>
              </a:xfrm>
              <a:custGeom>
                <a:avLst/>
                <a:gdLst>
                  <a:gd name="textAreaLeft" fmla="*/ 360 w 128520"/>
                  <a:gd name="textAreaRight" fmla="*/ 128160 w 128520"/>
                  <a:gd name="textAreaTop" fmla="*/ 360 h 423720"/>
                  <a:gd name="textAreaBottom" fmla="*/ 423360 h 423720"/>
                </a:gdLst>
                <a:ahLst/>
                <a:rect l="textAreaLeft" t="textAreaTop" r="textAreaRight" b="textAreaBottom"/>
                <a:pathLst>
                  <a:path w="21600" h="71075">
                    <a:moveTo>
                      <a:pt x="263" y="0"/>
                    </a:moveTo>
                    <a:arcTo wR="263" hR="263" stAng="16200000" swAng="-5400000"/>
                    <a:lnTo>
                      <a:pt x="0" y="70812"/>
                    </a:lnTo>
                    <a:arcTo wR="263" hR="263" stAng="10800000" swAng="-5400000"/>
                    <a:lnTo>
                      <a:pt x="21337" y="71075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6553080" y="3276720"/>
              <a:ext cx="0" cy="95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062840" y="3086280"/>
            <a:ext cx="30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50240" y="3814920"/>
            <a:ext cx="41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9160" y="2481120"/>
            <a:ext cx="509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020680" y="533160"/>
            <a:ext cx="5407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quilibrio débil de una reg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2793960"/>
            <a:ext cx="6094440" cy="40626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03848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1480" y="3352680"/>
            <a:ext cx="1427400" cy="744480"/>
          </a:xfrm>
          <a:custGeom>
            <a:avLst/>
            <a:gdLst/>
            <a:ahLst/>
            <a:rect l="l" t="t" r="r" b="b"/>
            <a:pathLst>
              <a:path w="3970" h="2074">
                <a:moveTo>
                  <a:pt x="0" y="2073"/>
                </a:moveTo>
                <a:cubicBezTo>
                  <a:pt x="373" y="1924"/>
                  <a:pt x="731" y="1564"/>
                  <a:pt x="1129" y="1683"/>
                </a:cubicBezTo>
                <a:cubicBezTo>
                  <a:pt x="1526" y="1801"/>
                  <a:pt x="1916" y="1540"/>
                  <a:pt x="2294" y="1359"/>
                </a:cubicBezTo>
                <a:cubicBezTo>
                  <a:pt x="2718" y="1156"/>
                  <a:pt x="3201" y="991"/>
                  <a:pt x="3459" y="259"/>
                </a:cubicBezTo>
                <a:lnTo>
                  <a:pt x="3823" y="63"/>
                </a:lnTo>
                <a:lnTo>
                  <a:pt x="39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352680"/>
            <a:ext cx="1698480" cy="639720"/>
          </a:xfrm>
          <a:custGeom>
            <a:avLst/>
            <a:gdLst/>
            <a:ahLst/>
            <a:rect l="l" t="t" r="r" b="b"/>
            <a:pathLst>
              <a:path w="4721" h="1783">
                <a:moveTo>
                  <a:pt x="0" y="0"/>
                </a:moveTo>
                <a:cubicBezTo>
                  <a:pt x="126" y="446"/>
                  <a:pt x="601" y="598"/>
                  <a:pt x="1001" y="715"/>
                </a:cubicBezTo>
                <a:cubicBezTo>
                  <a:pt x="1381" y="826"/>
                  <a:pt x="1721" y="1060"/>
                  <a:pt x="2110" y="1144"/>
                </a:cubicBezTo>
                <a:cubicBezTo>
                  <a:pt x="2482" y="1224"/>
                  <a:pt x="2995" y="864"/>
                  <a:pt x="3254" y="1144"/>
                </a:cubicBezTo>
                <a:cubicBezTo>
                  <a:pt x="3565" y="1481"/>
                  <a:pt x="3844" y="1782"/>
                  <a:pt x="4219" y="1645"/>
                </a:cubicBezTo>
                <a:lnTo>
                  <a:pt x="4577" y="1680"/>
                </a:lnTo>
                <a:lnTo>
                  <a:pt x="4720" y="1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2760" y="434340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as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85800" y="2666880"/>
            <a:ext cx="4952880" cy="1820880"/>
            <a:chOff x="685800" y="2666880"/>
            <a:chExt cx="4952880" cy="1820880"/>
          </a:xfrm>
        </p:grpSpPr>
        <p:sp>
          <p:nvSpPr>
            <p:cNvPr id="213" name=""/>
            <p:cNvSpPr/>
            <p:nvPr/>
          </p:nvSpPr>
          <p:spPr>
            <a:xfrm>
              <a:off x="685800" y="2962080"/>
              <a:ext cx="323640" cy="473040"/>
            </a:xfrm>
            <a:custGeom>
              <a:avLst/>
              <a:gdLst>
                <a:gd name="textAreaLeft" fmla="*/ 360 w 323640"/>
                <a:gd name="textAreaRight" fmla="*/ 323280 w 323640"/>
                <a:gd name="textAreaTop" fmla="*/ 360 h 473040"/>
                <a:gd name="textAreaBottom" fmla="*/ 472680 h 473040"/>
              </a:gdLst>
              <a:ahLst/>
              <a:rect l="textAreaLeft" t="textAreaTop" r="textAreaRight" b="textAreaBottom"/>
              <a:pathLst>
                <a:path w="21600" h="31560">
                  <a:moveTo>
                    <a:pt x="105" y="0"/>
                  </a:moveTo>
                  <a:arcTo wR="105" hR="105" stAng="16200000" swAng="-5400000"/>
                  <a:lnTo>
                    <a:pt x="0" y="31455"/>
                  </a:lnTo>
                  <a:arcTo wR="105" hR="105" stAng="10800000" swAng="-5400000"/>
                  <a:lnTo>
                    <a:pt x="21495" y="31560"/>
                  </a:lnTo>
                  <a:arcTo wR="105" hR="105" stAng="5400000" swAng="-5400000"/>
                  <a:lnTo>
                    <a:pt x="21600" y="105"/>
                  </a:lnTo>
                  <a:arcTo wR="105" hR="105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00200" y="2666880"/>
              <a:ext cx="295200" cy="509760"/>
            </a:xfrm>
            <a:custGeom>
              <a:avLst/>
              <a:gdLst>
                <a:gd name="textAreaLeft" fmla="*/ 360 w 295200"/>
                <a:gd name="textAreaRight" fmla="*/ 294840 w 295200"/>
                <a:gd name="textAreaTop" fmla="*/ 360 h 509760"/>
                <a:gd name="textAreaBottom" fmla="*/ 509400 h 509760"/>
              </a:gdLst>
              <a:ahLst/>
              <a:rect l="textAreaLeft" t="textAreaTop" r="textAreaRight" b="textAreaBottom"/>
              <a:pathLst>
                <a:path w="21600" h="37280">
                  <a:moveTo>
                    <a:pt x="116" y="0"/>
                  </a:moveTo>
                  <a:arcTo wR="116" hR="116" stAng="16200000" swAng="-5400000"/>
                  <a:lnTo>
                    <a:pt x="0" y="37164"/>
                  </a:lnTo>
                  <a:arcTo wR="116" hR="116" stAng="10800000" swAng="-5400000"/>
                  <a:lnTo>
                    <a:pt x="21484" y="37280"/>
                  </a:lnTo>
                  <a:arcTo wR="116" hR="116" stAng="5400000" swAng="-5400000"/>
                  <a:lnTo>
                    <a:pt x="21600" y="116"/>
                  </a:lnTo>
                  <a:arcTo wR="116" hR="116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30200" y="2730240"/>
              <a:ext cx="230400" cy="365400"/>
            </a:xfrm>
            <a:custGeom>
              <a:avLst/>
              <a:gdLst>
                <a:gd name="textAreaLeft" fmla="*/ 360 w 230400"/>
                <a:gd name="textAreaRight" fmla="*/ 230040 w 230400"/>
                <a:gd name="textAreaTop" fmla="*/ 360 h 365400"/>
                <a:gd name="textAreaBottom" fmla="*/ 365040 h 365400"/>
              </a:gdLst>
              <a:ahLst/>
              <a:rect l="textAreaLeft" t="textAreaTop" r="textAreaRight" b="textAreaBottom"/>
              <a:pathLst>
                <a:path w="21600" h="34237">
                  <a:moveTo>
                    <a:pt x="147" y="0"/>
                  </a:moveTo>
                  <a:arcTo wR="147" hR="147" stAng="16200000" swAng="-5400000"/>
                  <a:lnTo>
                    <a:pt x="0" y="34090"/>
                  </a:lnTo>
                  <a:arcTo wR="147" hR="147" stAng="10800000" swAng="-5400000"/>
                  <a:lnTo>
                    <a:pt x="21453" y="34237"/>
                  </a:lnTo>
                  <a:arcTo wR="147" hR="147" stAng="5400000" swAng="-5400000"/>
                  <a:lnTo>
                    <a:pt x="21600" y="147"/>
                  </a:lnTo>
                  <a:arcTo wR="147" hR="147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2730240"/>
              <a:ext cx="237960" cy="336600"/>
            </a:xfrm>
            <a:custGeom>
              <a:avLst/>
              <a:gdLst>
                <a:gd name="textAreaLeft" fmla="*/ 360 w 237960"/>
                <a:gd name="textAreaRight" fmla="*/ 237600 w 237960"/>
                <a:gd name="textAreaTop" fmla="*/ 360 h 336600"/>
                <a:gd name="textAreaBottom" fmla="*/ 336240 h 336600"/>
              </a:gdLst>
              <a:ahLst/>
              <a:rect l="textAreaLeft" t="textAreaTop" r="textAreaRight" b="textAreaBottom"/>
              <a:pathLst>
                <a:path w="21600" h="30540">
                  <a:moveTo>
                    <a:pt x="144" y="0"/>
                  </a:moveTo>
                  <a:arcTo wR="144" hR="144" stAng="16200000" swAng="-5400000"/>
                  <a:lnTo>
                    <a:pt x="0" y="30396"/>
                  </a:lnTo>
                  <a:arcTo wR="144" hR="144" stAng="10800000" swAng="-5400000"/>
                  <a:lnTo>
                    <a:pt x="21456" y="30540"/>
                  </a:lnTo>
                  <a:arcTo wR="144" hR="144" stAng="5400000" swAng="-5400000"/>
                  <a:lnTo>
                    <a:pt x="21600" y="144"/>
                  </a:lnTo>
                  <a:arcTo wR="144" hR="144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3080" y="3219480"/>
              <a:ext cx="203400" cy="312480"/>
            </a:xfrm>
            <a:custGeom>
              <a:avLst/>
              <a:gdLst>
                <a:gd name="textAreaLeft" fmla="*/ 360 w 203400"/>
                <a:gd name="textAreaRight" fmla="*/ 203040 w 203400"/>
                <a:gd name="textAreaTop" fmla="*/ 360 h 312480"/>
                <a:gd name="textAreaBottom" fmla="*/ 312120 h 312480"/>
              </a:gdLst>
              <a:ahLst/>
              <a:rect l="textAreaLeft" t="textAreaTop" r="textAreaRight" b="textAreaBottom"/>
              <a:pathLst>
                <a:path w="21600" h="33163">
                  <a:moveTo>
                    <a:pt x="168" y="0"/>
                  </a:moveTo>
                  <a:arcTo wR="168" hR="168" stAng="16200000" swAng="-5400000"/>
                  <a:lnTo>
                    <a:pt x="0" y="32995"/>
                  </a:lnTo>
                  <a:arcTo wR="168" hR="168" stAng="10800000" swAng="-5400000"/>
                  <a:lnTo>
                    <a:pt x="21432" y="33163"/>
                  </a:lnTo>
                  <a:arcTo wR="168" hR="168" stAng="5400000" swAng="-5400000"/>
                  <a:lnTo>
                    <a:pt x="21600" y="168"/>
                  </a:lnTo>
                  <a:arcTo wR="168" hR="168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9360" y="3735360"/>
              <a:ext cx="122400" cy="428400"/>
            </a:xfrm>
            <a:custGeom>
              <a:avLst/>
              <a:gdLst>
                <a:gd name="textAreaLeft" fmla="*/ 360 w 122400"/>
                <a:gd name="textAreaRight" fmla="*/ 122040 w 122400"/>
                <a:gd name="textAreaTop" fmla="*/ 360 h 428400"/>
                <a:gd name="textAreaBottom" fmla="*/ 428040 h 428400"/>
              </a:gdLst>
              <a:ahLst/>
              <a:rect l="textAreaLeft" t="textAreaTop" r="textAreaRight" b="textAreaBottom"/>
              <a:pathLst>
                <a:path w="21600" h="75442">
                  <a:moveTo>
                    <a:pt x="276" y="0"/>
                  </a:moveTo>
                  <a:arcTo wR="276" hR="276" stAng="16200000" swAng="-5400000"/>
                  <a:lnTo>
                    <a:pt x="0" y="75166"/>
                  </a:lnTo>
                  <a:arcTo wR="276" hR="276" stAng="10800000" swAng="-5400000"/>
                  <a:lnTo>
                    <a:pt x="21324" y="75442"/>
                  </a:lnTo>
                  <a:arcTo wR="276" hR="276" stAng="5400000" swAng="-5400000"/>
                  <a:lnTo>
                    <a:pt x="21600" y="276"/>
                  </a:lnTo>
                  <a:arcTo wR="276" hR="276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73120" y="4005000"/>
              <a:ext cx="125280" cy="401760"/>
            </a:xfrm>
            <a:custGeom>
              <a:avLst/>
              <a:gdLst>
                <a:gd name="textAreaLeft" fmla="*/ 360 w 125280"/>
                <a:gd name="textAreaRight" fmla="*/ 124920 w 125280"/>
                <a:gd name="textAreaTop" fmla="*/ 360 h 401760"/>
                <a:gd name="textAreaBottom" fmla="*/ 401400 h 401760"/>
              </a:gdLst>
              <a:ahLst/>
              <a:rect l="textAreaLeft" t="textAreaTop" r="textAreaRight" b="textAreaBottom"/>
              <a:pathLst>
                <a:path w="21600" h="69132">
                  <a:moveTo>
                    <a:pt x="270" y="0"/>
                  </a:moveTo>
                  <a:arcTo wR="270" hR="270" stAng="16200000" swAng="-5400000"/>
                  <a:lnTo>
                    <a:pt x="0" y="68862"/>
                  </a:lnTo>
                  <a:arcTo wR="270" hR="270" stAng="10800000" swAng="-5400000"/>
                  <a:lnTo>
                    <a:pt x="21330" y="69132"/>
                  </a:lnTo>
                  <a:arcTo wR="270" hR="270" stAng="5400000" swAng="-5400000"/>
                  <a:lnTo>
                    <a:pt x="21600" y="270"/>
                  </a:lnTo>
                  <a:arcTo wR="270" hR="270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24080" y="4082760"/>
              <a:ext cx="109440" cy="405000"/>
            </a:xfrm>
            <a:custGeom>
              <a:avLst/>
              <a:gdLst>
                <a:gd name="textAreaLeft" fmla="*/ 360 w 109440"/>
                <a:gd name="textAreaRight" fmla="*/ 109080 w 109440"/>
                <a:gd name="textAreaTop" fmla="*/ 360 h 405000"/>
                <a:gd name="textAreaBottom" fmla="*/ 404640 h 405000"/>
              </a:gdLst>
              <a:ahLst/>
              <a:rect l="textAreaLeft" t="textAreaTop" r="textAreaRight" b="textAreaBottom"/>
              <a:pathLst>
                <a:path w="21600" h="79743">
                  <a:moveTo>
                    <a:pt x="308" y="0"/>
                  </a:moveTo>
                  <a:arcTo wR="308" hR="308" stAng="16200000" swAng="-5400000"/>
                  <a:lnTo>
                    <a:pt x="0" y="79435"/>
                  </a:lnTo>
                  <a:arcTo wR="308" hR="308" stAng="10800000" swAng="-5400000"/>
                  <a:lnTo>
                    <a:pt x="21292" y="79743"/>
                  </a:lnTo>
                  <a:arcTo wR="308" hR="308" stAng="5400000" swAng="-5400000"/>
                  <a:lnTo>
                    <a:pt x="21600" y="308"/>
                  </a:lnTo>
                  <a:arcTo wR="308" hR="308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49600" y="3914640"/>
              <a:ext cx="135000" cy="490680"/>
            </a:xfrm>
            <a:custGeom>
              <a:avLst/>
              <a:gdLst>
                <a:gd name="textAreaLeft" fmla="*/ 360 w 135000"/>
                <a:gd name="textAreaRight" fmla="*/ 134640 w 135000"/>
                <a:gd name="textAreaTop" fmla="*/ 360 h 490680"/>
                <a:gd name="textAreaBottom" fmla="*/ 490320 h 490680"/>
              </a:gdLst>
              <a:ahLst/>
              <a:rect l="textAreaLeft" t="textAreaTop" r="textAreaRight" b="textAreaBottom"/>
              <a:pathLst>
                <a:path w="21600" h="78357">
                  <a:moveTo>
                    <a:pt x="251" y="0"/>
                  </a:moveTo>
                  <a:arcTo wR="251" hR="251" stAng="16200000" swAng="-5400000"/>
                  <a:lnTo>
                    <a:pt x="0" y="78106"/>
                  </a:lnTo>
                  <a:arcTo wR="251" hR="251" stAng="10800000" swAng="-5400000"/>
                  <a:lnTo>
                    <a:pt x="21349" y="78357"/>
                  </a:lnTo>
                  <a:arcTo wR="251" hR="251" stAng="5400000" swAng="-5400000"/>
                  <a:lnTo>
                    <a:pt x="21600" y="251"/>
                  </a:lnTo>
                  <a:arcTo wR="251" hR="251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73480" y="3632040"/>
              <a:ext cx="155520" cy="43488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434880"/>
                <a:gd name="textAreaBottom" fmla="*/ 434520 h 434880"/>
              </a:gdLst>
              <a:ahLst/>
              <a:rect l="textAreaLeft" t="textAreaTop" r="textAreaRight" b="textAreaBottom"/>
              <a:pathLst>
                <a:path w="21600" h="60310">
                  <a:moveTo>
                    <a:pt x="220" y="0"/>
                  </a:moveTo>
                  <a:arcTo wR="220" hR="220" stAng="16200000" swAng="-5400000"/>
                  <a:lnTo>
                    <a:pt x="0" y="60090"/>
                  </a:lnTo>
                  <a:arcTo wR="220" hR="220" stAng="10800000" swAng="-5400000"/>
                  <a:lnTo>
                    <a:pt x="21380" y="60310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82800" y="4056120"/>
              <a:ext cx="128520" cy="42372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423720"/>
                <a:gd name="textAreaBottom" fmla="*/ 423360 h 423720"/>
              </a:gdLst>
              <a:ahLst/>
              <a:rect l="textAreaLeft" t="textAreaTop" r="textAreaRight" b="textAreaBottom"/>
              <a:pathLst>
                <a:path w="21600" h="71075">
                  <a:moveTo>
                    <a:pt x="263" y="0"/>
                  </a:moveTo>
                  <a:arcTo wR="263" hR="263" stAng="16200000" swAng="-5400000"/>
                  <a:lnTo>
                    <a:pt x="0" y="70812"/>
                  </a:lnTo>
                  <a:arcTo wR="263" hR="263" stAng="10800000" swAng="-5400000"/>
                  <a:lnTo>
                    <a:pt x="21337" y="71075"/>
                  </a:lnTo>
                  <a:arcTo wR="263" hR="263" stAng="5400000" swAng="-5400000"/>
                  <a:lnTo>
                    <a:pt x="21600" y="263"/>
                  </a:lnTo>
                  <a:arcTo wR="263" hR="263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638680" y="3111480"/>
              <a:ext cx="0" cy="95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934320" y="3048120"/>
            <a:ext cx="30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733920"/>
            <a:ext cx="36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07120" y="302688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120" y="2178000"/>
            <a:ext cx="3717720" cy="2263680"/>
            <a:chOff x="762120" y="2178000"/>
            <a:chExt cx="3717720" cy="2263680"/>
          </a:xfrm>
        </p:grpSpPr>
        <p:sp>
          <p:nvSpPr>
            <p:cNvPr id="229" name=""/>
            <p:cNvSpPr/>
            <p:nvPr/>
          </p:nvSpPr>
          <p:spPr>
            <a:xfrm>
              <a:off x="762120" y="2411280"/>
              <a:ext cx="303120" cy="938520"/>
            </a:xfrm>
            <a:custGeom>
              <a:avLst/>
              <a:gdLst>
                <a:gd name="textAreaLeft" fmla="*/ 360 w 303120"/>
                <a:gd name="textAreaRight" fmla="*/ 302760 w 303120"/>
                <a:gd name="textAreaTop" fmla="*/ 360 h 938520"/>
                <a:gd name="textAreaBottom" fmla="*/ 938160 h 938520"/>
              </a:gdLst>
              <a:ahLst/>
              <a:rect l="textAreaLeft" t="textAreaTop" r="textAreaRight" b="textAreaBottom"/>
              <a:pathLst>
                <a:path w="21600" h="66824">
                  <a:moveTo>
                    <a:pt x="112" y="0"/>
                  </a:moveTo>
                  <a:arcTo wR="112" hR="112" stAng="16200000" swAng="-5400000"/>
                  <a:lnTo>
                    <a:pt x="0" y="66712"/>
                  </a:lnTo>
                  <a:arcTo wR="112" hR="112" stAng="10800000" swAng="-5400000"/>
                  <a:lnTo>
                    <a:pt x="21488" y="66824"/>
                  </a:lnTo>
                  <a:arcTo wR="112" hR="112" stAng="5400000" swAng="-5400000"/>
                  <a:lnTo>
                    <a:pt x="21600" y="112"/>
                  </a:lnTo>
                  <a:arcTo wR="112" hR="112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3280" y="2298600"/>
              <a:ext cx="277920" cy="784440"/>
            </a:xfrm>
            <a:custGeom>
              <a:avLst/>
              <a:gdLst>
                <a:gd name="textAreaLeft" fmla="*/ 360 w 277920"/>
                <a:gd name="textAreaRight" fmla="*/ 277560 w 277920"/>
                <a:gd name="textAreaTop" fmla="*/ 360 h 784440"/>
                <a:gd name="textAreaBottom" fmla="*/ 784080 h 784440"/>
              </a:gdLst>
              <a:ahLst/>
              <a:rect l="textAreaLeft" t="textAreaTop" r="textAreaRight" b="textAreaBottom"/>
              <a:pathLst>
                <a:path w="21600" h="60916">
                  <a:moveTo>
                    <a:pt x="122" y="0"/>
                  </a:moveTo>
                  <a:arcTo wR="122" hR="122" stAng="16200000" swAng="-5400000"/>
                  <a:lnTo>
                    <a:pt x="0" y="60794"/>
                  </a:lnTo>
                  <a:arcTo wR="122" hR="122" stAng="10800000" swAng="-5400000"/>
                  <a:lnTo>
                    <a:pt x="21478" y="60916"/>
                  </a:lnTo>
                  <a:arcTo wR="122" hR="122" stAng="5400000" swAng="-5400000"/>
                  <a:lnTo>
                    <a:pt x="21600" y="122"/>
                  </a:lnTo>
                  <a:arcTo wR="122" hR="122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62240" y="2338560"/>
              <a:ext cx="257040" cy="660240"/>
            </a:xfrm>
            <a:custGeom>
              <a:avLst/>
              <a:gdLst>
                <a:gd name="textAreaLeft" fmla="*/ 360 w 257040"/>
                <a:gd name="textAreaRight" fmla="*/ 256680 w 257040"/>
                <a:gd name="textAreaTop" fmla="*/ 360 h 660240"/>
                <a:gd name="textAreaBottom" fmla="*/ 659880 h 660240"/>
              </a:gdLst>
              <a:ahLst/>
              <a:rect l="textAreaLeft" t="textAreaTop" r="textAreaRight" b="textAreaBottom"/>
              <a:pathLst>
                <a:path w="21600" h="55435">
                  <a:moveTo>
                    <a:pt x="133" y="0"/>
                  </a:moveTo>
                  <a:arcTo wR="133" hR="133" stAng="16200000" swAng="-5400000"/>
                  <a:lnTo>
                    <a:pt x="0" y="55302"/>
                  </a:lnTo>
                  <a:arcTo wR="133" hR="133" stAng="10800000" swAng="-5400000"/>
                  <a:lnTo>
                    <a:pt x="21467" y="55435"/>
                  </a:lnTo>
                  <a:arcTo wR="133" hR="133" stAng="5400000" swAng="-5400000"/>
                  <a:lnTo>
                    <a:pt x="21600" y="133"/>
                  </a:lnTo>
                  <a:arcTo wR="133" hR="13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33640" y="2178000"/>
              <a:ext cx="231840" cy="819360"/>
            </a:xfrm>
            <a:custGeom>
              <a:avLst/>
              <a:gdLst>
                <a:gd name="textAreaLeft" fmla="*/ 360 w 231840"/>
                <a:gd name="textAreaRight" fmla="*/ 231480 w 231840"/>
                <a:gd name="textAreaTop" fmla="*/ 360 h 819360"/>
                <a:gd name="textAreaBottom" fmla="*/ 819000 h 819360"/>
              </a:gdLst>
              <a:ahLst/>
              <a:rect l="textAreaLeft" t="textAreaTop" r="textAreaRight" b="textAreaBottom"/>
              <a:pathLst>
                <a:path w="21600" h="76253">
                  <a:moveTo>
                    <a:pt x="147" y="0"/>
                  </a:moveTo>
                  <a:arcTo wR="147" hR="147" stAng="16200000" swAng="-5400000"/>
                  <a:lnTo>
                    <a:pt x="0" y="76106"/>
                  </a:lnTo>
                  <a:arcTo wR="147" hR="147" stAng="10800000" swAng="-5400000"/>
                  <a:lnTo>
                    <a:pt x="21453" y="76253"/>
                  </a:lnTo>
                  <a:arcTo wR="147" hR="147" stAng="5400000" swAng="-5400000"/>
                  <a:lnTo>
                    <a:pt x="21600" y="147"/>
                  </a:lnTo>
                  <a:arcTo wR="147" hR="147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57600" y="3016080"/>
              <a:ext cx="228600" cy="158760"/>
            </a:xfrm>
            <a:prstGeom prst="roundRect">
              <a:avLst>
                <a:gd name="adj" fmla="val 745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2400" y="2886120"/>
              <a:ext cx="217440" cy="565200"/>
            </a:xfrm>
            <a:custGeom>
              <a:avLst/>
              <a:gdLst>
                <a:gd name="textAreaLeft" fmla="*/ 360 w 217440"/>
                <a:gd name="textAreaRight" fmla="*/ 217080 w 217440"/>
                <a:gd name="textAreaTop" fmla="*/ 360 h 565200"/>
                <a:gd name="textAreaBottom" fmla="*/ 564840 h 565200"/>
              </a:gdLst>
              <a:ahLst/>
              <a:rect l="textAreaLeft" t="textAreaTop" r="textAreaRight" b="textAreaBottom"/>
              <a:pathLst>
                <a:path w="21600" h="56089">
                  <a:moveTo>
                    <a:pt x="156" y="0"/>
                  </a:moveTo>
                  <a:arcTo wR="156" hR="156" stAng="16200000" swAng="-5400000"/>
                  <a:lnTo>
                    <a:pt x="0" y="55933"/>
                  </a:lnTo>
                  <a:arcTo wR="156" hR="156" stAng="10800000" swAng="-5400000"/>
                  <a:lnTo>
                    <a:pt x="21444" y="56089"/>
                  </a:lnTo>
                  <a:arcTo wR="156" hR="156" stAng="5400000" swAng="-5400000"/>
                  <a:lnTo>
                    <a:pt x="21600" y="156"/>
                  </a:lnTo>
                  <a:arcTo wR="156" hR="156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63720" y="3887640"/>
              <a:ext cx="128520" cy="21780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217800"/>
                <a:gd name="textAreaBottom" fmla="*/ 217440 h 217800"/>
              </a:gdLst>
              <a:ahLst/>
              <a:rect l="textAreaLeft" t="textAreaTop" r="textAreaRight" b="textAreaBottom"/>
              <a:pathLst>
                <a:path w="21600" h="36563">
                  <a:moveTo>
                    <a:pt x="263" y="0"/>
                  </a:moveTo>
                  <a:arcTo wR="263" hR="263" stAng="16200000" swAng="-5400000"/>
                  <a:lnTo>
                    <a:pt x="0" y="36300"/>
                  </a:lnTo>
                  <a:arcTo wR="263" hR="263" stAng="10800000" swAng="-5400000"/>
                  <a:lnTo>
                    <a:pt x="21337" y="36563"/>
                  </a:lnTo>
                  <a:arcTo wR="263" hR="263" stAng="5400000" swAng="-5400000"/>
                  <a:lnTo>
                    <a:pt x="21600" y="263"/>
                  </a:lnTo>
                  <a:arcTo wR="263" hR="26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28920" y="4073400"/>
              <a:ext cx="128520" cy="28440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284400"/>
                <a:gd name="textAreaBottom" fmla="*/ 284040 h 284400"/>
              </a:gdLst>
              <a:ahLst/>
              <a:rect l="textAreaLeft" t="textAreaTop" r="textAreaRight" b="textAreaBottom"/>
              <a:pathLst>
                <a:path w="21600" h="47725">
                  <a:moveTo>
                    <a:pt x="263" y="0"/>
                  </a:moveTo>
                  <a:arcTo wR="263" hR="263" stAng="16200000" swAng="-5400000"/>
                  <a:lnTo>
                    <a:pt x="0" y="47462"/>
                  </a:lnTo>
                  <a:arcTo wR="263" hR="263" stAng="10800000" swAng="-5400000"/>
                  <a:lnTo>
                    <a:pt x="21337" y="47725"/>
                  </a:lnTo>
                  <a:arcTo wR="263" hR="263" stAng="5400000" swAng="-5400000"/>
                  <a:lnTo>
                    <a:pt x="21600" y="263"/>
                  </a:lnTo>
                  <a:arcTo wR="263" hR="26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1320" y="4191120"/>
              <a:ext cx="114120" cy="250560"/>
            </a:xfrm>
            <a:custGeom>
              <a:avLst/>
              <a:gdLst>
                <a:gd name="textAreaLeft" fmla="*/ 360 w 114120"/>
                <a:gd name="textAreaRight" fmla="*/ 113760 w 114120"/>
                <a:gd name="textAreaTop" fmla="*/ 360 h 250560"/>
                <a:gd name="textAreaBottom" fmla="*/ 250200 h 250560"/>
              </a:gdLst>
              <a:ahLst/>
              <a:rect l="textAreaLeft" t="textAreaTop" r="textAreaRight" b="textAreaBottom"/>
              <a:pathLst>
                <a:path w="21600" h="47343">
                  <a:moveTo>
                    <a:pt x="300" y="0"/>
                  </a:moveTo>
                  <a:arcTo wR="300" hR="300" stAng="16200000" swAng="-5400000"/>
                  <a:lnTo>
                    <a:pt x="0" y="47043"/>
                  </a:lnTo>
                  <a:arcTo wR="300" hR="300" stAng="10800000" swAng="-5400000"/>
                  <a:lnTo>
                    <a:pt x="21300" y="47343"/>
                  </a:lnTo>
                  <a:arcTo wR="300" hR="300" stAng="5400000" swAng="-5400000"/>
                  <a:lnTo>
                    <a:pt x="21600" y="300"/>
                  </a:lnTo>
                  <a:arcTo wR="300" hR="300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84520" y="4106880"/>
              <a:ext cx="114480" cy="250920"/>
            </a:xfrm>
            <a:custGeom>
              <a:avLst/>
              <a:gdLst>
                <a:gd name="textAreaLeft" fmla="*/ 360 w 114480"/>
                <a:gd name="textAreaRight" fmla="*/ 114120 w 114480"/>
                <a:gd name="textAreaTop" fmla="*/ 360 h 250920"/>
                <a:gd name="textAreaBottom" fmla="*/ 250560 h 250920"/>
              </a:gdLst>
              <a:ahLst/>
              <a:rect l="textAreaLeft" t="textAreaTop" r="textAreaRight" b="textAreaBottom"/>
              <a:pathLst>
                <a:path w="21600" h="47263">
                  <a:moveTo>
                    <a:pt x="300" y="0"/>
                  </a:moveTo>
                  <a:arcTo wR="300" hR="300" stAng="16200000" swAng="-5400000"/>
                  <a:lnTo>
                    <a:pt x="0" y="46963"/>
                  </a:lnTo>
                  <a:arcTo wR="300" hR="300" stAng="10800000" swAng="-5400000"/>
                  <a:lnTo>
                    <a:pt x="21300" y="47263"/>
                  </a:lnTo>
                  <a:arcTo wR="300" hR="300" stAng="5400000" swAng="-5400000"/>
                  <a:lnTo>
                    <a:pt x="21600" y="300"/>
                  </a:lnTo>
                  <a:arcTo wR="300" hR="300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78240" y="3821040"/>
              <a:ext cx="114480" cy="184320"/>
            </a:xfrm>
            <a:custGeom>
              <a:avLst/>
              <a:gdLst>
                <a:gd name="textAreaLeft" fmla="*/ 360 w 114480"/>
                <a:gd name="textAreaRight" fmla="*/ 114120 w 114480"/>
                <a:gd name="textAreaTop" fmla="*/ 360 h 184320"/>
                <a:gd name="textAreaBottom" fmla="*/ 183960 h 184320"/>
              </a:gdLst>
              <a:ahLst/>
              <a:rect l="textAreaLeft" t="textAreaTop" r="textAreaRight" b="textAreaBottom"/>
              <a:pathLst>
                <a:path w="21600" h="34736">
                  <a:moveTo>
                    <a:pt x="300" y="0"/>
                  </a:moveTo>
                  <a:arcTo wR="300" hR="300" stAng="16200000" swAng="-5400000"/>
                  <a:lnTo>
                    <a:pt x="0" y="34436"/>
                  </a:lnTo>
                  <a:arcTo wR="300" hR="300" stAng="10800000" swAng="-5400000"/>
                  <a:lnTo>
                    <a:pt x="21300" y="34736"/>
                  </a:lnTo>
                  <a:arcTo wR="300" hR="300" stAng="5400000" swAng="-5400000"/>
                  <a:lnTo>
                    <a:pt x="21600" y="300"/>
                  </a:lnTo>
                  <a:arcTo wR="300" hR="300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3280" y="4257720"/>
              <a:ext cx="77760" cy="176040"/>
            </a:xfrm>
            <a:custGeom>
              <a:avLst/>
              <a:gdLst>
                <a:gd name="textAreaLeft" fmla="*/ 360 w 77760"/>
                <a:gd name="textAreaRight" fmla="*/ 77400 w 77760"/>
                <a:gd name="textAreaTop" fmla="*/ 360 h 176040"/>
                <a:gd name="textAreaBottom" fmla="*/ 175680 h 176040"/>
              </a:gdLst>
              <a:ahLst/>
              <a:rect l="textAreaLeft" t="textAreaTop" r="textAreaRight" b="textAreaBottom"/>
              <a:pathLst>
                <a:path w="21600" h="48774">
                  <a:moveTo>
                    <a:pt x="432" y="0"/>
                  </a:moveTo>
                  <a:arcTo wR="432" hR="432" stAng="16200000" swAng="-5400000"/>
                  <a:lnTo>
                    <a:pt x="0" y="48342"/>
                  </a:lnTo>
                  <a:arcTo wR="432" hR="432" stAng="10800000" swAng="-5400000"/>
                  <a:lnTo>
                    <a:pt x="21168" y="48774"/>
                  </a:lnTo>
                  <a:arcTo wR="432" hR="432" stAng="5400000" swAng="-5400000"/>
                  <a:lnTo>
                    <a:pt x="21600" y="432"/>
                  </a:lnTo>
                  <a:arcTo wR="432" hR="432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599840"/>
            <a:ext cx="3942720" cy="3620520"/>
            <a:chOff x="533520" y="1599840"/>
            <a:chExt cx="3942720" cy="3620520"/>
          </a:xfrm>
        </p:grpSpPr>
        <p:sp>
          <p:nvSpPr>
            <p:cNvPr id="242" name=""/>
            <p:cNvSpPr/>
            <p:nvPr/>
          </p:nvSpPr>
          <p:spPr>
            <a:xfrm>
              <a:off x="2451240" y="1599840"/>
              <a:ext cx="48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4880" y="4762080"/>
              <a:ext cx="430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3000" y="3095640"/>
              <a:ext cx="3801960" cy="1388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5040" y="4486320"/>
              <a:ext cx="280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35040" y="3095640"/>
              <a:ext cx="280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66760" y="425448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0000" y="441000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8800" y="441000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84480" y="417672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77720" y="317340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71640" y="3095640"/>
              <a:ext cx="676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68640" y="3095640"/>
              <a:ext cx="676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84480" y="3327480"/>
              <a:ext cx="694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520" y="3714840"/>
              <a:ext cx="1393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36920" y="3714840"/>
              <a:ext cx="1393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33000" y="2297160"/>
              <a:ext cx="509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16000" indent="-216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uentra un flujo fac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erativamente equilibra reg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 detiene si todas las regiones están equilibr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cterísticas (+) de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tiene factibilidad y hace decrecer la función (global) de Beckma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 2.2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 termina, lo hace  con todas las regiones equilibradas (incluyendo las regiones OD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q. de Wardrop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 3.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 no termina, crea un sucesión que acumula en un eq. de Wardrop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 3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1:51:30Z</dcterms:created>
  <dc:creator>Francisco Martinez C.</dc:creator>
  <dc:description/>
  <dc:language>en-US</dc:language>
  <cp:lastModifiedBy>Martín Matamala</cp:lastModifiedBy>
  <cp:lastPrinted>2001-10-03T21:03:51Z</cp:lastPrinted>
  <dcterms:modified xsi:type="dcterms:W3CDTF">2001-10-10T20:22:44Z</dcterms:modified>
  <cp:revision>8</cp:revision>
  <dc:subject/>
  <dc:title>TUE: A LOCAL APPROACH </dc:title>
</cp:coreProperties>
</file>