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32A-989E-4500-BAEF-3E88B6A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1CF-FC07-4CB7-8B1C-B637AC0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238-5515-4548-9700-1EB0349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530-88B1-48E1-B78C-6227F5B8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1DBF-A300-4B32-88C0-C29DC42A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448-0500-4E6F-A833-2CF7198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3B33-F832-43F0-A165-AEB73BD4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7A5A-8259-491F-9C60-80BFB64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9A2-9B83-4C7F-A5FD-F9B727F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24F5-D41C-4C82-B8C9-2F62FE1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E40-0551-45C8-B1BF-8AD9E83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4D3-8FCB-4374-A549-EC41115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C38-48EC-45E8-9A6E-9C48BE4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61B-5DE0-49A5-A371-9DBB8DB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E867-8B30-4BBE-B5D6-9669716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228D-B5BE-4AC7-AD42-9EE8281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512-C0A2-4A43-8DE9-DAF80F23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C25-3E70-459D-A22E-E0C54446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61E-1A4E-438C-8962-C3B7864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53B-E0CF-4475-81D7-D9F9D456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9DE-D91F-40F0-A3DE-C78A2BF7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4D8-790C-4FC0-B672-7C550D7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38A-FB84-4D06-B896-03E1C5C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0E6-CF43-4CF6-89E9-AF0B7CA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1C2-3F52-4674-ADF7-BA1AE02A1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031-C56C-4A0E-B62F-4CF972AD4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delación microscópic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 paraderos y 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drigo Fernánd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Ingeniería de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523880"/>
          <a:ext cx="8153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153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Aplicación a paradero aisl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so estudio: paradero en Lond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2 bus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390 pax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67 pax/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,0 s/pax;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1,3 s/p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eguntas al mode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Influyen las formas de llegad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Funcionan distribuciones tradiciona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uál es el efecto de salidas obstruida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Qué consecuencias tiene tiempo embarq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ómo influye capacidad buse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600200"/>
          <a:ext cx="47246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4724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929040" y="3581280"/>
          <a:ext cx="506268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3581280"/>
                    <a:ext cx="50626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3954240"/>
            <a:ext cx="28195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= 30 bus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rrib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30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baj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1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 = 60 seg; 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/C = 0,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re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45 km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líticas transporte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t.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ncipal sistema t. público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da ciudad tiene buses, sólo pocas 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int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ioridades a 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que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ualiz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riterios y herrami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didas de prioridad ad hoc a probl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jor diseño de paraderos y est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preocuparse de accesibilidad 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hay herramientas chilenas, pue’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velocidad vía segreg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7240" y="1974960"/>
          <a:ext cx="777888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4960"/>
                    <a:ext cx="777888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761076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Ejemplo: modelo IRENE</a:t>
            </a:r>
            <a:br>
              <a:rPr sz="2000"/>
            </a:b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(Gibson et al, 198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capacidad de parader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Gibson y Fernández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93800" y="1838160"/>
          <a:ext cx="7989840" cy="46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838160"/>
                    <a:ext cx="798984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layout de paraderos dividid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Fernández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981080"/>
          <a:ext cx="78487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496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jemplo: diseño de andén y área parada</a:t>
            </a:r>
            <a:br>
              <a:rPr sz="36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Fernández y salamanca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TODO%20EL%20PARADERO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303880" cy="338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410080" y="2057400"/>
            <a:ext cx="373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artel informativo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24480" y="34286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olera  Kassel adelant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60199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nel 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47560" y="2209680"/>
            <a:ext cx="297180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81480" y="3657600"/>
            <a:ext cx="1524240" cy="12952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7040" y="3962520"/>
            <a:ext cx="1219320" cy="2057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800600" y="2209680"/>
            <a:ext cx="1066680" cy="198144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Solera%20Kassel" descr=""/>
          <p:cNvPicPr/>
          <p:nvPr/>
        </p:nvPicPr>
        <p:blipFill>
          <a:blip r:embed="rId2"/>
          <a:srcRect l="10416" t="16668" r="27092" b="1969"/>
          <a:stretch/>
        </p:blipFill>
        <p:spPr>
          <a:xfrm>
            <a:off x="6400800" y="4038480"/>
            <a:ext cx="259092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19051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cubrimiento antidesliz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267080"/>
            <a:ext cx="3047760" cy="144792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5627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emarcación del andé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572000"/>
            <a:ext cx="1066680" cy="15238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59436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Señalización para b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62720" y="2895480"/>
            <a:ext cx="914400" cy="914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743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luminación 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1828800"/>
            <a:ext cx="99072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676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rotección y confort para pasa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vilidad en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irculación del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del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bjetivo, alc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dero aisl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28480" y="1676520"/>
          <a:ext cx="8006040" cy="30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676520"/>
                    <a:ext cx="80060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28480" y="4568760"/>
          <a:ext cx="8082000" cy="22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4568760"/>
                    <a:ext cx="80820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8640" y="1676520"/>
          <a:ext cx="8361360" cy="22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76520"/>
                    <a:ext cx="8361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8640" y="3879720"/>
          <a:ext cx="8380440" cy="274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3879720"/>
                    <a:ext cx="83804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2133720"/>
          <a:ext cx="751356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5135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5628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o ejemplo: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bus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100 pax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60019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Capaciad veh influye en esperas si llegadas regulare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8600" y="2125800"/>
          <a:ext cx="81439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2125800"/>
                    <a:ext cx="81439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vilidad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67480" y="1676520"/>
            <a:ext cx="1336680" cy="1444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809880"/>
            <a:ext cx="815328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4114800"/>
            <a:ext cx="609480" cy="14479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10280" y="2743200"/>
            <a:ext cx="53352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360"/>
            <a:ext cx="2286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ibilid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re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cruces peat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959120"/>
            <a:ext cx="20574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Movimien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inters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hícu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09320"/>
            <a:ext cx="16002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parad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835200" cy="2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55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indicadores movilidad b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ibilidad (alcanzar e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5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viajes/día: 90% acceden a pie al sistema (¿Cuánto camina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o (subir/bajar de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transferencias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@ 5 s/trans·0,2 $/s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$/año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3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US$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vimiento (viajar en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elocidad comercial: 5 km/h con congestión; 20 km/h sin con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irculación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elocidad comercial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elocidad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romedi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iaje, incluidas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ualquier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om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/T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rec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xp (-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·f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de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es-ES_tradnl" sz="28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o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r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cru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1:3 a 1:6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ardner et al, 19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Pistas sólo bus, vías segregadas, paraderos “diferidos”, cobradores automáticos,...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fini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oblema y objetiv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arco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ument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velocidad recorrido (V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ec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tegiendo buses del resto trá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interseccion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de 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buses dando p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paraderos: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ptimiz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número (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buses diseñando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B (1965-2000) Hihway Capacity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BTU (1982): Tratamento preferencial ao transporte coletivo por ôni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Baeza, Willumsen (1989): Traffic Engineering and Control (TEC)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Fernández (1995, 1996): Apuntes Ing UC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3): 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yler, Caiaffa (1999): European Transport Conference 1999 (ETC’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9): IX Congreso Chileno, ETC’99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, Salamanca (1999): IX Congreso Chileno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2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0): ETC’2000, R&amp;T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1): TEC, Transport Re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ASSION: P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allel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milat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, alcanc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xperimetal framework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7920" y="3395520"/>
          <a:ext cx="63658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395520"/>
                    <a:ext cx="63658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3:32:48Z</dcterms:created>
  <dc:creator>Rodrigo Fernandez</dc:creator>
  <dc:description/>
  <dc:language>en-US</dc:language>
  <cp:lastModifiedBy>Rodrigo Fernández.</cp:lastModifiedBy>
  <dcterms:modified xsi:type="dcterms:W3CDTF">2001-08-20T20:58:48Z</dcterms:modified>
  <cp:revision>24</cp:revision>
  <dc:subject/>
  <dc:title>Medidas de Prioridad al Transporte Público</dc:title>
</cp:coreProperties>
</file>