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A5D-843C-467C-8834-B20C0DA1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B2C-FD9E-4DFA-8AE7-0B4FB3D9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45C-1D76-43FE-8151-C4FFBFCE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F9B-8BC0-45DC-A81E-F016BE53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50B5-DD4C-4ECA-AE57-E6F35673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72C8-472B-4F3B-99B7-890C3ECA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57AA-CFCC-40E5-B64E-8E45783A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A78A-C5AA-45BA-8537-EF822608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09EC-5E7E-4C49-B32F-D879303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A40A-EBBB-43D8-A2C7-46989D45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4BFE-AE14-450A-9D7D-805D93FA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01C-A8F1-459F-AFDF-273C4BF6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A4F-5119-4334-9D28-69DE413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6111-B69C-4C57-B606-7C1E548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FEC9-2229-4E77-8DC5-090C93A7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F699-75CD-4589-94F9-CE338A7B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6383-E59F-4566-926C-BBD607B4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A3E-CF26-4E0E-AAFA-E8388439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628-11EF-449E-99EA-680CAD3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5C9-2F3B-46BB-A60D-A3FCA9DD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0F5-6655-419D-A85D-4D27B626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557-635E-4615-B2DC-E8A8486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549-0BF0-4724-A98F-E8920F09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BFA-FA11-4E66-9A59-6C17D865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5ED3-1511-41D6-A8B9-97A079DB9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CBDC-1F0D-4701-8DF9-ADDBC7CBC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odelación microscópica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e paraderos y 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drigo Fernánd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visión Ingeniería de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partamento de Ingeniería Ci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Funciona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523880"/>
          <a:ext cx="8153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153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Aplicación a paradero aisl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aso estudio: paradero en Lond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22 bus/h; D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sub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390 pax/h; D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aj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67 pax/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sub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2,0 s/pax;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aj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1,3 s/p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eguntas al mode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Influyen las formas de llegad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Funcionan distribuciones tradiciona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Cuál es el efecto de salidas obstruidas? -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Qué consecuencias tiene tiempo embarqu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Cómo influye capacidad buses? -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Extensión a ru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880" y="1600200"/>
          <a:ext cx="47246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47246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929040" y="3581280"/>
          <a:ext cx="506268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9040" y="3581280"/>
                    <a:ext cx="50626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38080" y="3954240"/>
            <a:ext cx="28195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= 30 bus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arrib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30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abaj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15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 = 60 seg; v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e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/C = 0,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re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45 km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líticas transporte mundo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t.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ncipal sistema t. público mundo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oda ciudad tiene buses, sólo pocas 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int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ioridades a 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que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tualiza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riterios y herrami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didas de prioridad ad hoc a probl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jor diseño de paraderos y est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preocuparse de accesibilidad 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hay herramientas chilenas, pue’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velocidad vía segreg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7240" y="1974960"/>
          <a:ext cx="7778880" cy="41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974960"/>
                    <a:ext cx="777888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23760" y="1600200"/>
            <a:ext cx="7610760" cy="4952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Ejemplo: modelo IRENE</a:t>
            </a:r>
            <a:br>
              <a:rPr sz="2000"/>
            </a:b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(Gibson et al, 198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capacidad de paraderos</a:t>
            </a:r>
            <a:br>
              <a:rPr sz="36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Gibson y Fernández,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93800" y="1838160"/>
          <a:ext cx="7989840" cy="46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838160"/>
                    <a:ext cx="798984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layout de paraderos divididos</a:t>
            </a:r>
            <a:br>
              <a:rPr sz="36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Fernández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981080"/>
          <a:ext cx="78487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4960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jemplo: diseño de andén y área parada</a:t>
            </a:r>
            <a:br>
              <a:rPr sz="36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(Fernández y salamanca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TODO%20EL%20PARADERO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303880" cy="338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410080" y="2057400"/>
            <a:ext cx="373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artel informativo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24480" y="342864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olera  Kassel adelant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601992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anel de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447560" y="2209680"/>
            <a:ext cx="2971800" cy="22860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181480" y="3657600"/>
            <a:ext cx="1524240" cy="129528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7040" y="3962520"/>
            <a:ext cx="1219320" cy="20574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800600" y="2209680"/>
            <a:ext cx="1066680" cy="198144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Solera%20Kassel" descr=""/>
          <p:cNvPicPr/>
          <p:nvPr/>
        </p:nvPicPr>
        <p:blipFill>
          <a:blip r:embed="rId2"/>
          <a:srcRect l="10416" t="16668" r="27092" b="1969"/>
          <a:stretch/>
        </p:blipFill>
        <p:spPr>
          <a:xfrm>
            <a:off x="6400800" y="4038480"/>
            <a:ext cx="259092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0" y="1905120"/>
            <a:ext cx="403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cubrimiento antidesliz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267080"/>
            <a:ext cx="3047760" cy="144792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55627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emarcación del andé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4572000"/>
            <a:ext cx="1066680" cy="152388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59436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Señalización para b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562720" y="2895480"/>
            <a:ext cx="914400" cy="9144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743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luminación 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1828800"/>
            <a:ext cx="990720" cy="22860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1676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rotección y confort para pasa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ingeniería de trán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vilidad en t.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irculación del t.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oridades a b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odel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o PA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bjetivo, alc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dero aisl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tensión a ru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e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28480" y="1676520"/>
          <a:ext cx="8006040" cy="30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676520"/>
                    <a:ext cx="800604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28480" y="4568760"/>
          <a:ext cx="8082000" cy="220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4568760"/>
                    <a:ext cx="80820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8640" y="1676520"/>
          <a:ext cx="8361360" cy="22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676520"/>
                    <a:ext cx="83613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8640" y="3879720"/>
          <a:ext cx="8380440" cy="274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640" y="3879720"/>
                    <a:ext cx="838044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90720" y="2133720"/>
          <a:ext cx="751356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5135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155628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o ejemplo: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50 bus/h; 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100 pax/h; 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5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60019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Tahoma"/>
              </a:rPr>
              <a:t>Capaciad veh influye en esperas si llegadas regulare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Área ingeniería de tránsi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8600" y="2125800"/>
          <a:ext cx="81439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2125800"/>
                    <a:ext cx="81439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ovilidad transporte públ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67480" y="1676520"/>
            <a:ext cx="1336680" cy="1444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3809880"/>
            <a:ext cx="815328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3581280"/>
            <a:ext cx="457200" cy="4572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3581280"/>
            <a:ext cx="457200" cy="4572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28800" y="4114800"/>
            <a:ext cx="609480" cy="14479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010280" y="2743200"/>
            <a:ext cx="53352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360"/>
            <a:ext cx="22860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Accesibilid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ere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cruces peat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1959120"/>
            <a:ext cx="20574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Movimient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inters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ehícu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09320"/>
            <a:ext cx="16002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Acces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parad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es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835200" cy="243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2514600"/>
            <a:ext cx="55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748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indicadores movilidad b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cesibilidad (alcanzar el sist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5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viajes/día: 90% acceden a pie al sistema (¿Cuánto camina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ceso (subir/bajar de vehícul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2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transferencias/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@ 5 s/trans·0,2 $/s 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2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9 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$/año 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3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6 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US$/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vimiento (viajar en vehícul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elocidad comercial: 5 km/h con congestión; 20 km/h sin con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irculación transporte públ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Velocidad comercial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elocidad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promedi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iaje, incluidas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ualquier 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com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viaje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/T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tot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V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rec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xp (-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·f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det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 : </a:t>
            </a:r>
            <a:r>
              <a:rPr b="0" lang="es-ES_tradnl" sz="2800" spc="-1" strike="noStrike" u="sng">
                <a:solidFill>
                  <a:srgbClr val="330099"/>
                </a:solidFill>
                <a:uFillTx/>
                <a:latin typeface="Times New Roman"/>
                <a:hlinkClick r:id="rId1" action="ppaction://hlinksldjump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o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ovimien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arad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movimient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 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viaj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r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 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cru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parad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d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1:3 a 1:6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ardner et al, 19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rioridades a bu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Pistas sólo bus, vías segregadas, paraderos “diferidos”, cobradores automáticos,...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fini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oblema y objetivo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arco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umenta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velocidad recorrido (V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ec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tegiendo buses del resto trá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interseccion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duci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emora de cruc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(d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buses dando p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paraderos: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ptimiza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número (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duci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emora (d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buses diseñando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B (1965-2000) Hihway Capacity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BTU (1982): Tratamento preferencial ao transporte coletivo por ôni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ibson, Baeza, Willumsen (1989): Traffic Engineering and Control (TEC) - 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ibson, Fernández (1995, 1996): Apuntes Ing UC - 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Times New Roman"/>
                <a:hlinkClick r:id="rId1" action="ppaction://hlinksldjump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1993): T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yler, Caiaffa (1999): European Transport Conference 1999 (ETC’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1999): IX Congreso Chileno, ETC’99 - 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, Salamanca (1999): IX Congreso Chileno - 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Times New Roman"/>
                <a:hlinkClick r:id="rId2" action="ppaction://hlinksldjump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2000): ETC’2000, R&amp;T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2001): TEC, Transport Revi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Modelo PA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ASSION: P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allel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p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milat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jetivo, alcanc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xperimetal framework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47920" y="3395520"/>
          <a:ext cx="63658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395520"/>
                    <a:ext cx="63658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3:32:48Z</dcterms:created>
  <dc:creator>Rodrigo Fernandez</dc:creator>
  <dc:description/>
  <dc:language>en-US</dc:language>
  <cp:lastModifiedBy>Rodrigo Fernández.</cp:lastModifiedBy>
  <dcterms:modified xsi:type="dcterms:W3CDTF">2001-08-20T20:58:48Z</dcterms:modified>
  <cp:revision>24</cp:revision>
  <dc:subject/>
  <dc:title>Medidas de Prioridad al Transporte Público</dc:title>
</cp:coreProperties>
</file>