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.wmf" ContentType="image/x-wmf"/>
  <Override PartName="/ppt/media/image15.jpeg" ContentType="image/jpeg"/>
  <Override PartName="/ppt/media/image16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0133-24F7-4EE0-A998-0432345E4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EFA5-19CB-47D3-ADB6-C8689ED9D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213B-4953-4CE1-A52B-A0E496BB3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F816-34AB-4742-BAFE-5BBC77632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121D0-D7C8-427C-A1BA-3F0FF2482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46BB2-953A-41F6-905D-EF3331135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83059-52FC-433B-931B-591232D35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D74C5-D3C6-4635-B4B7-8D8EB14E3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6C826-B5B6-4E95-96B2-F039EB9D2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05436-8ECD-449E-A723-9121E8923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CCA5E-75D7-4A17-8612-87141A04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3AE0-8D59-40FE-B393-DFA38F747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179BF-764B-439C-B6D3-B3AE52A50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311FF-35D0-462E-BF92-717483438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75ED4-5304-4150-9E79-DA767A954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E29F7-716A-4F12-8415-ABBB72355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E225E-4F1F-4191-B3E7-07097129D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2009-21EC-453D-BC0A-3B2DCA47C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7B88-EA8F-42BF-A906-DF749550A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C28A-DEEC-49B9-ADB3-875DC1DD2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2E9B-B5AA-4394-B4FA-C15C47BD5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1894-83D3-4F99-A48F-6527EC178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F62A-F70A-4B09-8A6D-8FB125B86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632F-95CA-4731-8068-404042213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B5F19-2656-4710-A507-5F30793E2F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0A3E0-AF01-4CD0-A2BF-97FC5CFEA0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9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Modelación microscópica</a:t>
            </a:r>
            <a:br>
              <a:rPr sz="4400"/>
            </a:b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de paraderos y estacion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odrigo Fernánde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ivisión Ingeniería de Transpor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partamento de Ingeniería Civ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Universidad de C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imes New Roman"/>
              </a:rPr>
              <a:t>Funcionamient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762120" y="1523880"/>
          <a:ext cx="815328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23880"/>
                    <a:ext cx="815328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imes New Roman"/>
              </a:rPr>
              <a:t>Aplicación a paradero aislad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Caso estudio: paradero en Lond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= 22 bus/h; D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Times New Roman"/>
              </a:rPr>
              <a:t>sube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= 390 pax/h; D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Times New Roman"/>
              </a:rPr>
              <a:t>baja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= 67 pax/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Times New Roman"/>
              </a:rPr>
              <a:t>sube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= 2,0 s/pax; </a:t>
            </a: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Times New Roman"/>
              </a:rPr>
              <a:t>baja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= 1,3 s/pa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Preguntas al model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¿Influyen las formas de llegada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¿Funcionan distribuciones tradicional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¿Cuál es el efecto de salidas obstruidas? - 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¿Qué consecuencias tiene tiempo embarqu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¿Cómo influye capacidad buses? - 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imes New Roman"/>
              </a:rPr>
              <a:t>Extensión a rut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380880" y="1600200"/>
          <a:ext cx="472464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472464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3929040" y="3581280"/>
          <a:ext cx="5062680" cy="296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9040" y="3581280"/>
                    <a:ext cx="5062680" cy="29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838080" y="3954240"/>
            <a:ext cx="2819520" cy="24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Tahoma"/>
              </a:rPr>
              <a:t>b 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= 30 bus/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Tahoma"/>
              </a:rPr>
              <a:t>arriba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= 300 pax/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Tahoma"/>
              </a:rPr>
              <a:t>abajo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= 150 pax/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C = 60 seg; v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Tahoma"/>
              </a:rPr>
              <a:t>e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/C = 0,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Tahoma"/>
              </a:rPr>
              <a:t>rec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= 45 km/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Comentario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olíticas transporte mundo: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mejor t. públ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rincipal sistema t. público mundo: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bu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oda ciudad tiene buses, sólo pocas met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ay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istintas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prioridades a bu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ay que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ctualizar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criterios y herramient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medidas de prioridad ad hoc a problem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mejor diseño de paraderos y esta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preocuparse de accesibilidad peat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Y hay herramientas chilenas, pue’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imes New Roman"/>
              </a:rPr>
              <a:t>F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720" y="8380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Times New Roman"/>
              </a:rPr>
              <a:t>Ejemplo: velocidad vía segrega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687240" y="1974960"/>
          <a:ext cx="7778880" cy="410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7240" y="1974960"/>
                    <a:ext cx="7778880" cy="41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861048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923760" y="1600200"/>
            <a:ext cx="7610760" cy="49528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68580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00"/>
                </a:solidFill>
                <a:latin typeface="Times New Roman"/>
              </a:rPr>
              <a:t>Ejemplo: modelo IRENE</a:t>
            </a:r>
            <a:br>
              <a:rPr sz="2000"/>
            </a:br>
            <a:r>
              <a:rPr b="0" lang="es-CL" sz="2000" spc="-1" strike="noStrike">
                <a:solidFill>
                  <a:srgbClr val="ffff00"/>
                </a:solidFill>
                <a:latin typeface="Times New Roman"/>
              </a:rPr>
              <a:t>(Gibson et al, 1989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61048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Times New Roman"/>
              </a:rPr>
              <a:t>Ejemplo: capacidad de paraderos</a:t>
            </a:r>
            <a:br>
              <a:rPr sz="3600"/>
            </a:br>
            <a:r>
              <a:rPr b="0" lang="es-ES_tradnl" sz="2000" spc="-1" strike="noStrike">
                <a:solidFill>
                  <a:srgbClr val="ffff00"/>
                </a:solidFill>
                <a:latin typeface="Times New Roman"/>
              </a:rPr>
              <a:t>(Gibson y Fernández, 1995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793800" y="1838160"/>
          <a:ext cx="7989840" cy="4683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3800" y="1838160"/>
                    <a:ext cx="7989840" cy="468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861048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Times New Roman"/>
              </a:rPr>
              <a:t>Ejemplo: layout de paraderos divididos</a:t>
            </a:r>
            <a:br>
              <a:rPr sz="3600"/>
            </a:br>
            <a:r>
              <a:rPr b="0" lang="es-ES_tradnl" sz="2000" spc="-1" strike="noStrike">
                <a:solidFill>
                  <a:srgbClr val="ffff00"/>
                </a:solidFill>
                <a:latin typeface="Times New Roman"/>
              </a:rPr>
              <a:t>(Fernández, 1999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1981080"/>
          <a:ext cx="7848720" cy="449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848720" cy="4496040"/>
                  </a:xfrm>
                  <a:prstGeom prst="rect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861048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Times New Roman"/>
              </a:rPr>
              <a:t>Ejemplo: diseño de andén y área parada</a:t>
            </a:r>
            <a:br>
              <a:rPr sz="3600"/>
            </a:b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(Fernández y salamanca, 1999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TODO%20EL%20PARADERO" descr=""/>
          <p:cNvPicPr/>
          <p:nvPr/>
        </p:nvPicPr>
        <p:blipFill>
          <a:blip r:embed="rId1"/>
          <a:stretch/>
        </p:blipFill>
        <p:spPr>
          <a:xfrm>
            <a:off x="838080" y="2438280"/>
            <a:ext cx="5303880" cy="33829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87" name=""/>
          <p:cNvSpPr/>
          <p:nvPr/>
        </p:nvSpPr>
        <p:spPr>
          <a:xfrm>
            <a:off x="5410080" y="2057400"/>
            <a:ext cx="3733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Cartel informativo del sect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324480" y="3428640"/>
            <a:ext cx="28195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Solera  Kassel adelant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" y="6019920"/>
            <a:ext cx="365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Panel de inform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 flipV="1">
            <a:off x="1447560" y="2209680"/>
            <a:ext cx="2971800" cy="2286000"/>
          </a:xfrm>
          <a:prstGeom prst="line">
            <a:avLst/>
          </a:prstGeom>
          <a:ln cap="sq" w="19080">
            <a:solidFill>
              <a:srgbClr val="ff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181480" y="3657600"/>
            <a:ext cx="1524240" cy="1295280"/>
          </a:xfrm>
          <a:prstGeom prst="line">
            <a:avLst/>
          </a:prstGeom>
          <a:ln cap="sq" w="19080">
            <a:solidFill>
              <a:srgbClr val="ff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2057040" y="3962520"/>
            <a:ext cx="1219320" cy="2057400"/>
          </a:xfrm>
          <a:prstGeom prst="line">
            <a:avLst/>
          </a:prstGeom>
          <a:ln cap="sq" w="19080">
            <a:solidFill>
              <a:srgbClr val="ff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4800600" y="2209680"/>
            <a:ext cx="1066680" cy="1981440"/>
          </a:xfrm>
          <a:prstGeom prst="line">
            <a:avLst/>
          </a:prstGeom>
          <a:ln cap="sq" w="19080">
            <a:solidFill>
              <a:srgbClr val="ff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4" name="Solera%20Kassel" descr=""/>
          <p:cNvPicPr/>
          <p:nvPr/>
        </p:nvPicPr>
        <p:blipFill>
          <a:blip r:embed="rId2"/>
          <a:srcRect l="10416" t="16668" r="27092" b="1969"/>
          <a:stretch/>
        </p:blipFill>
        <p:spPr>
          <a:xfrm>
            <a:off x="6400800" y="4038480"/>
            <a:ext cx="2590920" cy="1371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95" name=""/>
          <p:cNvSpPr/>
          <p:nvPr/>
        </p:nvSpPr>
        <p:spPr>
          <a:xfrm>
            <a:off x="0" y="1905120"/>
            <a:ext cx="4038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Recubrimiento antidesliza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76720" y="4267080"/>
            <a:ext cx="3047760" cy="1447920"/>
          </a:xfrm>
          <a:prstGeom prst="line">
            <a:avLst/>
          </a:prstGeom>
          <a:ln cap="sq" w="19080">
            <a:solidFill>
              <a:srgbClr val="ff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943600" y="5562720"/>
            <a:ext cx="3200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Demarcación del andé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4572000"/>
            <a:ext cx="1066680" cy="1523880"/>
          </a:xfrm>
          <a:prstGeom prst="line">
            <a:avLst/>
          </a:prstGeom>
          <a:ln cap="sq" w="19080">
            <a:solidFill>
              <a:srgbClr val="ff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91120" y="5943600"/>
            <a:ext cx="3581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Señalización para bus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5562720" y="2895480"/>
            <a:ext cx="914400" cy="914400"/>
          </a:xfrm>
          <a:prstGeom prst="line">
            <a:avLst/>
          </a:prstGeom>
          <a:ln cap="sq" w="19080">
            <a:solidFill>
              <a:srgbClr val="ff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19920" y="2743200"/>
            <a:ext cx="3352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Iluminación suficie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4038480" y="1828800"/>
            <a:ext cx="990720" cy="2286000"/>
          </a:xfrm>
          <a:prstGeom prst="line">
            <a:avLst/>
          </a:prstGeom>
          <a:ln cap="sq" w="19080">
            <a:solidFill>
              <a:srgbClr val="ff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0" y="1676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Protección y confort para pasajer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61048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Contenid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ntext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Área ingeniería de tránsi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ovilidad en t. públ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irculación del t. públ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ioridades a bu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feren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Modelació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odelo PA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Objetivo, alc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Funcionami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plica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aradero aisl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xtensión a ru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mentar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00"/>
                </a:solidFill>
                <a:latin typeface="Times New Roman"/>
              </a:rPr>
              <a:t>Respuestas de PASSION - 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528480" y="1676520"/>
          <a:ext cx="8006040" cy="3016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676520"/>
                    <a:ext cx="8006040" cy="30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528480" y="4568760"/>
          <a:ext cx="8082000" cy="2205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8480" y="4568760"/>
                    <a:ext cx="8082000" cy="22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861048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00"/>
                </a:solidFill>
                <a:latin typeface="Times New Roman"/>
              </a:rPr>
              <a:t>Respuestas de PASSION - 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458640" y="1676520"/>
          <a:ext cx="8361360" cy="2274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1676520"/>
                    <a:ext cx="8361360" cy="22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458640" y="3879720"/>
          <a:ext cx="8380440" cy="27496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8640" y="3879720"/>
                    <a:ext cx="8380440" cy="27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861048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00"/>
                </a:solidFill>
                <a:latin typeface="Times New Roman"/>
              </a:rPr>
              <a:t>Respuestas de PASSION - 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990720" y="2133720"/>
          <a:ext cx="7513560" cy="396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133720"/>
                    <a:ext cx="751356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861048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143000" y="1556280"/>
            <a:ext cx="7162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Otro ejemplo: q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Tahoma"/>
              </a:rPr>
              <a:t>b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= 50 bus/h; D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Tahoma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=100 pax/h; D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Tahoma"/>
              </a:rPr>
              <a:t>b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= 50 pax/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295280" y="6001920"/>
            <a:ext cx="701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s-CL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s-CL" sz="2000" spc="-1" strike="noStrike">
                <a:solidFill>
                  <a:srgbClr val="ff0000"/>
                </a:solidFill>
                <a:latin typeface="Tahoma"/>
              </a:rPr>
              <a:t>Capaciad veh influye en esperas si llegadas regulares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Área ingeniería de tránsit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98600" y="2125800"/>
          <a:ext cx="8143920" cy="36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600" y="2125800"/>
                    <a:ext cx="8143920" cy="36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Movilidad transporte públic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295280" y="4572000"/>
            <a:ext cx="533520" cy="10666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7467480" y="1676520"/>
            <a:ext cx="1336680" cy="14446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3809880"/>
            <a:ext cx="8153280" cy="0"/>
          </a:xfrm>
          <a:prstGeom prst="line">
            <a:avLst/>
          </a:prstGeom>
          <a:ln cap="sq"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0" y="3581280"/>
            <a:ext cx="457200" cy="45720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629400" y="3581280"/>
            <a:ext cx="457200" cy="45720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1828800" y="4114800"/>
            <a:ext cx="609480" cy="144792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010280" y="2743200"/>
            <a:ext cx="533520" cy="838080"/>
          </a:xfrm>
          <a:prstGeom prst="line">
            <a:avLst/>
          </a:prstGeom>
          <a:ln w="5724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360"/>
            <a:ext cx="228600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ffff00"/>
                </a:solidFill>
                <a:uFillTx/>
                <a:latin typeface="Tahoma"/>
              </a:rPr>
              <a:t>Accesibilidad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ffff00"/>
                </a:solidFill>
                <a:latin typeface="Tahoma"/>
              </a:rPr>
              <a:t>vered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ffff00"/>
                </a:solidFill>
                <a:latin typeface="Tahoma"/>
              </a:rPr>
              <a:t>cruces peat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733920" y="1959120"/>
            <a:ext cx="205740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ffff00"/>
                </a:solidFill>
                <a:uFillTx/>
                <a:latin typeface="Tahoma"/>
              </a:rPr>
              <a:t>Movimiento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ffff00"/>
                </a:solidFill>
                <a:latin typeface="Tahoma"/>
              </a:rPr>
              <a:t>ví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ffff00"/>
                </a:solidFill>
                <a:latin typeface="Tahoma"/>
              </a:rPr>
              <a:t>intersec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ffff00"/>
                </a:solidFill>
                <a:latin typeface="Tahoma"/>
              </a:rPr>
              <a:t>vehícul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2209320"/>
            <a:ext cx="160020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ffff00"/>
                </a:solidFill>
                <a:uFillTx/>
                <a:latin typeface="Tahoma"/>
              </a:rPr>
              <a:t>Acceso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ffff00"/>
                </a:solidFill>
                <a:latin typeface="Tahoma"/>
              </a:rPr>
              <a:t>parader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ffff00"/>
                </a:solidFill>
                <a:latin typeface="Tahoma"/>
              </a:rPr>
              <a:t>esta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4267080" y="3429000"/>
            <a:ext cx="835200" cy="2430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2209680" y="2514600"/>
            <a:ext cx="55728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87480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Times New Roman"/>
              </a:rPr>
              <a:t>Ejemplo: indicadores movilidad bu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ccesibilidad (alcanzar el sistem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5·10</a:t>
            </a:r>
            <a:r>
              <a:rPr b="0" lang="es-ES_tradnl" sz="2800" spc="-1" strike="noStrike" baseline="30000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 viajes/día: 90% acceden a pie al sistema (¿Cuánto caminan?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cceso (subir/bajar de vehículo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2·10</a:t>
            </a:r>
            <a:r>
              <a:rPr b="0" lang="es-ES_tradnl" sz="2800" spc="-1" strike="noStrike" baseline="30000">
                <a:solidFill>
                  <a:srgbClr val="ffff00"/>
                </a:solidFill>
                <a:latin typeface="Times New Roman"/>
              </a:rPr>
              <a:t>9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 transferencias/añ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Symbol"/>
                <a:ea typeface="Symbol"/>
              </a:rPr>
              <a:t>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@ 5 s/trans·0,2 $/s </a:t>
            </a:r>
            <a:r>
              <a:rPr b="0" lang="es-ES_tradnl" sz="28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 2·10</a:t>
            </a:r>
            <a:r>
              <a:rPr b="0" lang="es-ES_tradnl" sz="2800" spc="-1" strike="noStrike" baseline="30000">
                <a:solidFill>
                  <a:srgbClr val="ffff00"/>
                </a:solidFill>
                <a:latin typeface="Times New Roman"/>
              </a:rPr>
              <a:t>9  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$/año </a:t>
            </a:r>
            <a:r>
              <a:rPr b="0" lang="es-ES_tradnl" sz="2800" spc="-1" strike="noStrike">
                <a:solidFill>
                  <a:srgbClr val="ffff00"/>
                </a:solidFill>
                <a:latin typeface="Symbol"/>
                <a:ea typeface="Symbol"/>
              </a:rPr>
              <a:t>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 3·10</a:t>
            </a:r>
            <a:r>
              <a:rPr b="0" lang="es-ES_tradnl" sz="2800" spc="-1" strike="noStrike" baseline="30000">
                <a:solidFill>
                  <a:srgbClr val="ffff00"/>
                </a:solidFill>
                <a:latin typeface="Times New Roman"/>
              </a:rPr>
              <a:t>6  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US$/añ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Movimiento (viajar en vehículo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Velocidad comercial: 5 km/h con congestión; 20 km/h sin congest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Circulación transporte públic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Velocidad comercial: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velocidad </a:t>
            </a:r>
            <a:r>
              <a:rPr b="0" lang="es-ES_tradnl" sz="3200" spc="-1" strike="noStrike">
                <a:solidFill>
                  <a:srgbClr val="ff0000"/>
                </a:solidFill>
                <a:latin typeface="Times New Roman"/>
              </a:rPr>
              <a:t>promedio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viaje, incluidas </a:t>
            </a:r>
            <a:r>
              <a:rPr b="0" lang="es-ES_tradnl" sz="3200" spc="-1" strike="noStrike">
                <a:solidFill>
                  <a:srgbClr val="ff0000"/>
                </a:solidFill>
                <a:latin typeface="Times New Roman"/>
              </a:rPr>
              <a:t>demoras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cualquier tip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0" lang="es-ES_tradnl" sz="2800" spc="-1" strike="noStrike" baseline="-25000">
                <a:solidFill>
                  <a:srgbClr val="ffff00"/>
                </a:solidFill>
                <a:latin typeface="Times New Roman"/>
              </a:rPr>
              <a:t>com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 = L</a:t>
            </a:r>
            <a:r>
              <a:rPr b="0" lang="es-ES_tradnl" sz="2800" spc="-1" strike="noStrike" baseline="-25000">
                <a:solidFill>
                  <a:srgbClr val="ffff00"/>
                </a:solidFill>
                <a:latin typeface="Times New Roman"/>
              </a:rPr>
              <a:t>viaje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/T</a:t>
            </a:r>
            <a:r>
              <a:rPr b="0" lang="es-ES_tradnl" sz="2800" spc="-1" strike="noStrike" baseline="-25000">
                <a:solidFill>
                  <a:srgbClr val="ffff00"/>
                </a:solidFill>
                <a:latin typeface="Times New Roman"/>
              </a:rPr>
              <a:t>tot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 = V</a:t>
            </a:r>
            <a:r>
              <a:rPr b="0" lang="es-ES_tradnl" sz="2800" spc="-1" strike="noStrike" baseline="-25000">
                <a:solidFill>
                  <a:srgbClr val="ffff00"/>
                </a:solidFill>
                <a:latin typeface="Times New Roman"/>
              </a:rPr>
              <a:t>rec 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exp (-</a:t>
            </a:r>
            <a:r>
              <a:rPr b="0" lang="es-ES_tradnl" sz="28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·f</a:t>
            </a:r>
            <a:r>
              <a:rPr b="0" lang="es-ES_tradnl" sz="2800" spc="-1" strike="noStrike" baseline="-25000">
                <a:solidFill>
                  <a:srgbClr val="ffff00"/>
                </a:solidFill>
                <a:latin typeface="Times New Roman"/>
              </a:rPr>
              <a:t>det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) : </a:t>
            </a:r>
            <a:r>
              <a:rPr b="0" lang="es-ES_tradnl" sz="2800" spc="-1" strike="noStrike" u="sng">
                <a:solidFill>
                  <a:srgbClr val="330099"/>
                </a:solidFill>
                <a:uFillTx/>
                <a:latin typeface="Times New Roman"/>
                <a:hlinkClick r:id="rId1" action="ppaction://hlinksldjump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o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T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ovimient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+ T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ruc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+ T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arade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imes New Roman"/>
              </a:rPr>
              <a:t>movimiento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= L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imes New Roman"/>
              </a:rPr>
              <a:t>viaje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/</a:t>
            </a: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s-ES_tradnl" sz="2400" spc="-1" strike="noStrike" baseline="-25000">
                <a:solidFill>
                  <a:srgbClr val="ff0000"/>
                </a:solidFill>
                <a:latin typeface="Times New Roman"/>
              </a:rPr>
              <a:t>re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imes New Roman"/>
              </a:rPr>
              <a:t>cruce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= N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imes New Roman"/>
              </a:rPr>
              <a:t>cruce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·</a:t>
            </a: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s-ES_tradnl" sz="2400" spc="-1" strike="noStrike" baseline="-25000">
                <a:solidFill>
                  <a:srgbClr val="ff0000"/>
                </a:solidFill>
                <a:latin typeface="Times New Roman"/>
              </a:rPr>
              <a:t>cru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imes New Roman"/>
              </a:rPr>
              <a:t>paradero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=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s-ES_tradnl" sz="2400" spc="-1" strike="noStrike" baseline="-25000">
                <a:solidFill>
                  <a:srgbClr val="ff0000"/>
                </a:solidFill>
                <a:latin typeface="Times New Roman"/>
              </a:rPr>
              <a:t>paradero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·</a:t>
            </a: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s-ES_tradnl" sz="2400" spc="-1" strike="noStrike" baseline="-25000">
                <a:solidFill>
                  <a:srgbClr val="ff0000"/>
                </a:solidFill>
                <a:latin typeface="Times New Roman"/>
              </a:rPr>
              <a:t>parade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lang="es-ES_tradnl" sz="2800" spc="-1" strike="noStrike" baseline="-25000">
                <a:solidFill>
                  <a:srgbClr val="ffff00"/>
                </a:solidFill>
                <a:latin typeface="Times New Roman"/>
              </a:rPr>
              <a:t>cruce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:d</a:t>
            </a:r>
            <a:r>
              <a:rPr b="0" lang="es-ES_tradnl" sz="2800" spc="-1" strike="noStrike" baseline="-25000">
                <a:solidFill>
                  <a:srgbClr val="ffff00"/>
                </a:solidFill>
                <a:latin typeface="Times New Roman"/>
              </a:rPr>
              <a:t>paradero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 = 1:3 a 1:6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(Gardner et al, 199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Prioridades a bus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¿Pistas sólo bus, vías segregadas, paraderos “diferidos”, cobradores automáticos,...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Times New Roman"/>
              </a:rPr>
              <a:t>Definir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problema y objetivo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ff00"/>
                </a:solidFill>
                <a:latin typeface="Times New Roman"/>
              </a:rPr>
              <a:t>Prioridad arcos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aumentar 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velocidad recorrido (V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imes New Roman"/>
              </a:rPr>
              <a:t>rec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protegiendo buses del resto tráf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ff00"/>
                </a:solidFill>
                <a:latin typeface="Times New Roman"/>
              </a:rPr>
              <a:t>Prioridad intersecciones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reducir 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demora de cruc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(d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imes New Roman"/>
              </a:rPr>
              <a:t>cruce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de buses dando prefere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ff00"/>
                </a:solidFill>
                <a:latin typeface="Times New Roman"/>
              </a:rPr>
              <a:t>Prioridad paraderos:</a:t>
            </a: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ptimizar 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número (N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imes New Roman"/>
              </a:rPr>
              <a:t>paradero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)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y</a:t>
            </a: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ducir 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demora (d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imes New Roman"/>
              </a:rPr>
              <a:t>paradero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a buses diseñando bi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Referencia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TRB (1965-2000) Hihway Capacity Manu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BTU (1982): Tratamento preferencial ao transporte coletivo por ônib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Gibson, Baeza, Willumsen (1989): Traffic Engineering and Control (TEC) - Ejempl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Gibson, Fernández (1995, 1996): Apuntes Ing UC - </a:t>
            </a:r>
            <a:r>
              <a:rPr b="0" lang="es-ES_tradnl" sz="2000" spc="-1" strike="noStrike" u="sng">
                <a:solidFill>
                  <a:srgbClr val="330099"/>
                </a:solidFill>
                <a:uFillTx/>
                <a:latin typeface="Times New Roman"/>
                <a:hlinkClick r:id="rId1" action="ppaction://hlinksldjump"/>
              </a:rPr>
              <a:t>Ejempl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Fernández (1993): TE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Tyler, Caiaffa (1999): European Transport Conference 1999 (ETC’99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Fernández (1999): IX Congreso Chileno, ETC’99 - Ejempl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Fernández, Salamanca (1999): IX Congreso Chileno - </a:t>
            </a:r>
            <a:r>
              <a:rPr b="0" lang="es-ES_tradnl" sz="2000" spc="-1" strike="noStrike" u="sng">
                <a:solidFill>
                  <a:srgbClr val="330099"/>
                </a:solidFill>
                <a:uFillTx/>
                <a:latin typeface="Times New Roman"/>
                <a:hlinkClick r:id="rId2" action="ppaction://hlinksldjump"/>
              </a:rPr>
              <a:t>Ejempl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Fernández (2000): ETC’2000, R&amp;T Resear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Fernández (2001): TEC, Transport Review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Times New Roman"/>
              </a:rPr>
              <a:t>Modelo PAS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PASSION: PA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rallel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top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milat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Objetivo, alcances (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experimetal framework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447920" y="3395520"/>
          <a:ext cx="6365880" cy="27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395520"/>
                    <a:ext cx="6365880" cy="27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2T13:32:48Z</dcterms:created>
  <dc:creator>Rodrigo Fernandez</dc:creator>
  <dc:description/>
  <dc:language>en-US</dc:language>
  <cp:lastModifiedBy>Rodrigo Fernández.</cp:lastModifiedBy>
  <dcterms:modified xsi:type="dcterms:W3CDTF">2001-08-20T20:58:48Z</dcterms:modified>
  <cp:revision>24</cp:revision>
  <dc:subject/>
  <dc:title>Medidas de Prioridad al Transporte Público</dc:title>
</cp:coreProperties>
</file>