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B34-034D-40AB-A36D-D296C0EA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AF4-B705-429C-85DC-CE1AC3ED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3BF-AB48-473B-8D37-F0295871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EB7-6E53-4846-9CA9-5B3EC228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731-D11C-4091-9088-B54C4326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3BD-6131-4EDD-B3EE-A91D613C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1CD-6B1F-447A-8BF2-E3486F34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EFC-64BB-4A13-9608-60BAC648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C0F-94E3-42FA-A884-A6B0A19F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484-1AD6-4689-AC8F-E1D3E23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420-76A7-428C-81E8-0E49B3F4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F55-6759-4648-8671-3823691C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D1B757-C971-4B04-8093-7538D055B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19F-3DD7-410C-989D-1BBFF44E2666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571-96B6-424F-8162-F7C7CC2954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est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ED6-1A30-4CA0-B417-43F8B44C1F11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91E-6BF3-4E7B-976B-CA5AFA604108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C82-C817-4BE6-B73B-B61C3F500D85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98F-8992-4A0C-B929-FF878FFF69A2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0E2-3E6B-44D7-9726-85C5B6F58081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7B6-FDEE-4713-B703-332EEC21F658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5FE-C297-4F7B-9977-F9F792EE9A50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E48-93E9-45CC-81D3-4F4AB52C3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E10-4BDF-422E-A590-4EB32E0B6D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337-0464-4FF6-86EE-676F855579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06B-4BEF-442F-9641-95DBDF0A36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66840" y="4479840"/>
            <a:ext cx="2681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 : 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343880" y="601884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gregación 1: multindividuos en un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958-220E-4DC0-9E77-4F0585A13B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1353600" y="50328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15636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096040" y="360216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21440" y="6094800"/>
            <a:ext cx="70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gregación 2: Multi-opciones para un individ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974-3355-48EA-84FF-2B03CC8B48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9EF-0A0F-4C7B-B757-DD37CC42C8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852-3EA7-4EA8-B92E-B4DE21ED86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2EB-7D08-4B88-A8A1-CD4AC69E1662}" type="slidenum">
              <a:t>25</a:t>
            </a:fld>
          </a:p>
        </p:txBody>
      </p:sp>
    </p:spTree>
  </p:cSld>
  <p:transition spd="med" advTm="1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33B39C-DA85-4437-9087-B9649965668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2F4AA5-9E77-4AE4-BDF1-6FB2B0B3866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36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36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c,p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4038480" y="2133720"/>
                <a:ext cx="48261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3228840" y="5105520"/>
                <a:ext cx="340056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2FE28F-A084-42A3-B21D-3A81C5A9B8C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B7DA86-4480-4F9B-B161-D9546233C175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07F-1C76-4D97-94EB-6810343FF36F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1956E5-4C05-4AA0-8719-F00264EF14F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1800360" y="3962520"/>
                <a:ext cx="51940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AB8DAD-610C-49FA-8C86-7F9E34ADB62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0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A35F1F-8E31-4281-817B-B7DEA81D827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1635120" y="4022640"/>
                <a:ext cx="6594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u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3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266FF9-33E1-4792-8D1E-D4251213B623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6D776E-008B-4337-906F-14872B54B8E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41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42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43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449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5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4F0E57-49B9-400B-88C3-89EB6AE16893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8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469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476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477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483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9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491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496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A28628-69CE-40D1-9A71-BB1E0B484AE2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05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9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11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12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2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5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6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40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41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550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1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552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4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4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567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9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1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4E6-5436-4F0D-8CBB-4B959B44B1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DA0-CFA3-4DD5-9450-852A590BC82D}" type="slidenum">
              <a:t>4</a:t>
            </a:fld>
          </a:p>
        </p:txBody>
      </p:sp>
    </p:spTree>
  </p:cSld>
  <p:transition spd="med" advTm="1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388-91BE-4500-8BF4-D117DE84F1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60E-2C76-4E4A-AF04-19870C9BA0B1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BA8-C8D9-4AD8-9094-CAA77951DEBC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2B2-8C32-48A7-BC26-C35063DEBD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58B-6740-4C71-A015-36A88A70ECC9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Mariela Salazar</cp:lastModifiedBy>
  <dcterms:modified xsi:type="dcterms:W3CDTF">2002-08-06T14:55:30Z</dcterms:modified>
  <cp:revision>73</cp:revision>
  <dc:subject/>
  <dc:title>General</dc:title>
</cp:coreProperties>
</file>