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68B-3369-4F8C-A714-571488E8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08D-64CE-4B4A-8C8D-291A9447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B86-9845-469A-91BE-11210F08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D63-5E05-436E-B0D3-74F880D7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8EB-8A45-40EF-ACA2-59C4CD22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692-D5ED-439F-ABF6-32F3CDA8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69C-2058-4AE8-BDB8-BAB1433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116-78E6-4556-9C47-8883C71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F5D-7B6F-449D-9C81-FC9B48C0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1BF-0A55-487F-B6F7-A7C88CE9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7E7-3B54-4742-A5A2-5B85D82F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C3D-9A54-4F20-A24E-ADE24C4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84F6CB-17A8-4F76-ADDA-2A2F4015C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BF1-4057-4B59-8DD7-D036EE44BC69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FA1-3FBC-4846-88F3-413CA70C4C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est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8AC-4CCD-4182-A7F6-26E792174388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18C-1D7A-4206-BAB7-EF2A19B32BA4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AA9-C4A7-4491-9FE7-4D72D14A5EC3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C78-CCE4-4C21-AA6F-34756D8320C8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D49-FFF1-4FA1-9189-02A50A68B7EE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393-8212-4F76-8E9E-1C047F3825FB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E38-A762-42EC-8FBC-3B5D01E8929B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DFC-051B-431D-A1FD-7B098133FB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9B3-1704-417C-807E-522A4F7A28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D3F-EEC8-4E93-89DF-B23DA30A8C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CF7-5155-49B4-AEDA-C19498121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66840" y="4479840"/>
            <a:ext cx="2681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 : 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343880" y="601884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gregación 1: multindividuos en un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98D-2DC6-4011-A204-528AABB885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1353600" y="50328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15636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096040" y="360216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21440" y="6094800"/>
            <a:ext cx="70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gregación 2: Multi-opciones para un individ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CB2-DB05-4BED-931B-AA346C5902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C6F-B8FA-42BA-91CD-6EC8AAB619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4A9-5FEE-44A7-A059-C6AFC45A31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C5A-6B14-44AE-AD72-6D970F869FF8}" type="slidenum">
              <a:t>25</a:t>
            </a:fld>
          </a:p>
        </p:txBody>
      </p:sp>
    </p:spTree>
  </p:cSld>
  <p:transition spd="med" advTm="1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6A3519-1605-43EC-A715-DF3A0DB97A03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E53777-8558-4715-91E2-C1EF404C60B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36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36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c,p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4038480" y="2133720"/>
                <a:ext cx="48261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3228840" y="5105520"/>
                <a:ext cx="340056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7FDB96-8662-4E93-B017-DA65B80F6FD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2C3694-DB80-4C03-9292-2410B892B9C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A7F-EA1F-46C5-8157-A603487291DA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09C9CE-A09D-40C2-A71F-143594BD2515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1800360" y="3962520"/>
                <a:ext cx="51940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93E760-08BC-4C7C-AF63-73CD070D7365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0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3261EC-9D93-4065-A7EE-8BA443E54123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1635120" y="4022640"/>
                <a:ext cx="6594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u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3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7ED2B6-81AE-4CB0-8910-D7810B5BFAE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3BA2AB-8B6A-413F-8765-920746195831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41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42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43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449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5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240AB8-9070-472B-8CD9-26358ED47EE6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8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469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476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477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483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9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491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496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9B3D78-29C0-4559-8F2A-5D0E8169C3F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05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9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11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12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2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5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6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40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41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550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1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552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4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4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567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9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1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AB0-2D4B-4A0F-8ACE-5539966B32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E3C-383E-4BF4-8B17-63EB54725ACF}" type="slidenum">
              <a:t>4</a:t>
            </a:fld>
          </a:p>
        </p:txBody>
      </p:sp>
    </p:spTree>
  </p:cSld>
  <p:transition spd="med" advTm="1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6B0-3393-4B77-8DFB-C2F2657D16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581-D44F-4C34-99BF-972863215856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2FA-34A5-4C81-B2E7-B9421C6118B5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E2B-BBED-4398-9B18-9DA3FAC67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A95-3031-420B-A233-CA749FE04122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Mariela Salazar</cp:lastModifiedBy>
  <dcterms:modified xsi:type="dcterms:W3CDTF">2002-08-06T14:55:30Z</dcterms:modified>
  <cp:revision>73</cp:revision>
  <dc:subject/>
  <dc:title>General</dc:title>
</cp:coreProperties>
</file>