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102475" cy="8593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5107-FE9F-4F26-8EE5-E9C097A1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CE84-637B-4418-B647-6F55D638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1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21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022-F250-4731-9705-6479D48F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5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5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6433-D7A6-4683-91F2-5561A7B2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349-A22F-4B77-9E0D-B810F7CF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9E6D-60B8-4CB1-BC4C-18D0878A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21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2A3F-3E8A-4DB7-A82B-08988F20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231-CBDB-499A-8465-6A345143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43F-AB90-405F-96C2-858C3D1F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F9F7-2717-4DE6-8755-101FFB56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21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47ED-70A5-4DBB-AEF4-4314BC12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5CC0-E1B5-4BA1-A101-82252CD4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641E-F8DA-4083-A4E3-D26D7EA60AF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e9b03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381880" y="0"/>
            <a:ext cx="546120" cy="1108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aramond"/>
              </a:rPr>
              <a:t>Click to edit the title text format</a:t>
            </a: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07960" y="12384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112536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04640"/>
            <a:ext cx="78487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cc"/>
                </a:solidFill>
                <a:latin typeface="Arial"/>
              </a:rPr>
              <a:t>Bases para la Gestión de Tráns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Esquema Intregado de Gestión de Trán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33cc"/>
                </a:solidFill>
                <a:latin typeface="Arial"/>
              </a:rPr>
              <a:t>Valenzuela, E. – Fernández, R. (200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1287360"/>
            <a:ext cx="5730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6T19:35:28Z</dcterms:created>
  <dc:creator>EVF- RFA</dc:creator>
  <dc:description/>
  <dc:language>en-US</dc:language>
  <cp:lastModifiedBy>Eduardo Valenzuela F</cp:lastModifiedBy>
  <cp:lastPrinted>1997-08-22T15:19:52Z</cp:lastPrinted>
  <dcterms:modified xsi:type="dcterms:W3CDTF">2002-08-08T13:59:16Z</dcterms:modified>
  <cp:revision>300</cp:revision>
  <dc:subject/>
  <dc:title>Gestión de Tránsi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5802341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subir diagrama a la web</vt:lpwstr>
  </property>
</Properties>
</file>