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02475" cy="8593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F90-ED7D-48F1-A80F-A4817717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027-B1DB-4995-A3CE-302671A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DB4-0FEE-471F-9C3B-D43DAF60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220-8E00-476C-AD41-44F0C358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619-FB6A-43DE-9222-E1005BE4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FB25-E7C2-4908-ADB5-ACD2A661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FD2-B97F-4496-B1CB-D8C995A2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3855-3843-4A7C-8CF7-3CD86733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E82-CE97-421F-A0CF-B816440A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524-F871-458B-A534-D3EB7DA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A4A-539D-4F7C-8F27-F19E2072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255-268E-4CC3-BE16-42D6878E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6F75-4F79-482A-98B5-D675117B7589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c0081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e9b03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546120" cy="1108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07960" y="123840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125360"/>
            <a:ext cx="7416720" cy="0"/>
          </a:xfrm>
          <a:prstGeom prst="line">
            <a:avLst/>
          </a:prstGeom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04640"/>
            <a:ext cx="7848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cc"/>
                </a:solidFill>
                <a:latin typeface="Arial"/>
              </a:rPr>
              <a:t>Bases para la Gestión de Tráns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Esquema Intregado de Gestión de Trán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33cc"/>
                </a:solidFill>
                <a:latin typeface="Arial"/>
              </a:rPr>
              <a:t>Valenzuela, E. – Fernández, R. (200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287360"/>
            <a:ext cx="5730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06T19:35:28Z</dcterms:created>
  <dc:creator>EVF- RFA</dc:creator>
  <dc:description/>
  <dc:language>en-US</dc:language>
  <cp:lastModifiedBy>Eduardo Valenzuela F</cp:lastModifiedBy>
  <cp:lastPrinted>1997-08-22T15:19:52Z</cp:lastPrinted>
  <dcterms:modified xsi:type="dcterms:W3CDTF">2002-08-08T13:59:16Z</dcterms:modified>
  <cp:revision>300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5802341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subir diagrama a la web</vt:lpwstr>
  </property>
</Properties>
</file>