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22D-40D2-4185-97C0-4C88AF00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96C-15B6-4E41-BC84-3E3C8FCA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95F-F34E-4502-9157-FF03B70A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F1E-8067-4E10-9A26-4DBB6653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542-3801-4D79-B473-0C497E74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179-D14A-481D-9FC8-DCF811D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7C2-125F-47C7-970B-883A705A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6E1-12F5-4C73-BAE3-A01F65FD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D18-B009-4979-8055-1AAD73D3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44E-9E3F-4C3E-BE19-11EBA7DB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4F2-66B9-4721-AFF2-BB4B51D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AFB-E599-42EB-8EAB-9F4BE09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8E7B-1DE0-4FEC-85B8-0807F284AFC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e9b03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546120" cy="110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12384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12536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04640"/>
            <a:ext cx="7848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Esquema Intregado de Gestión de Trán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cc"/>
                </a:solidFill>
                <a:latin typeface="Arial"/>
              </a:rPr>
              <a:t>Valenzuela, E. – Fernández, R. (200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287360"/>
            <a:ext cx="5730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6T19:35:28Z</dcterms:created>
  <dc:creator>EVF- RFA</dc:creator>
  <dc:description/>
  <dc:language>en-US</dc:language>
  <cp:lastModifiedBy>Eduardo Valenzuela F</cp:lastModifiedBy>
  <cp:lastPrinted>1997-08-22T15:19:52Z</cp:lastPrinted>
  <dcterms:modified xsi:type="dcterms:W3CDTF">2002-08-08T13:59:16Z</dcterms:modified>
  <cp:revision>30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5802341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diagrama a la web</vt:lpwstr>
  </property>
</Properties>
</file>