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15D-559B-4B67-B8DB-64304861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D36-E98A-41B9-A710-F440C410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D6B-4841-4085-9E05-3013685D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AD3-0A1B-47BD-9E41-DAA83D2F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BC1-14AB-4893-98F6-8E4DC561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962-6C32-4A4F-A7D0-6CE413D9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D6C-1005-4D83-924F-0CAB3231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2A3-C968-4246-B0D3-5379EC12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F59C-13DB-4119-ABB2-5348CA42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C5F-7FCE-4DE7-A6E9-986A435F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9AE-1E9E-4A19-AB47-765816C6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706-C5C1-49BF-86FD-62F175DB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53DE-B82E-45B6-90C5-5F04F88C9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111240"/>
            <a:ext cx="546120" cy="11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ón tangible de viajes que circu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r flujos =&gt; estimación de 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ia para el diseño operativo y físico de la infraestructur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r flu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r el volumen de pasadas de objetos por un determinado punto y durante un cierto perí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dad de objetos haciendo esto =&gt; especificar según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tipo de vehíc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tipo de movimiento en interse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TASA DE OCUP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955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Menores (VL, Camionetas, Jeep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del número de pasajeros incluyendo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xis Básicos y Taxis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incluir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de Carga: rara vez, salvo estudi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nsporte Público Mayor (buses, taxibu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osibilidad espacio-temporal de contar todos los pasaj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cesidad de considerar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s: categorías sólo válidas para zona donde se obtuvieron y en año correspo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TASA DE OCUP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955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19320" y="1828800"/>
            <a:ext cx="6247440" cy="2286000"/>
            <a:chOff x="1219320" y="1828800"/>
            <a:chExt cx="6247440" cy="2286000"/>
          </a:xfrm>
        </p:grpSpPr>
        <p:grpSp>
          <p:nvGrpSpPr>
            <p:cNvPr id="168" name=""/>
            <p:cNvGrpSpPr/>
            <p:nvPr/>
          </p:nvGrpSpPr>
          <p:grpSpPr>
            <a:xfrm>
              <a:off x="1219320" y="1828800"/>
              <a:ext cx="1092240" cy="380880"/>
              <a:chOff x="1219320" y="1828800"/>
              <a:chExt cx="1092240" cy="380880"/>
            </a:xfrm>
          </p:grpSpPr>
          <p:sp>
            <p:nvSpPr>
              <p:cNvPr id="169" name=""/>
              <p:cNvSpPr/>
              <p:nvPr/>
            </p:nvSpPr>
            <p:spPr>
              <a:xfrm>
                <a:off x="1275840" y="182880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tegorí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19320" y="182880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2311920" y="1828800"/>
              <a:ext cx="3679200" cy="380880"/>
              <a:chOff x="2311920" y="1828800"/>
              <a:chExt cx="3679200" cy="380880"/>
            </a:xfrm>
          </p:grpSpPr>
          <p:sp>
            <p:nvSpPr>
              <p:cNvPr id="172" name=""/>
              <p:cNvSpPr/>
              <p:nvPr/>
            </p:nvSpPr>
            <p:spPr>
              <a:xfrm>
                <a:off x="2368800" y="182880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nició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920" y="182880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5991840" y="1828800"/>
              <a:ext cx="690480" cy="380880"/>
              <a:chOff x="5991840" y="1828800"/>
              <a:chExt cx="690480" cy="380880"/>
            </a:xfrm>
          </p:grpSpPr>
          <p:sp>
            <p:nvSpPr>
              <p:cNvPr id="175" name=""/>
              <p:cNvSpPr/>
              <p:nvPr/>
            </p:nvSpPr>
            <p:spPr>
              <a:xfrm>
                <a:off x="6048720" y="1828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X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91840" y="1828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683040" y="1828800"/>
              <a:ext cx="783720" cy="380880"/>
              <a:chOff x="6683040" y="1828800"/>
              <a:chExt cx="783720" cy="380880"/>
            </a:xfrm>
          </p:grpSpPr>
          <p:sp>
            <p:nvSpPr>
              <p:cNvPr id="178" name=""/>
              <p:cNvSpPr/>
              <p:nvPr/>
            </p:nvSpPr>
            <p:spPr>
              <a:xfrm>
                <a:off x="6739560" y="1828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83040" y="1828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219320" y="2209680"/>
              <a:ext cx="1092240" cy="380880"/>
              <a:chOff x="1219320" y="2209680"/>
              <a:chExt cx="1092240" cy="380880"/>
            </a:xfrm>
          </p:grpSpPr>
          <p:sp>
            <p:nvSpPr>
              <p:cNvPr id="181" name=""/>
              <p:cNvSpPr/>
              <p:nvPr/>
            </p:nvSpPr>
            <p:spPr>
              <a:xfrm>
                <a:off x="1275840" y="220968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219320" y="220968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311920" y="2209680"/>
              <a:ext cx="3679200" cy="380880"/>
              <a:chOff x="2311920" y="2209680"/>
              <a:chExt cx="3679200" cy="380880"/>
            </a:xfrm>
          </p:grpSpPr>
          <p:sp>
            <p:nvSpPr>
              <p:cNvPr id="184" name=""/>
              <p:cNvSpPr/>
              <p:nvPr/>
            </p:nvSpPr>
            <p:spPr>
              <a:xfrm>
                <a:off x="2368800" y="220968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hículo completamente ocupado, con pasajeros colgand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311920" y="220968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991840" y="2209680"/>
              <a:ext cx="690480" cy="380880"/>
              <a:chOff x="5991840" y="2209680"/>
              <a:chExt cx="690480" cy="380880"/>
            </a:xfrm>
          </p:grpSpPr>
          <p:sp>
            <p:nvSpPr>
              <p:cNvPr id="187" name=""/>
              <p:cNvSpPr/>
              <p:nvPr/>
            </p:nvSpPr>
            <p:spPr>
              <a:xfrm>
                <a:off x="6048720" y="220968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4,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91840" y="220968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683040" y="2209680"/>
              <a:ext cx="783720" cy="380880"/>
              <a:chOff x="6683040" y="2209680"/>
              <a:chExt cx="783720" cy="380880"/>
            </a:xfrm>
          </p:grpSpPr>
          <p:sp>
            <p:nvSpPr>
              <p:cNvPr id="190" name=""/>
              <p:cNvSpPr/>
              <p:nvPr/>
            </p:nvSpPr>
            <p:spPr>
              <a:xfrm>
                <a:off x="6739560" y="220968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3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683040" y="220968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219320" y="2590920"/>
              <a:ext cx="1092240" cy="380880"/>
              <a:chOff x="1219320" y="2590920"/>
              <a:chExt cx="1092240" cy="3808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75840" y="259092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19320" y="259092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2311920" y="2590920"/>
              <a:ext cx="3679200" cy="380880"/>
              <a:chOff x="2311920" y="2590920"/>
              <a:chExt cx="3679200" cy="380880"/>
            </a:xfrm>
          </p:grpSpPr>
          <p:sp>
            <p:nvSpPr>
              <p:cNvPr id="196" name=""/>
              <p:cNvSpPr/>
              <p:nvPr/>
            </p:nvSpPr>
            <p:spPr>
              <a:xfrm>
                <a:off x="2368800" y="259092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311920" y="259092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5991840" y="2590920"/>
              <a:ext cx="690480" cy="380880"/>
              <a:chOff x="5991840" y="2590920"/>
              <a:chExt cx="690480" cy="380880"/>
            </a:xfrm>
          </p:grpSpPr>
          <p:sp>
            <p:nvSpPr>
              <p:cNvPr id="199" name=""/>
              <p:cNvSpPr/>
              <p:nvPr/>
            </p:nvSpPr>
            <p:spPr>
              <a:xfrm>
                <a:off x="6048720" y="259092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4,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991840" y="259092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6683040" y="2590920"/>
              <a:ext cx="783720" cy="380880"/>
              <a:chOff x="6683040" y="2590920"/>
              <a:chExt cx="783720" cy="380880"/>
            </a:xfrm>
          </p:grpSpPr>
          <p:sp>
            <p:nvSpPr>
              <p:cNvPr id="202" name=""/>
              <p:cNvSpPr/>
              <p:nvPr/>
            </p:nvSpPr>
            <p:spPr>
              <a:xfrm>
                <a:off x="6739560" y="259092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6,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83040" y="259092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1219320" y="2971800"/>
              <a:ext cx="1092240" cy="380880"/>
              <a:chOff x="1219320" y="2971800"/>
              <a:chExt cx="1092240" cy="380880"/>
            </a:xfrm>
          </p:grpSpPr>
          <p:sp>
            <p:nvSpPr>
              <p:cNvPr id="205" name=""/>
              <p:cNvSpPr/>
              <p:nvPr/>
            </p:nvSpPr>
            <p:spPr>
              <a:xfrm>
                <a:off x="1275840" y="297180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19320" y="297180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2311920" y="2971800"/>
              <a:ext cx="3679200" cy="380880"/>
              <a:chOff x="2311920" y="2971800"/>
              <a:chExt cx="3679200" cy="380880"/>
            </a:xfrm>
          </p:grpSpPr>
          <p:sp>
            <p:nvSpPr>
              <p:cNvPr id="208" name=""/>
              <p:cNvSpPr/>
              <p:nvPr/>
            </p:nvSpPr>
            <p:spPr>
              <a:xfrm>
                <a:off x="2368800" y="297180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11920" y="297180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5991840" y="2971800"/>
              <a:ext cx="690480" cy="380880"/>
              <a:chOff x="5991840" y="2971800"/>
              <a:chExt cx="690480" cy="380880"/>
            </a:xfrm>
          </p:grpSpPr>
          <p:sp>
            <p:nvSpPr>
              <p:cNvPr id="211" name=""/>
              <p:cNvSpPr/>
              <p:nvPr/>
            </p:nvSpPr>
            <p:spPr>
              <a:xfrm>
                <a:off x="6048720" y="2971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91840" y="2971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6683040" y="2971800"/>
              <a:ext cx="783720" cy="380880"/>
              <a:chOff x="6683040" y="2971800"/>
              <a:chExt cx="783720" cy="380880"/>
            </a:xfrm>
          </p:grpSpPr>
          <p:sp>
            <p:nvSpPr>
              <p:cNvPr id="214" name=""/>
              <p:cNvSpPr/>
              <p:nvPr/>
            </p:nvSpPr>
            <p:spPr>
              <a:xfrm>
                <a:off x="6739560" y="2971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1,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683040" y="2971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219320" y="3353040"/>
              <a:ext cx="1092240" cy="380880"/>
              <a:chOff x="1219320" y="3353040"/>
              <a:chExt cx="1092240" cy="380880"/>
            </a:xfrm>
          </p:grpSpPr>
          <p:sp>
            <p:nvSpPr>
              <p:cNvPr id="217" name=""/>
              <p:cNvSpPr/>
              <p:nvPr/>
            </p:nvSpPr>
            <p:spPr>
              <a:xfrm>
                <a:off x="1275840" y="335304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19320" y="335304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311920" y="3353040"/>
              <a:ext cx="3679200" cy="380880"/>
              <a:chOff x="2311920" y="3353040"/>
              <a:chExt cx="3679200" cy="380880"/>
            </a:xfrm>
          </p:grpSpPr>
          <p:sp>
            <p:nvSpPr>
              <p:cNvPr id="220" name=""/>
              <p:cNvSpPr/>
              <p:nvPr/>
            </p:nvSpPr>
            <p:spPr>
              <a:xfrm>
                <a:off x="2368800" y="335304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11920" y="335304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991840" y="3353040"/>
              <a:ext cx="690480" cy="380880"/>
              <a:chOff x="5991840" y="3353040"/>
              <a:chExt cx="690480" cy="380880"/>
            </a:xfrm>
          </p:grpSpPr>
          <p:sp>
            <p:nvSpPr>
              <p:cNvPr id="223" name=""/>
              <p:cNvSpPr/>
              <p:nvPr/>
            </p:nvSpPr>
            <p:spPr>
              <a:xfrm>
                <a:off x="6048720" y="335304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91840" y="335304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6683040" y="3353040"/>
              <a:ext cx="783720" cy="380880"/>
              <a:chOff x="6683040" y="3353040"/>
              <a:chExt cx="783720" cy="380880"/>
            </a:xfrm>
          </p:grpSpPr>
          <p:sp>
            <p:nvSpPr>
              <p:cNvPr id="226" name=""/>
              <p:cNvSpPr/>
              <p:nvPr/>
            </p:nvSpPr>
            <p:spPr>
              <a:xfrm>
                <a:off x="6739560" y="335304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683040" y="335304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1219320" y="3733920"/>
              <a:ext cx="1092240" cy="380880"/>
              <a:chOff x="1219320" y="3733920"/>
              <a:chExt cx="1092240" cy="380880"/>
            </a:xfrm>
          </p:grpSpPr>
          <p:sp>
            <p:nvSpPr>
              <p:cNvPr id="229" name=""/>
              <p:cNvSpPr/>
              <p:nvPr/>
            </p:nvSpPr>
            <p:spPr>
              <a:xfrm>
                <a:off x="1275840" y="3733920"/>
                <a:ext cx="9788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3733920"/>
                <a:ext cx="109224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311920" y="3733920"/>
              <a:ext cx="3679200" cy="380880"/>
              <a:chOff x="2311920" y="3733920"/>
              <a:chExt cx="3679200" cy="380880"/>
            </a:xfrm>
          </p:grpSpPr>
          <p:sp>
            <p:nvSpPr>
              <p:cNvPr id="232" name=""/>
              <p:cNvSpPr/>
              <p:nvPr/>
            </p:nvSpPr>
            <p:spPr>
              <a:xfrm>
                <a:off x="2368800" y="3733920"/>
                <a:ext cx="35654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11920" y="3733920"/>
                <a:ext cx="36792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991840" y="3733920"/>
              <a:ext cx="690480" cy="380880"/>
              <a:chOff x="5991840" y="3733920"/>
              <a:chExt cx="690480" cy="380880"/>
            </a:xfrm>
          </p:grpSpPr>
          <p:sp>
            <p:nvSpPr>
              <p:cNvPr id="235" name=""/>
              <p:cNvSpPr/>
              <p:nvPr/>
            </p:nvSpPr>
            <p:spPr>
              <a:xfrm>
                <a:off x="6048720" y="373392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91840" y="373392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683040" y="3733920"/>
              <a:ext cx="783720" cy="380880"/>
              <a:chOff x="6683040" y="3733920"/>
              <a:chExt cx="783720" cy="380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739560" y="373392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83040" y="373392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TAMAÑO MUES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955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62120" y="2077920"/>
                <a:ext cx="16761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2666880" y="1996920"/>
            <a:ext cx="609624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Z, nivel de significancia estadística asumiendo una función de distribución específica (normal: Z=1,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, coeficiente de variación de la variable a medir (desviación estándar / med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, error aceptado en la 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4800600"/>
            <a:ext cx="6095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Stgo., CV=0,2 lo que implica n=60 obs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s sistemáticas del estilo: 1 cada 5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tipo de vehícu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óviles y vehículos liv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es y microbuses (movimiento de pasajeros por 2 puert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xibuses (movimiento de pasajeros por 1 puer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ciclos (bicicletas y motocicietas de hasta 50 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tipo de movimiento en intersec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ajes a la 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ajes a la 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 de med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h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q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 no necesariamente implica medir o contar durante 1 hora. El período de medición será función de los objetivos perseguidos y de las características del flujo, como por ejemplo, su vari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se usan flujos para modelar tráfico y predecir impactos (relacionar flujos con otras variables), se recomiendan períodos de conteo de 1 a 15 minu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mente, contabilizar cada 15 minutos, totalizando a la h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onteos: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penden de lo que se bus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ones en tramos de v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jo total anual:  volumen total de vehículos acumulados durante todo un año. Sirve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s de tendencia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económica preliminar de proyect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udio de tasas de accid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DA (Tránsito Medio Diario Anual): flujo total anual dividido por 365 d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ción de obras de infraestruct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económica de proyect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álisis de capac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jo punta horario: flujo durante la hora de mayor demanda en el tra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 geométric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 de políticas de regulación y control tráf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onteos: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penden de lo que se bus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ones puntu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os en intersecciones:  medición de todos los flujos de todos los movimientos en la inters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ño Operativo de la Inter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ción de Proyectos de 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472000" y="3855960"/>
            <a:ext cx="2833920" cy="2468160"/>
            <a:chOff x="5472000" y="3855960"/>
            <a:chExt cx="2833920" cy="2468160"/>
          </a:xfrm>
        </p:grpSpPr>
        <p:sp>
          <p:nvSpPr>
            <p:cNvPr id="63" name=""/>
            <p:cNvSpPr/>
            <p:nvPr/>
          </p:nvSpPr>
          <p:spPr>
            <a:xfrm>
              <a:off x="6386040" y="385596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391880" y="385596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386040" y="5501520"/>
              <a:ext cx="0" cy="8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91880" y="5501520"/>
              <a:ext cx="0" cy="8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91880" y="45871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91880" y="55015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72000" y="45871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72000" y="55015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934680" y="458676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86040" y="5227200"/>
              <a:ext cx="100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6385680" y="4861440"/>
              <a:ext cx="100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67880" y="4607640"/>
              <a:ext cx="223920" cy="258120"/>
            </a:xfrm>
            <a:custGeom>
              <a:avLst/>
              <a:gdLst/>
              <a:ahLst/>
              <a:rect l="l" t="t" r="r" b="b"/>
              <a:pathLst>
                <a:path w="337" h="355">
                  <a:moveTo>
                    <a:pt x="337" y="355"/>
                  </a:moveTo>
                  <a:cubicBezTo>
                    <a:pt x="178" y="316"/>
                    <a:pt x="183" y="332"/>
                    <a:pt x="75" y="224"/>
                  </a:cubicBezTo>
                  <a:cubicBezTo>
                    <a:pt x="32" y="93"/>
                    <a:pt x="51" y="149"/>
                    <a:pt x="19" y="56"/>
                  </a:cubicBezTo>
                  <a:cubicBezTo>
                    <a:pt x="13" y="37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97520" y="4878000"/>
              <a:ext cx="332280" cy="653040"/>
            </a:xfrm>
            <a:custGeom>
              <a:avLst/>
              <a:gdLst/>
              <a:ahLst/>
              <a:rect l="l" t="t" r="r" b="b"/>
              <a:pathLst>
                <a:path w="524" h="1029">
                  <a:moveTo>
                    <a:pt x="524" y="0"/>
                  </a:moveTo>
                  <a:cubicBezTo>
                    <a:pt x="459" y="16"/>
                    <a:pt x="433" y="17"/>
                    <a:pt x="375" y="56"/>
                  </a:cubicBezTo>
                  <a:cubicBezTo>
                    <a:pt x="328" y="88"/>
                    <a:pt x="303" y="147"/>
                    <a:pt x="262" y="187"/>
                  </a:cubicBezTo>
                  <a:cubicBezTo>
                    <a:pt x="256" y="206"/>
                    <a:pt x="254" y="226"/>
                    <a:pt x="244" y="243"/>
                  </a:cubicBezTo>
                  <a:cubicBezTo>
                    <a:pt x="235" y="258"/>
                    <a:pt x="214" y="265"/>
                    <a:pt x="206" y="281"/>
                  </a:cubicBezTo>
                  <a:cubicBezTo>
                    <a:pt x="121" y="451"/>
                    <a:pt x="216" y="347"/>
                    <a:pt x="131" y="430"/>
                  </a:cubicBezTo>
                  <a:cubicBezTo>
                    <a:pt x="88" y="562"/>
                    <a:pt x="107" y="505"/>
                    <a:pt x="75" y="599"/>
                  </a:cubicBezTo>
                  <a:cubicBezTo>
                    <a:pt x="68" y="620"/>
                    <a:pt x="48" y="635"/>
                    <a:pt x="38" y="655"/>
                  </a:cubicBezTo>
                  <a:cubicBezTo>
                    <a:pt x="29" y="673"/>
                    <a:pt x="25" y="692"/>
                    <a:pt x="19" y="711"/>
                  </a:cubicBezTo>
                  <a:cubicBezTo>
                    <a:pt x="0" y="1004"/>
                    <a:pt x="1" y="897"/>
                    <a:pt x="1" y="10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36800" y="5238720"/>
              <a:ext cx="180000" cy="270360"/>
            </a:xfrm>
            <a:custGeom>
              <a:avLst/>
              <a:gdLst/>
              <a:ahLst/>
              <a:rect l="l" t="t" r="r" b="b"/>
              <a:pathLst>
                <a:path w="224" h="393">
                  <a:moveTo>
                    <a:pt x="0" y="0"/>
                  </a:moveTo>
                  <a:cubicBezTo>
                    <a:pt x="19" y="6"/>
                    <a:pt x="42" y="5"/>
                    <a:pt x="56" y="19"/>
                  </a:cubicBezTo>
                  <a:cubicBezTo>
                    <a:pt x="88" y="51"/>
                    <a:pt x="98" y="99"/>
                    <a:pt x="130" y="131"/>
                  </a:cubicBezTo>
                  <a:cubicBezTo>
                    <a:pt x="143" y="144"/>
                    <a:pt x="155" y="156"/>
                    <a:pt x="168" y="169"/>
                  </a:cubicBezTo>
                  <a:cubicBezTo>
                    <a:pt x="195" y="251"/>
                    <a:pt x="224" y="310"/>
                    <a:pt x="224" y="39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onteos: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penden de lo que se bus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ones puntu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os de cordón: se cuentan todos los flujos que entran o salen de un ár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ción de la Oferta del á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ción Detallada E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486400" y="3504960"/>
            <a:ext cx="2652840" cy="2376360"/>
            <a:chOff x="5486400" y="3504960"/>
            <a:chExt cx="2652840" cy="2376360"/>
          </a:xfrm>
        </p:grpSpPr>
        <p:sp>
          <p:nvSpPr>
            <p:cNvPr id="82" name=""/>
            <p:cNvSpPr/>
            <p:nvPr/>
          </p:nvSpPr>
          <p:spPr>
            <a:xfrm flipV="1">
              <a:off x="6126480" y="560700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126480" y="396180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126480" y="3504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858360" y="560700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590240" y="560700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858360" y="396180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590240" y="396180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858360" y="3504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7590240" y="3504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92600" y="350532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92600" y="405360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92600" y="569880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24480" y="3505320"/>
              <a:ext cx="0" cy="5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24480" y="405360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24480" y="569880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86400" y="432756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52160" y="4327560"/>
              <a:ext cx="20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64920" y="432756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773480" y="46018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760720" y="4601880"/>
              <a:ext cx="20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5486400" y="460188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487584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52160" y="4875840"/>
              <a:ext cx="20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64920" y="487584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486400" y="515016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760720" y="5150160"/>
              <a:ext cx="20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773480" y="515016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52160" y="5424480"/>
              <a:ext cx="20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86400" y="54244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64920" y="542448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35040" y="4236120"/>
              <a:ext cx="1646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35040" y="5515920"/>
              <a:ext cx="1646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35040" y="4236120"/>
              <a:ext cx="0" cy="1279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81680" y="4236120"/>
              <a:ext cx="0" cy="1279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Objetivos y Métodos de Medi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onteos: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ependen de lo que se bus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ones puntu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os de pantalla: se cuenta todo lo que pasa por una línea de pantalla virt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ción Gruesa E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ficación de Obras sobre la Línea de Panta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3560" y="4002120"/>
            <a:ext cx="1982520" cy="1712520"/>
            <a:chOff x="5713560" y="4002120"/>
            <a:chExt cx="1982520" cy="1712520"/>
          </a:xfrm>
        </p:grpSpPr>
        <p:sp>
          <p:nvSpPr>
            <p:cNvPr id="121" name=""/>
            <p:cNvSpPr/>
            <p:nvPr/>
          </p:nvSpPr>
          <p:spPr>
            <a:xfrm flipV="1">
              <a:off x="5893560" y="4327920"/>
              <a:ext cx="0" cy="11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7245360" y="4327920"/>
              <a:ext cx="0" cy="11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18240" y="4508280"/>
              <a:ext cx="625680" cy="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713560" y="477900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7605720" y="4327920"/>
              <a:ext cx="0" cy="11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44280" y="4508640"/>
              <a:ext cx="63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75000" y="450864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85000" y="4779000"/>
              <a:ext cx="81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3560" y="5049720"/>
              <a:ext cx="90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55360" y="504972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4280" y="4328280"/>
              <a:ext cx="0" cy="11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3560" y="5320080"/>
              <a:ext cx="81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4280" y="5320080"/>
              <a:ext cx="63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55360" y="5320080"/>
              <a:ext cx="54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6614280" y="4182120"/>
              <a:ext cx="90000" cy="450360"/>
            </a:xfrm>
            <a:custGeom>
              <a:avLst/>
              <a:gdLst>
                <a:gd name="textAreaLeft" fmla="*/ 26280 w 90000"/>
                <a:gd name="textAreaRight" fmla="*/ 90360 w 90000"/>
                <a:gd name="textAreaTop" fmla="*/ 18720 h 450360"/>
                <a:gd name="textAreaBottom" fmla="*/ 431640 h 4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6794640" y="4993560"/>
              <a:ext cx="90000" cy="450360"/>
            </a:xfrm>
            <a:custGeom>
              <a:avLst/>
              <a:gdLst>
                <a:gd name="textAreaLeft" fmla="*/ 26280 w 90000"/>
                <a:gd name="textAreaRight" fmla="*/ 90360 w 90000"/>
                <a:gd name="textAreaTop" fmla="*/ 18720 h 450360"/>
                <a:gd name="textAreaBottom" fmla="*/ 431640 h 4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6613920" y="4362480"/>
              <a:ext cx="90000" cy="450360"/>
            </a:xfrm>
            <a:custGeom>
              <a:avLst/>
              <a:gdLst>
                <a:gd name="textAreaLeft" fmla="*/ 26280 w 90000"/>
                <a:gd name="textAreaRight" fmla="*/ 90360 w 90000"/>
                <a:gd name="textAreaTop" fmla="*/ 18720 h 450360"/>
                <a:gd name="textAreaBottom" fmla="*/ 431640 h 4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400000">
              <a:off x="6794280" y="5173920"/>
              <a:ext cx="90000" cy="450360"/>
            </a:xfrm>
            <a:custGeom>
              <a:avLst/>
              <a:gdLst>
                <a:gd name="textAreaLeft" fmla="*/ 26280 w 90000"/>
                <a:gd name="textAreaRight" fmla="*/ 90360 w 90000"/>
                <a:gd name="textAreaTop" fmla="*/ 18720 h 450360"/>
                <a:gd name="textAreaBottom" fmla="*/ 431640 h 4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4280" y="4002120"/>
              <a:ext cx="270000" cy="450720"/>
            </a:xfrm>
            <a:custGeom>
              <a:avLst/>
              <a:gdLst/>
              <a:ahLst/>
              <a:rect l="l" t="t" r="r" b="b"/>
              <a:pathLst>
                <a:path w="426" h="710">
                  <a:moveTo>
                    <a:pt x="0" y="0"/>
                  </a:moveTo>
                  <a:cubicBezTo>
                    <a:pt x="106" y="12"/>
                    <a:pt x="213" y="24"/>
                    <a:pt x="284" y="142"/>
                  </a:cubicBezTo>
                  <a:cubicBezTo>
                    <a:pt x="355" y="260"/>
                    <a:pt x="402" y="615"/>
                    <a:pt x="426" y="7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14640" y="4542840"/>
              <a:ext cx="105120" cy="360360"/>
            </a:xfrm>
            <a:custGeom>
              <a:avLst/>
              <a:gdLst/>
              <a:ahLst/>
              <a:rect l="l" t="t" r="r" b="b"/>
              <a:pathLst>
                <a:path w="166" h="568">
                  <a:moveTo>
                    <a:pt x="0" y="0"/>
                  </a:moveTo>
                  <a:cubicBezTo>
                    <a:pt x="59" y="165"/>
                    <a:pt x="118" y="331"/>
                    <a:pt x="142" y="426"/>
                  </a:cubicBezTo>
                  <a:cubicBezTo>
                    <a:pt x="166" y="521"/>
                    <a:pt x="142" y="544"/>
                    <a:pt x="142" y="5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74760" y="4903560"/>
              <a:ext cx="209880" cy="360360"/>
            </a:xfrm>
            <a:custGeom>
              <a:avLst/>
              <a:gdLst/>
              <a:ahLst/>
              <a:rect l="l" t="t" r="r" b="b"/>
              <a:pathLst>
                <a:path w="331" h="568">
                  <a:moveTo>
                    <a:pt x="47" y="0"/>
                  </a:moveTo>
                  <a:cubicBezTo>
                    <a:pt x="23" y="23"/>
                    <a:pt x="0" y="47"/>
                    <a:pt x="47" y="142"/>
                  </a:cubicBezTo>
                  <a:cubicBezTo>
                    <a:pt x="94" y="237"/>
                    <a:pt x="284" y="497"/>
                    <a:pt x="331" y="5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85000" y="5354280"/>
              <a:ext cx="105120" cy="360360"/>
            </a:xfrm>
            <a:custGeom>
              <a:avLst/>
              <a:gdLst/>
              <a:ahLst/>
              <a:rect l="l" t="t" r="r" b="b"/>
              <a:pathLst>
                <a:path w="166" h="568">
                  <a:moveTo>
                    <a:pt x="0" y="0"/>
                  </a:moveTo>
                  <a:cubicBezTo>
                    <a:pt x="59" y="165"/>
                    <a:pt x="118" y="331"/>
                    <a:pt x="142" y="426"/>
                  </a:cubicBezTo>
                  <a:cubicBezTo>
                    <a:pt x="166" y="521"/>
                    <a:pt x="142" y="568"/>
                    <a:pt x="142" y="568"/>
                  </a:cubicBezTo>
                  <a:cubicBezTo>
                    <a:pt x="142" y="568"/>
                    <a:pt x="142" y="497"/>
                    <a:pt x="142" y="4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4572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Variabilidad Tempor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880" y="166032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formas de observar el tráfico (temporal, espacial) =&gt; derivan distintas variables que pueden medi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servación temporal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sidad (flujo) de tráfico: es el número de vehículos n(x) que ha atravesado una determinada sección de vía durante un cierto período 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7960" y="143208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7960" y="135576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895480" y="4327560"/>
                <a:ext cx="3276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veh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473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Medición y Estimación d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33cc"/>
                </a:solidFill>
                <a:latin typeface="Arial"/>
              </a:rPr>
              <a:t>Variabilidad Espa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formas de observar el tráfico (temporal, espacial) =&gt; derivan distintas variables que pueden medi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servación Espacial:</a:t>
            </a:r>
            <a:r>
              <a:rPr b="1" lang="es-ES_tradnl" sz="20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(concentración) de tráfico   número de vehículos n'(t) que en un instante de observación están presentes en un tramo de vía de longitud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63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955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200400" y="4114800"/>
                <a:ext cx="40384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eh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ongitu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6:34:33Z</dcterms:created>
  <dc:creator>.</dc:creator>
  <dc:description/>
  <dc:language>en-US</dc:language>
  <cp:lastModifiedBy>.</cp:lastModifiedBy>
  <dcterms:modified xsi:type="dcterms:W3CDTF">2001-08-20T20:54:25Z</dcterms:modified>
  <cp:revision>2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72317360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clase CI53G</vt:lpwstr>
  </property>
</Properties>
</file>