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734-F81B-43A8-9CC7-59C8F9BB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95F-FFBE-41A4-ABD4-BE4A8BB5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206-3F04-4C65-8920-00F9C396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D4F-235D-4AA1-BBE8-67DAB5D6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864-B0C0-413D-B5AD-BE66AB1B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9EE-561B-4B65-B38E-C5B4BCCD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6E5-3BFD-43DF-9FA2-016E63C9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EEE-E942-4BB2-8AF3-F1737DCE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A338-E2C6-4059-8CC6-5FE32CC4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547-2108-4B70-942E-BBE2F298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94E-424C-483C-A81A-825DB6BD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66A3-7955-4C01-B90C-30BA0025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9AAD-1A3E-499D-AE0D-BF5217901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111240"/>
            <a:ext cx="546120" cy="11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730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pacidad Ambiental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Buchanan, (1963)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 de v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natural (veh/hr, pa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biental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cesidad de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restringir el flujo vehicular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orden a mantener un estándar medio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ías resid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mora promedio en cru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¿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ías no resid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ivel de Ruido durante el 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¿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730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pacidad Ambiental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Buchanan, (1963)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ías no residen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rsos de la Investigación no permitieron profundizar el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es posible una aproximación similar a la de vías de acceso residenci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ivel de ruido pareciera ser el mejor “proxi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gistros de ruido durante un período de 24 ho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4730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pacidad Ambiental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Buchanan, (1963)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nving y Dormitor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ogares en áreas de mucho uso (comercial, servicios, recreación, histórico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50 dBA durante el día (nivel razonable en lugares donde la conversación tiene mucha importanc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5 dBA durante la no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mbos no exceder por más del 10% del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siderar diferencia máxima de 20 dBA entre ruido externo/interno con ventanas cerr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uido en planta baja es similar hasta el 4º pi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730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pacidad Ambiental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Buchanan, (1963)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lus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locidades mayores a 40 a 50 km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compatibles con zonas no resid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compatibles con zonas de centro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730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pacidad Ambiental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Arial"/>
              </a:rPr>
              <a:t>Buchanan, (1963)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cusión Fin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ujo vehicular, ¿cómo se relaciona c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am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gre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trusión Vis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accesibilidad al Transporte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cid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es factible encontrar una caracterización de la capacidad ambiental, ún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16:34:33Z</dcterms:created>
  <dc:creator>.</dc:creator>
  <dc:description/>
  <dc:language>en-US</dc:language>
  <cp:lastModifiedBy>Viviana Sanchez</cp:lastModifiedBy>
  <dcterms:modified xsi:type="dcterms:W3CDTF">2001-08-17T00:50:03Z</dcterms:modified>
  <cp:revision>5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60938028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clase CI53G</vt:lpwstr>
  </property>
</Properties>
</file>