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00B0-05F0-404C-8ED7-F783E022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D64C-00DD-44E7-931C-6C4D1EC4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8148-1EAA-407D-9C86-606D6529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9609-14D7-4026-BF6D-F39BEF5A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9304-445A-4E31-8628-CA9CA72B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0BC4-DE99-49AD-AF42-E22875DC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68A2-3751-4938-ABCB-AB5E3280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3F5C-B5BF-415E-AAEB-932BAED3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333D-68E1-48A3-949F-EC5BFAD2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2891-949C-40F4-AD94-680B4477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818A-8F90-4930-BBC4-9CA14229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8B98-DF28-485F-B420-5A77A77C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2D3F-46C4-42F5-B882-51DAFE8EA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81880" y="111240"/>
            <a:ext cx="546120" cy="11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7304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Capacidad Ambiental de t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Arial"/>
              </a:rPr>
              <a:t>Buchanan, (1963)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520" y="1676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de vías: Capacidad natural (veh/hr, pas/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acidad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biental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ecesidad de 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</a:rPr>
              <a:t>restringir el flujo vehicular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orden a mantener un estándar medio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952880" y="3137040"/>
            <a:ext cx="3746520" cy="2806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3429000"/>
            <a:ext cx="3657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rig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dicionalmente (damero español) las vías equivalían a la columna vertebral de la ciudad, siendo adecuado un enfoque de capacidad natu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7200" y="47304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Capacidad Ambiental de t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Arial"/>
              </a:rPr>
              <a:t>Calles de acceso reside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¡Vías más angostas permiten mayor flujo vehicular, manteniendo la capacidad ambiental (nivel de riesgo de peatones)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914400" y="2895480"/>
            <a:ext cx="7619760" cy="3545640"/>
            <a:chOff x="914400" y="2895480"/>
            <a:chExt cx="7619760" cy="3545640"/>
          </a:xfrm>
        </p:grpSpPr>
        <p:sp>
          <p:nvSpPr>
            <p:cNvPr id="219" name=""/>
            <p:cNvSpPr/>
            <p:nvPr/>
          </p:nvSpPr>
          <p:spPr>
            <a:xfrm>
              <a:off x="1561320" y="5570280"/>
              <a:ext cx="6182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stealth" w="lg"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4364640" y="3227400"/>
              <a:ext cx="0" cy="23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32280" y="499860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32280" y="448452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32280" y="40845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32280" y="36273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93000" y="5170320"/>
              <a:ext cx="14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93000" y="4713120"/>
              <a:ext cx="14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93000" y="4255920"/>
              <a:ext cx="14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93000" y="3798720"/>
              <a:ext cx="14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24640" y="551304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83920" y="551304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43200" y="551304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02840" y="551304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62120" y="551304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21400" y="551304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81040" y="551304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36640" y="5627160"/>
              <a:ext cx="64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55920" y="5627160"/>
              <a:ext cx="64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01040" y="5627160"/>
              <a:ext cx="64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2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21400" y="5627160"/>
              <a:ext cx="64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3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98520" y="56271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Veq/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575520" y="2895480"/>
              <a:ext cx="165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Demora 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24640" y="3398760"/>
              <a:ext cx="3018960" cy="1885320"/>
            </a:xfrm>
            <a:custGeom>
              <a:avLst/>
              <a:gdLst/>
              <a:ahLst/>
              <a:rect l="l" t="t" r="r" b="b"/>
              <a:pathLst>
                <a:path w="2016" h="1584">
                  <a:moveTo>
                    <a:pt x="0" y="1584"/>
                  </a:moveTo>
                  <a:cubicBezTo>
                    <a:pt x="160" y="1528"/>
                    <a:pt x="320" y="1472"/>
                    <a:pt x="480" y="1392"/>
                  </a:cubicBezTo>
                  <a:cubicBezTo>
                    <a:pt x="640" y="1312"/>
                    <a:pt x="760" y="1272"/>
                    <a:pt x="960" y="1104"/>
                  </a:cubicBezTo>
                  <a:cubicBezTo>
                    <a:pt x="1160" y="936"/>
                    <a:pt x="1504" y="568"/>
                    <a:pt x="1680" y="384"/>
                  </a:cubicBezTo>
                  <a:cubicBezTo>
                    <a:pt x="1856" y="200"/>
                    <a:pt x="1936" y="100"/>
                    <a:pt x="2016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162120" y="4713120"/>
              <a:ext cx="0" cy="856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998800" y="4713120"/>
              <a:ext cx="3162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99160" y="4713120"/>
              <a:ext cx="0" cy="856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20960" y="551304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80240" y="551304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39520" y="551304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99160" y="551304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58440" y="551304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17720" y="551304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77360" y="551304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11520" y="5627160"/>
              <a:ext cx="64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58440" y="5627160"/>
              <a:ext cx="64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91160" y="5627160"/>
              <a:ext cx="6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14400" y="5798520"/>
              <a:ext cx="1653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% peatones demor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92600" y="3227400"/>
              <a:ext cx="2372040" cy="2342880"/>
            </a:xfrm>
            <a:custGeom>
              <a:avLst/>
              <a:gdLst/>
              <a:ahLst/>
              <a:rect l="l" t="t" r="r" b="b"/>
              <a:pathLst>
                <a:path w="1584" h="1968">
                  <a:moveTo>
                    <a:pt x="1584" y="1968"/>
                  </a:moveTo>
                  <a:cubicBezTo>
                    <a:pt x="1400" y="1888"/>
                    <a:pt x="1216" y="1808"/>
                    <a:pt x="1056" y="1680"/>
                  </a:cubicBezTo>
                  <a:cubicBezTo>
                    <a:pt x="896" y="1552"/>
                    <a:pt x="752" y="1368"/>
                    <a:pt x="624" y="1200"/>
                  </a:cubicBezTo>
                  <a:cubicBezTo>
                    <a:pt x="496" y="1032"/>
                    <a:pt x="392" y="872"/>
                    <a:pt x="288" y="672"/>
                  </a:cubicBezTo>
                  <a:cubicBezTo>
                    <a:pt x="184" y="472"/>
                    <a:pt x="48" y="112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81040" y="3180960"/>
              <a:ext cx="16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7 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24640" y="3227400"/>
              <a:ext cx="2515680" cy="1885320"/>
            </a:xfrm>
            <a:custGeom>
              <a:avLst/>
              <a:gdLst/>
              <a:ahLst/>
              <a:rect l="l" t="t" r="r" b="b"/>
              <a:pathLst>
                <a:path w="1680" h="1584">
                  <a:moveTo>
                    <a:pt x="0" y="1584"/>
                  </a:moveTo>
                  <a:cubicBezTo>
                    <a:pt x="268" y="1476"/>
                    <a:pt x="536" y="1368"/>
                    <a:pt x="816" y="1104"/>
                  </a:cubicBezTo>
                  <a:cubicBezTo>
                    <a:pt x="1096" y="840"/>
                    <a:pt x="1536" y="184"/>
                    <a:pt x="1680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52280" y="3170520"/>
              <a:ext cx="1868760" cy="1828080"/>
            </a:xfrm>
            <a:custGeom>
              <a:avLst/>
              <a:gdLst/>
              <a:ahLst/>
              <a:rect l="l" t="t" r="r" b="b"/>
              <a:pathLst>
                <a:path w="1248" h="1536">
                  <a:moveTo>
                    <a:pt x="0" y="1536"/>
                  </a:moveTo>
                  <a:cubicBezTo>
                    <a:pt x="180" y="1472"/>
                    <a:pt x="360" y="1408"/>
                    <a:pt x="528" y="1248"/>
                  </a:cubicBezTo>
                  <a:cubicBezTo>
                    <a:pt x="696" y="1088"/>
                    <a:pt x="888" y="784"/>
                    <a:pt x="1008" y="576"/>
                  </a:cubicBezTo>
                  <a:cubicBezTo>
                    <a:pt x="1128" y="368"/>
                    <a:pt x="1188" y="184"/>
                    <a:pt x="1248" y="0"/>
                  </a:cubicBezTo>
                </a:path>
              </a:pathLst>
            </a:custGeom>
            <a:noFill/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77760" y="3113280"/>
              <a:ext cx="16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9 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01040" y="305604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12 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47304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Capacidad Ambiental de t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Arial"/>
              </a:rPr>
              <a:t>Calles de acceso reside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finamien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po de peat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ult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nusvál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atones con paquet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tegorías de vulnerabil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lles +50% peatones vulne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lles 20% a 50% peatones vulne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lles –20% peatones vulne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7200" y="47304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Capacidad Ambiental de t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Arial"/>
              </a:rPr>
              <a:t>Calles de acceso reside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finamien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diciones físicas y trazado de la cal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tancia de visibilidad de condu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úmero de vehículos estacio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jores vere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úmero de accesos residencial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iveles de Prote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o, medio y bajo nivel de prot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55627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nálisi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0 calles residenciales, Flujos de 10 a 1.500 veq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57200" y="47304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Capacidad Ambiental de t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Arial"/>
              </a:rPr>
              <a:t>Calles de acceso reside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80880" y="2362320"/>
          <a:ext cx="8305560" cy="2625480"/>
        </p:xfrm>
        <a:graphic>
          <a:graphicData uri="http://schemas.openxmlformats.org/drawingml/2006/table">
            <a:tbl>
              <a:tblPr/>
              <a:tblGrid>
                <a:gridCol w="2076480"/>
                <a:gridCol w="2076120"/>
                <a:gridCol w="2076480"/>
                <a:gridCol w="2076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ulnerabil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cción Al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cción Med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cción Ba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j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457200" y="17524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centaje de peatones cuya demora es acep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52578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clusión (inspección visual):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velocidades superiores a 30 km/h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on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incompatibl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con las necesidades de los peatones y el medioambiente en general, en calles de acceso resid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57200" y="47304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Capacidad Ambiental de t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Arial"/>
              </a:rPr>
              <a:t>Calles de acceso reside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17524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R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2403360"/>
            <a:ext cx="795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proximación a capacidad ambiental en calles residen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Ambiental para calles no residen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7304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Capacidad Ambiental de t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Arial"/>
              </a:rPr>
              <a:t>Buchanan, (1963)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8305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ctualmente (áreas residenciales, jerarquía vial), las calles de acceso residencial son básicamente 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</a:rPr>
              <a:t>impropias al tráfico motoriz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47304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Capacidad Ambiental de t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Arial"/>
              </a:rPr>
              <a:t>Buchanan, (1963)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clus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ne un lugar preponderante en la planificación de las funciones de muchas cal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proximación para definirl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ceso resid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ceso no resid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47304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Capacidad Ambiental de t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Arial"/>
              </a:rPr>
              <a:t>Calles de acceso reside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ómo afecta el tráfico en la capacidad ambient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uido, contaminación, intrusión visual, etc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Impacto Cruci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riesgo de accidente para gente que desea cru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rca del 80% de los accidentes fatales están relacionados con cruces de vías por parte de pea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cc99"/>
                </a:solidFill>
                <a:latin typeface="Times New Roman"/>
              </a:rPr>
              <a:t>Aproximación: Capacidad Ambiental ~ 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99"/>
                </a:solidFill>
                <a:latin typeface="Times New Roman"/>
              </a:rPr>
              <a:t>Resto de impactos son secund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47304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Capacidad Ambiental de t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Arial"/>
              </a:rPr>
              <a:t>Calles de acceso reside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ómo cuantifico el riesg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dición “directa”: modelos ad – h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dición indirecta: </a:t>
            </a:r>
            <a:r>
              <a:rPr b="1" i="1" lang="es-ES_tradnl" sz="2400" spc="-1" strike="noStrike">
                <a:solidFill>
                  <a:srgbClr val="00cc99"/>
                </a:solidFill>
                <a:latin typeface="Times New Roman"/>
              </a:rPr>
              <a:t>facilidad con que pueden ser cruzadas las calles por los pea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ición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crucial que debe ser satisfech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por sobre el ruido, contaminación, etc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asume que, dado que es un área “medioambiental”, existe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libertad absoluta para los peaton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cruzar donde les plaz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47304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Capacidad Ambiental de t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Arial"/>
              </a:rPr>
              <a:t>Calles de acceso reside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830556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cilidad para cruzar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demora por cruz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mora por cruzar ~ f(brecha, ancho v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recha ~ flujo veh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cho vía ~ jerarquía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4114800"/>
            <a:ext cx="6172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99"/>
                </a:solidFill>
                <a:latin typeface="Times New Roman"/>
              </a:rPr>
              <a:t>Anchos de 7,0 m ~&gt; flujos de 250 veq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99"/>
                </a:solidFill>
                <a:latin typeface="Times New Roman"/>
              </a:rPr>
              <a:t>Anchos de 9,0 m ~&gt; flujos de 150 veq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99"/>
                </a:solidFill>
                <a:latin typeface="Times New Roman"/>
              </a:rPr>
              <a:t>Anchos de 12,0 m ~&gt; flujos de 125 veq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7304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Capacidad Ambiental de t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Arial"/>
              </a:rPr>
              <a:t>Calles de acceso reside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5562720"/>
            <a:ext cx="65534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267080" y="24379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4800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4114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3581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4419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3200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483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100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343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5638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5638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1320" y="5638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5638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3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96080" y="56386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q/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1995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mora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666880"/>
            <a:ext cx="3200400" cy="2514600"/>
          </a:xfrm>
          <a:custGeom>
            <a:avLst/>
            <a:gdLst/>
            <a:ahLst/>
            <a:rect l="l" t="t" r="r" b="b"/>
            <a:pathLst>
              <a:path w="2016" h="1584">
                <a:moveTo>
                  <a:pt x="0" y="1584"/>
                </a:moveTo>
                <a:cubicBezTo>
                  <a:pt x="160" y="1528"/>
                  <a:pt x="320" y="1472"/>
                  <a:pt x="480" y="1392"/>
                </a:cubicBezTo>
                <a:cubicBezTo>
                  <a:pt x="640" y="1312"/>
                  <a:pt x="760" y="1272"/>
                  <a:pt x="960" y="1104"/>
                </a:cubicBezTo>
                <a:cubicBezTo>
                  <a:pt x="1160" y="936"/>
                  <a:pt x="1504" y="568"/>
                  <a:pt x="1680" y="384"/>
                </a:cubicBezTo>
                <a:cubicBezTo>
                  <a:pt x="1856" y="200"/>
                  <a:pt x="1936" y="100"/>
                  <a:pt x="2016" y="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172200" y="44193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819160" y="4419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5638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5638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5638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58672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% peatones demo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2438280"/>
            <a:ext cx="2514600" cy="3124440"/>
          </a:xfrm>
          <a:custGeom>
            <a:avLst/>
            <a:gdLst/>
            <a:ahLst/>
            <a:rect l="l" t="t" r="r" b="b"/>
            <a:pathLst>
              <a:path w="1584" h="1968">
                <a:moveTo>
                  <a:pt x="1584" y="1968"/>
                </a:moveTo>
                <a:cubicBezTo>
                  <a:pt x="1400" y="1888"/>
                  <a:pt x="1216" y="1808"/>
                  <a:pt x="1056" y="1680"/>
                </a:cubicBezTo>
                <a:cubicBezTo>
                  <a:pt x="896" y="1552"/>
                  <a:pt x="752" y="1368"/>
                  <a:pt x="624" y="1200"/>
                </a:cubicBezTo>
                <a:cubicBezTo>
                  <a:pt x="496" y="1032"/>
                  <a:pt x="392" y="872"/>
                  <a:pt x="288" y="672"/>
                </a:cubicBezTo>
                <a:cubicBezTo>
                  <a:pt x="184" y="472"/>
                  <a:pt x="48" y="112"/>
                  <a:pt x="0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237636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19320" y="3124080"/>
            <a:ext cx="6172200" cy="12956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03480" y="4402080"/>
            <a:ext cx="6172200" cy="106668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47304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Capacidad Ambiental de t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Arial"/>
              </a:rPr>
              <a:t>Calles de acceso reside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5562720"/>
            <a:ext cx="65534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267080" y="24379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4800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4114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3581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4419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91120" y="3200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292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5638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5638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5638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3080" y="5638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3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96080" y="56386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q/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1995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mora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2666880"/>
            <a:ext cx="3200400" cy="2514600"/>
          </a:xfrm>
          <a:custGeom>
            <a:avLst/>
            <a:gdLst/>
            <a:ahLst/>
            <a:rect l="l" t="t" r="r" b="b"/>
            <a:pathLst>
              <a:path w="2016" h="1584">
                <a:moveTo>
                  <a:pt x="0" y="1584"/>
                </a:moveTo>
                <a:cubicBezTo>
                  <a:pt x="160" y="1528"/>
                  <a:pt x="320" y="1472"/>
                  <a:pt x="480" y="1392"/>
                </a:cubicBezTo>
                <a:cubicBezTo>
                  <a:pt x="640" y="1312"/>
                  <a:pt x="760" y="1272"/>
                  <a:pt x="960" y="1104"/>
                </a:cubicBezTo>
                <a:cubicBezTo>
                  <a:pt x="1160" y="936"/>
                  <a:pt x="1504" y="568"/>
                  <a:pt x="1680" y="384"/>
                </a:cubicBezTo>
                <a:cubicBezTo>
                  <a:pt x="1856" y="200"/>
                  <a:pt x="1936" y="100"/>
                  <a:pt x="2016" y="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172200" y="44193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819160" y="4419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2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5638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5638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5638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58672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% peatones demo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52480" y="2438280"/>
            <a:ext cx="2514600" cy="3124440"/>
          </a:xfrm>
          <a:custGeom>
            <a:avLst/>
            <a:gdLst/>
            <a:ahLst/>
            <a:rect l="l" t="t" r="r" b="b"/>
            <a:pathLst>
              <a:path w="1584" h="1968">
                <a:moveTo>
                  <a:pt x="1584" y="1968"/>
                </a:moveTo>
                <a:cubicBezTo>
                  <a:pt x="1400" y="1888"/>
                  <a:pt x="1216" y="1808"/>
                  <a:pt x="1056" y="1680"/>
                </a:cubicBezTo>
                <a:cubicBezTo>
                  <a:pt x="896" y="1552"/>
                  <a:pt x="752" y="1368"/>
                  <a:pt x="624" y="1200"/>
                </a:cubicBezTo>
                <a:cubicBezTo>
                  <a:pt x="496" y="1032"/>
                  <a:pt x="392" y="872"/>
                  <a:pt x="288" y="672"/>
                </a:cubicBezTo>
                <a:cubicBezTo>
                  <a:pt x="184" y="472"/>
                  <a:pt x="48" y="112"/>
                  <a:pt x="0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267080" y="2971800"/>
            <a:ext cx="1371600" cy="1447920"/>
          </a:xfrm>
          <a:prstGeom prst="line">
            <a:avLst/>
          </a:prstGeom>
          <a:ln w="15840">
            <a:solidFill>
              <a:srgbClr val="3333cc"/>
            </a:solidFill>
            <a:prstDash val="sysDot"/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05520" y="2757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Times New Roman"/>
              </a:rPr>
              <a:t>LIM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81800" y="472428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EP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29880" y="36576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ACEP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237636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3124080"/>
            <a:ext cx="6172200" cy="12956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03480" y="4402080"/>
            <a:ext cx="6172200" cy="106668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47304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Capacidad Ambiental de t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Arial"/>
              </a:rPr>
              <a:t>Calles de acceso reside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5562720"/>
            <a:ext cx="65534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267080" y="24379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4800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4114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3581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98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4419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9112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91120" y="3200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483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292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100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913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530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343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5638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5638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320" y="5638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53080" y="5638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3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96080" y="56386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q/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81280" y="22860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mora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8320" y="2666880"/>
            <a:ext cx="3200400" cy="2514600"/>
          </a:xfrm>
          <a:custGeom>
            <a:avLst/>
            <a:gdLst/>
            <a:ahLst/>
            <a:rect l="l" t="t" r="r" b="b"/>
            <a:pathLst>
              <a:path w="2016" h="1584">
                <a:moveTo>
                  <a:pt x="0" y="1584"/>
                </a:moveTo>
                <a:cubicBezTo>
                  <a:pt x="160" y="1528"/>
                  <a:pt x="320" y="1472"/>
                  <a:pt x="480" y="1392"/>
                </a:cubicBezTo>
                <a:cubicBezTo>
                  <a:pt x="640" y="1312"/>
                  <a:pt x="760" y="1272"/>
                  <a:pt x="960" y="1104"/>
                </a:cubicBezTo>
                <a:cubicBezTo>
                  <a:pt x="1160" y="936"/>
                  <a:pt x="1504" y="568"/>
                  <a:pt x="1680" y="384"/>
                </a:cubicBezTo>
                <a:cubicBezTo>
                  <a:pt x="1856" y="200"/>
                  <a:pt x="1936" y="100"/>
                  <a:pt x="2016" y="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172200" y="44193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819160" y="4419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5638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5638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5638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58672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% peatones demo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2438280"/>
            <a:ext cx="2514600" cy="3124440"/>
          </a:xfrm>
          <a:custGeom>
            <a:avLst/>
            <a:gdLst/>
            <a:ahLst/>
            <a:rect l="l" t="t" r="r" b="b"/>
            <a:pathLst>
              <a:path w="1584" h="1968">
                <a:moveTo>
                  <a:pt x="1584" y="1968"/>
                </a:moveTo>
                <a:cubicBezTo>
                  <a:pt x="1400" y="1888"/>
                  <a:pt x="1216" y="1808"/>
                  <a:pt x="1056" y="1680"/>
                </a:cubicBezTo>
                <a:cubicBezTo>
                  <a:pt x="896" y="1552"/>
                  <a:pt x="752" y="1368"/>
                  <a:pt x="624" y="1200"/>
                </a:cubicBezTo>
                <a:cubicBezTo>
                  <a:pt x="496" y="1032"/>
                  <a:pt x="392" y="872"/>
                  <a:pt x="288" y="672"/>
                </a:cubicBezTo>
                <a:cubicBezTo>
                  <a:pt x="184" y="472"/>
                  <a:pt x="48" y="112"/>
                  <a:pt x="0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267080" y="2971800"/>
            <a:ext cx="1371600" cy="1447920"/>
          </a:xfrm>
          <a:prstGeom prst="line">
            <a:avLst/>
          </a:prstGeom>
          <a:ln w="15840">
            <a:solidFill>
              <a:srgbClr val="3333cc"/>
            </a:solidFill>
            <a:prstDash val="sysDot"/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2757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Times New Roman"/>
              </a:rPr>
              <a:t>LIM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81800" y="472428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EP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9880" y="36576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ACEP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3124080"/>
            <a:ext cx="2438640" cy="1295640"/>
          </a:xfrm>
          <a:prstGeom prst="leftArrowCallout">
            <a:avLst>
              <a:gd name="adj1" fmla="val 25002"/>
              <a:gd name="adj2" fmla="val 25000"/>
              <a:gd name="adj3" fmla="val 31370"/>
              <a:gd name="adj4" fmla="val 66673"/>
            </a:avLst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+50% debe adap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 movimientos, da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eferencia a vehícu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34320" y="237636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2438280"/>
            <a:ext cx="2590560" cy="236232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104760" y="1641600"/>
            <a:ext cx="436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NO COMPATIBLE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AREA MEDIOAMBIENT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3T16:34:33Z</dcterms:created>
  <dc:creator>.</dc:creator>
  <dc:description/>
  <dc:language>en-US</dc:language>
  <cp:lastModifiedBy>Viviana Sanchez</cp:lastModifiedBy>
  <dcterms:modified xsi:type="dcterms:W3CDTF">2001-08-13T13:18:10Z</dcterms:modified>
  <cp:revision>53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07681732</vt:r8>
  </property>
  <property fmtid="{D5CDD505-2E9C-101B-9397-08002B2CF9AE}" pid="3" name="_AuthorEmail">
    <vt:lpwstr>evalenza@ing.uchile.cl</vt:lpwstr>
  </property>
  <property fmtid="{D5CDD505-2E9C-101B-9397-08002B2CF9AE}" pid="4" name="_AuthorEmailDisplayName">
    <vt:lpwstr>Eduardo Valenzuela Freraut</vt:lpwstr>
  </property>
  <property fmtid="{D5CDD505-2E9C-101B-9397-08002B2CF9AE}" pid="5" name="_EmailSubject">
    <vt:lpwstr>clase CI53G</vt:lpwstr>
  </property>
</Properties>
</file>