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26920"/>
            <a:ext cx="6172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5388480"/>
            <a:ext cx="6172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72692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19440" y="172692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538848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619440" y="538848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26920"/>
            <a:ext cx="1987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43760" y="1726920"/>
            <a:ext cx="1987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0680" y="1726920"/>
            <a:ext cx="1987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5388480"/>
            <a:ext cx="1987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543760" y="5388480"/>
            <a:ext cx="1987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630680" y="5388480"/>
            <a:ext cx="1987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726920"/>
            <a:ext cx="61722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726920"/>
            <a:ext cx="61722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726920"/>
            <a:ext cx="301176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619440" y="1726920"/>
            <a:ext cx="301176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72692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19440" y="1726920"/>
            <a:ext cx="301176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538848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26920"/>
            <a:ext cx="301176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19440" y="172692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19440" y="538848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2692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19440" y="1726920"/>
            <a:ext cx="301176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5388480"/>
            <a:ext cx="6172200" cy="33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726920"/>
            <a:ext cx="61722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e9b03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4478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880" y="1549440"/>
            <a:ext cx="5562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0880" y="1447920"/>
            <a:ext cx="5562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43080" y="630360"/>
            <a:ext cx="58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Bases para una Gestión Ambiental de Trán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DIAGRAMA DE FLUJO PARA PREDICCION DEL NIVEL DE RUI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841400"/>
            <a:ext cx="383544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549440"/>
            <a:ext cx="5562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447920"/>
            <a:ext cx="5562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630360"/>
            <a:ext cx="58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Bases para una Gestión Ambiental de Trán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COBERTURA DE TRANSPORTE PUBLICO VARIAS COMU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76240" y="1892160"/>
            <a:ext cx="4686480" cy="61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6T19:35:28Z</dcterms:created>
  <dc:creator>EVF-RFA</dc:creator>
  <dc:description/>
  <dc:language>en-US</dc:language>
  <cp:lastModifiedBy>.</cp:lastModifiedBy>
  <cp:lastPrinted>1997-08-22T15:19:52Z</cp:lastPrinted>
  <dcterms:modified xsi:type="dcterms:W3CDTF">2001-08-01T22:33:53Z</dcterms:modified>
  <cp:revision>332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80102807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