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488-747F-4C4B-9644-367C955E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DF3-B3EF-4C3E-9E47-A707D722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B42-D4DF-4E0F-AC1A-3E49A998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A81-E82A-4A0C-A5B8-196D3815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F94-F6A5-4B7F-884C-71C6DC45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030-18F6-4436-BD60-7E370E46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7CA-491F-467C-8E37-88590211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44A-FD21-402B-BA9C-ABC8A6B8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068-F24E-4E11-9914-7911290B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80C-6D06-4CBB-A0D3-065DAB46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2EFE-8254-4F9C-BCB5-30C597D3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1ED-D280-49A9-8F8A-C4578BEA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F41A-AF87-4907-A4FA-CD4153982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111240"/>
            <a:ext cx="546120" cy="11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73040"/>
            <a:ext cx="7848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l Sistema de Transporte Urb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AOPAULO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114800" cy="202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Dutchrw" descr=""/>
          <p:cNvPicPr/>
          <p:nvPr/>
        </p:nvPicPr>
        <p:blipFill>
          <a:blip r:embed="rId2"/>
          <a:stretch/>
        </p:blipFill>
        <p:spPr>
          <a:xfrm>
            <a:off x="7086600" y="2098800"/>
            <a:ext cx="176832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7" name="BUSEDIN" descr=""/>
          <p:cNvPicPr/>
          <p:nvPr/>
        </p:nvPicPr>
        <p:blipFill>
          <a:blip r:embed="rId3"/>
          <a:stretch/>
        </p:blipFill>
        <p:spPr>
          <a:xfrm>
            <a:off x="6248520" y="1946160"/>
            <a:ext cx="865080" cy="118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M5MWAY" descr=""/>
          <p:cNvPicPr/>
          <p:nvPr/>
        </p:nvPicPr>
        <p:blipFill>
          <a:blip r:embed="rId4"/>
          <a:stretch/>
        </p:blipFill>
        <p:spPr>
          <a:xfrm>
            <a:off x="5562720" y="2936880"/>
            <a:ext cx="2095560" cy="12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533520" y="54864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=&gt; El </a:t>
            </a: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Transporte es una </a:t>
            </a:r>
            <a:r>
              <a:rPr b="1" lang="es-CL" sz="2000" spc="-1" strike="noStrike">
                <a:solidFill>
                  <a:srgbClr val="fc210a"/>
                </a:solidFill>
                <a:latin typeface="Times New Roman"/>
              </a:rPr>
              <a:t>actividad derivada</a:t>
            </a: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 de otras actividades que tienen lugar en un área determinada, con una dinámica específ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447920"/>
            <a:ext cx="4114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istema de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96252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buClr>
                <a:srgbClr val="fc210a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c210a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c210a"/>
                </a:solidFill>
                <a:latin typeface="Times New Roman"/>
              </a:rPr>
              <a:t>Resi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c210a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c210a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c210a"/>
                </a:solidFill>
                <a:latin typeface="Times New Roman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GUANGMET" descr=""/>
          <p:cNvPicPr/>
          <p:nvPr/>
        </p:nvPicPr>
        <p:blipFill>
          <a:blip r:embed="rId5"/>
          <a:stretch/>
        </p:blipFill>
        <p:spPr>
          <a:xfrm>
            <a:off x="7162920" y="3317760"/>
            <a:ext cx="1752480" cy="102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886200" y="2514600"/>
            <a:ext cx="2133720" cy="91440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21ff0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2666880"/>
            <a:ext cx="1905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5238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ecesidades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44197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buClr>
                <a:srgbClr val="fc210a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c210a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fc210a"/>
                </a:solidFill>
                <a:latin typeface="Times New Roman"/>
              </a:rPr>
              <a:t>Propós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c210a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800" spc="-1" strike="noStrike">
                <a:solidFill>
                  <a:srgbClr val="fc210a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fc210a"/>
                </a:solidFill>
                <a:latin typeface="Times New Roman"/>
              </a:rPr>
              <a:t>Hor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96252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buClr>
                <a:srgbClr val="fc210a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c210a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c210a"/>
                </a:solidFill>
                <a:latin typeface="Times New Roman"/>
              </a:rPr>
              <a:t>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c210a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c210a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c210a"/>
                </a:solidFill>
                <a:latin typeface="Times New Roman"/>
              </a:rPr>
              <a:t>Recre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4419720"/>
            <a:ext cx="1981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buClr>
                <a:srgbClr val="fc210a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c210a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fc210a"/>
                </a:solidFill>
                <a:latin typeface="Times New Roman"/>
              </a:rPr>
              <a:t>Origen, De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c210a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800" spc="-1" strike="noStrike">
                <a:solidFill>
                  <a:srgbClr val="fc210a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fc210a"/>
                </a:solidFill>
                <a:latin typeface="Times New Roman"/>
              </a:rPr>
              <a:t>M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c210a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800" spc="-1" strike="noStrike">
                <a:solidFill>
                  <a:srgbClr val="fc210a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fc210a"/>
                </a:solidFill>
                <a:latin typeface="Times New Roman"/>
              </a:rPr>
              <a:t>Ru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l Sistema de Transporte Urb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Manheim, M.L. (1984). Fundamental of Transportation Systems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4952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676520"/>
            <a:ext cx="1828800" cy="1022400"/>
          </a:xfrm>
          <a:prstGeom prst="rect">
            <a:avLst/>
          </a:prstGeom>
          <a:solidFill>
            <a:srgbClr val="21ff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10d2f"/>
                </a:solidFill>
                <a:uFillTx/>
                <a:latin typeface="Arial"/>
              </a:rPr>
              <a:t>SIST. ACTIV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10d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10d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inten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10d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háb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267080"/>
            <a:ext cx="1828800" cy="102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SIST.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10d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red v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10d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veh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10d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Forma ope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3048120"/>
            <a:ext cx="1066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ENE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orto plaz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616120"/>
            <a:ext cx="0" cy="165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3352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2806560"/>
            <a:ext cx="1828800" cy="120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PATRON DE VIAJ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10d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diversos O-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10d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distintos mo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10d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variadas ru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10d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10d2f"/>
                </a:solidFill>
                <a:latin typeface="Arial"/>
              </a:rPr>
              <a:t>diferentes perío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2895480"/>
            <a:ext cx="1600200" cy="925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TRÁNS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3048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NIFIE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3840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809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543800" y="205704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361960" y="205740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752480"/>
            <a:ext cx="1066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ODIF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largo plaz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447560" y="5486400"/>
            <a:ext cx="609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447920" y="5181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518148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ODIF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mediano plaz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175280"/>
            <a:ext cx="3733920" cy="1022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MPA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S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: nivel de servicio, costos, recur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DIRECTOS: sociales, ambien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spiral de Deteri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Aumento Tasa de Motor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812960"/>
            <a:ext cx="1981080" cy="70380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mento Tasa Mot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4480" y="1965240"/>
            <a:ext cx="1981080" cy="70380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mento Uso Auto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5040" y="2270160"/>
            <a:ext cx="1981440" cy="70380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mento Con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30840" y="3625920"/>
            <a:ext cx="1981440" cy="70380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mento Flota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7840" y="4997520"/>
            <a:ext cx="1981440" cy="70380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mento Costos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3240" y="5241960"/>
            <a:ext cx="1981440" cy="70380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mento Tarifa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9880" y="3489480"/>
            <a:ext cx="1981080" cy="100872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menta Atractivo Auto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4840" y="3184560"/>
            <a:ext cx="1981440" cy="70380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sminuye Demanda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1840" y="4159080"/>
            <a:ext cx="1981440" cy="70380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sminuye Frecuencia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4640" y="2193840"/>
            <a:ext cx="60984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560" y="234648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2080" y="295596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478200" y="432756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954320" y="5318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827000" y="447948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30240" y="2650680"/>
            <a:ext cx="221004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7480" y="265104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268520" y="3870360"/>
            <a:ext cx="10666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820960" y="409896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spiral de Deteri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Aumento Tasa de Motor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600200"/>
            <a:ext cx="1981080" cy="70380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mento Tasa Mot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4480" y="1752480"/>
            <a:ext cx="1981080" cy="70380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mento Uso Auto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5040" y="2057400"/>
            <a:ext cx="1981440" cy="70380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mento Con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30840" y="3413160"/>
            <a:ext cx="1981440" cy="70380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mento Flota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4876920"/>
            <a:ext cx="1981080" cy="70380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mento Costos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3240" y="5241960"/>
            <a:ext cx="1981440" cy="70380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mento Tarifa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9880" y="3489480"/>
            <a:ext cx="1981080" cy="100872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menta Atractivo Auto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4840" y="2971800"/>
            <a:ext cx="1981440" cy="70380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sminuye Demanda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1840" y="3962520"/>
            <a:ext cx="1981440" cy="703800"/>
          </a:xfrm>
          <a:prstGeom prst="rect">
            <a:avLst/>
          </a:prstGeom>
          <a:gradFill rotWithShape="0">
            <a:gsLst>
              <a:gs pos="0">
                <a:srgbClr val="540b03"/>
              </a:gs>
              <a:gs pos="50000">
                <a:srgbClr val="fc210a"/>
              </a:gs>
              <a:gs pos="100000">
                <a:srgbClr val="540b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sminuye Frecuencia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4640" y="1981080"/>
            <a:ext cx="60984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560" y="213372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2080" y="274320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314840" y="4114800"/>
            <a:ext cx="23004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952520" y="5257800"/>
            <a:ext cx="1295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752120" y="4495680"/>
            <a:ext cx="1217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828800" y="2438280"/>
            <a:ext cx="221148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4382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68520" y="3657600"/>
            <a:ext cx="10666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820960" y="38862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422440"/>
            <a:ext cx="1981080" cy="703800"/>
          </a:xfrm>
          <a:prstGeom prst="rect">
            <a:avLst/>
          </a:prstGeom>
          <a:gradFill rotWithShape="0">
            <a:gsLst>
              <a:gs pos="0">
                <a:srgbClr val="005200"/>
              </a:gs>
              <a:gs pos="50000">
                <a:srgbClr val="008000"/>
              </a:gs>
              <a:gs pos="100000">
                <a:srgbClr val="005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sincentivos Uso auto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6019920"/>
            <a:ext cx="1981080" cy="703800"/>
          </a:xfrm>
          <a:prstGeom prst="rect">
            <a:avLst/>
          </a:prstGeom>
          <a:gradFill rotWithShape="0">
            <a:gsLst>
              <a:gs pos="0">
                <a:srgbClr val="005200"/>
              </a:gs>
              <a:gs pos="50000">
                <a:srgbClr val="008000"/>
              </a:gs>
              <a:gs pos="100000">
                <a:srgbClr val="005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bsidios Empresas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410080" y="5409720"/>
            <a:ext cx="379440" cy="606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3733920"/>
            <a:ext cx="914400" cy="2286000"/>
          </a:xfrm>
          <a:custGeom>
            <a:avLst/>
            <a:gdLst/>
            <a:ahLst/>
            <a:rect l="l" t="t" r="r" b="b"/>
            <a:pathLst>
              <a:path w="576" h="1440">
                <a:moveTo>
                  <a:pt x="576" y="1440"/>
                </a:moveTo>
                <a:cubicBezTo>
                  <a:pt x="576" y="1104"/>
                  <a:pt x="576" y="768"/>
                  <a:pt x="480" y="528"/>
                </a:cubicBezTo>
                <a:cubicBezTo>
                  <a:pt x="384" y="288"/>
                  <a:pt x="192" y="144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5791320"/>
            <a:ext cx="1981440" cy="703800"/>
          </a:xfrm>
          <a:prstGeom prst="rect">
            <a:avLst/>
          </a:prstGeom>
          <a:gradFill rotWithShape="0">
            <a:gsLst>
              <a:gs pos="0">
                <a:srgbClr val="005200"/>
              </a:gs>
              <a:gs pos="50000">
                <a:srgbClr val="008000"/>
              </a:gs>
              <a:gs pos="100000">
                <a:srgbClr val="005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edidas de Prioridad a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2755800"/>
            <a:ext cx="1803600" cy="3035520"/>
          </a:xfrm>
          <a:custGeom>
            <a:avLst/>
            <a:gdLst/>
            <a:ahLst/>
            <a:rect l="l" t="t" r="r" b="b"/>
            <a:pathLst>
              <a:path w="1136" h="1912">
                <a:moveTo>
                  <a:pt x="576" y="1912"/>
                </a:moveTo>
                <a:cubicBezTo>
                  <a:pt x="784" y="1604"/>
                  <a:pt x="992" y="1296"/>
                  <a:pt x="1056" y="1000"/>
                </a:cubicBezTo>
                <a:cubicBezTo>
                  <a:pt x="1120" y="704"/>
                  <a:pt x="1136" y="272"/>
                  <a:pt x="960" y="136"/>
                </a:cubicBezTo>
                <a:cubicBezTo>
                  <a:pt x="784" y="0"/>
                  <a:pt x="392" y="92"/>
                  <a:pt x="0" y="18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2819520"/>
            <a:ext cx="304920" cy="304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6:34:33Z</dcterms:created>
  <dc:creator>.</dc:creator>
  <dc:description/>
  <dc:language>en-US</dc:language>
  <cp:lastModifiedBy>.</cp:lastModifiedBy>
  <dcterms:modified xsi:type="dcterms:W3CDTF">2001-08-06T16:32:13Z</dcterms:modified>
  <cp:revision>16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85816348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clases CI53G</vt:lpwstr>
  </property>
</Properties>
</file>