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E7E-BB1C-4D95-A309-6DE9B003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B75-33C5-4E5C-93CD-3C7821AD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780-C6D2-41DA-9390-0542D8C7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9B3-9ABF-4137-A63E-838778B4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8DB3-2CE0-48C0-AEF0-C4C78C44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EFD5-E8E2-4A15-AA73-990CDABF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0A55-124E-49A1-8B12-BC68B387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F2E0-057A-4630-94DF-56E4B8A6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7063-F08C-484B-9497-52665D0D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360" y="7617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076E-9610-4DF9-A06A-4EA7AF88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C84A-8444-4DD4-8987-AC203464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564-CB49-4384-BDFF-3CA7A50A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292E-AC48-463D-8ED7-925C1A50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F1BA-2CF4-4B46-9E73-26F68864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C12E-4322-43EF-9E26-1C662B89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300B-E1BA-4CAF-AB6F-08BAEF1C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7098-8E7E-4962-8D46-25FE0669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A12-C0BA-4CAF-9056-1B74C52E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B84-D6AF-4526-AB60-CA50A73D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F2B-B086-4CC6-AD01-32A0E4FD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90360" y="7617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3A1-1848-414A-A4E1-60C6E8C1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5D8-19AD-4340-8B33-663D80C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136-1CC4-49E6-867A-0EA1F32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F19-12C1-44BC-9697-8B8DA828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3040" y="117360"/>
            <a:ext cx="9160920" cy="6739200"/>
            <a:chOff x="743040" y="117360"/>
            <a:chExt cx="9160920" cy="6739200"/>
          </a:xfrm>
        </p:grpSpPr>
        <p:sp>
          <p:nvSpPr>
            <p:cNvPr id="1" name=""/>
            <p:cNvSpPr/>
            <p:nvPr/>
          </p:nvSpPr>
          <p:spPr>
            <a:xfrm>
              <a:off x="743040" y="6629400"/>
              <a:ext cx="379728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916520" y="6746760"/>
              <a:ext cx="4692960" cy="65160"/>
              <a:chOff x="4916520" y="6746760"/>
              <a:chExt cx="469296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916520" y="6746760"/>
                <a:ext cx="723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577120" y="6746760"/>
                <a:ext cx="720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237000" y="6746760"/>
                <a:ext cx="705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897240" y="6746760"/>
                <a:ext cx="705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57840" y="6746760"/>
                <a:ext cx="720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218080" y="6746760"/>
                <a:ext cx="720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878320" y="6746760"/>
                <a:ext cx="723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538920" y="6746760"/>
                <a:ext cx="705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825480" y="762120"/>
              <a:ext cx="907848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920" y="117360"/>
              <a:ext cx="720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71920" y="347760"/>
              <a:ext cx="720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1920" y="574560"/>
              <a:ext cx="720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4C34-F5FE-43F7-9256-DFBE5FE32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903960" cy="6739200"/>
            <a:chOff x="0" y="117360"/>
            <a:chExt cx="9903960" cy="6739200"/>
          </a:xfrm>
        </p:grpSpPr>
        <p:sp>
          <p:nvSpPr>
            <p:cNvPr id="57" name=""/>
            <p:cNvSpPr/>
            <p:nvPr/>
          </p:nvSpPr>
          <p:spPr>
            <a:xfrm>
              <a:off x="742680" y="6529320"/>
              <a:ext cx="379728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2680" y="2438280"/>
              <a:ext cx="916128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54000" y="117360"/>
              <a:ext cx="723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54000" y="347760"/>
              <a:ext cx="723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54000" y="574560"/>
              <a:ext cx="723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54000" y="1033560"/>
              <a:ext cx="723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54000" y="1260360"/>
              <a:ext cx="723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54000" y="1490760"/>
              <a:ext cx="723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54000" y="1717560"/>
              <a:ext cx="723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54000" y="1947960"/>
              <a:ext cx="723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54000" y="2176560"/>
              <a:ext cx="723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16520" y="6670800"/>
              <a:ext cx="4692960" cy="64800"/>
              <a:chOff x="4916520" y="6670800"/>
              <a:chExt cx="469296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916520" y="6670800"/>
                <a:ext cx="723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577120" y="6670800"/>
                <a:ext cx="720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237000" y="6670800"/>
                <a:ext cx="705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97240" y="6670800"/>
                <a:ext cx="705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557840" y="6670800"/>
                <a:ext cx="720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18080" y="6670800"/>
                <a:ext cx="720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78320" y="6670800"/>
                <a:ext cx="723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538920" y="6670800"/>
                <a:ext cx="705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54000" y="804960"/>
              <a:ext cx="723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2068200" cy="1909800"/>
              <a:chOff x="0" y="3693960"/>
              <a:chExt cx="20682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6176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1240" y="3693960"/>
                <a:ext cx="141696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11160" y="4498920"/>
                <a:ext cx="10836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806C-7605-474F-A397-956817319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916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estión de tránsit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2876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drigo Fernández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uardo Valenzuela 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os paradigma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196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ólo vehícu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ólo ca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ías o cruces ais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das puntu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ólo con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353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200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áreas comple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junto diseñ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actos ambien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533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l nuevo concept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estión de tránsito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ministración </a:t>
            </a:r>
            <a:r>
              <a:rPr b="0" lang="en-US" sz="3200" spc="-1" strike="noStrike">
                <a:solidFill>
                  <a:srgbClr val="21ff07"/>
                </a:solidFill>
                <a:latin typeface="Times New Roman"/>
              </a:rPr>
              <a:t>racional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la circulación de </a:t>
            </a:r>
            <a:r>
              <a:rPr b="0" lang="en-US" sz="3200" spc="-1" strike="noStrike">
                <a:solidFill>
                  <a:srgbClr val="21ff07"/>
                </a:solidFill>
                <a:latin typeface="Times New Roman"/>
              </a:rPr>
              <a:t>person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 cosas por los </a:t>
            </a:r>
            <a:r>
              <a:rPr b="0" lang="en-US" sz="3200" spc="-1" strike="noStrike">
                <a:solidFill>
                  <a:srgbClr val="21ff07"/>
                </a:solidFill>
                <a:latin typeface="Times New Roman"/>
              </a:rPr>
              <a:t>espacios públic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 un </a:t>
            </a:r>
            <a:r>
              <a:rPr b="0" lang="en-US" sz="3200" spc="-1" strike="noStrike">
                <a:solidFill>
                  <a:srgbClr val="21ff07"/>
                </a:solidFill>
                <a:latin typeface="Times New Roman"/>
              </a:rPr>
              <a:t>áre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termi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jetivo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1ff07"/>
                </a:solidFill>
                <a:latin typeface="Times New Roman"/>
              </a:rPr>
              <a:t>aminor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s impactos </a:t>
            </a:r>
            <a:r>
              <a:rPr b="0" lang="en-US" sz="3200" spc="-1" strike="noStrike">
                <a:solidFill>
                  <a:srgbClr val="21ff07"/>
                </a:solidFill>
                <a:latin typeface="Times New Roman"/>
              </a:rPr>
              <a:t>sociales y ambienta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rivados del tráf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68508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¿Qué impactos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5120" y="1523880"/>
            <a:ext cx="387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ás obvi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 viaje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cin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minantes atmosfé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identes, vícti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613120" y="1523880"/>
            <a:ext cx="387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ff07"/>
                </a:solidFill>
                <a:latin typeface="Times New Roman"/>
              </a:rPr>
              <a:t>Menos obvi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B(A), vibr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reg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mpo, dist cru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timid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so calle otros f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é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mpo vis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 gestión modern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82640" y="1635120"/>
          <a:ext cx="8334360" cy="41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1635120"/>
                    <a:ext cx="833436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entari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estión tránsito: actividad perman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ás que aumentar capacidad 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rma de hacer comunidad más habi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orporar “nuevos” concep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jerarquización v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Tripp, 194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21ff0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ff07"/>
                </a:solidFill>
                <a:latin typeface="Times New Roman"/>
              </a:rPr>
              <a:t>capacidad ambiental tráfic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Buchanan, 196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aquietamiento del tráfic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197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Área Ingeniería de Tránsit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27200" y="2398680"/>
          <a:ext cx="84484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2398680"/>
                    <a:ext cx="84484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5120" y="7617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1680" y="1523880"/>
            <a:ext cx="47052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probl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 teor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unos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 paradig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nuevo con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gestión mod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 herrami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l problem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0240" y="175248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ilizar personas y co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 efici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o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dad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ánsito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irculación de </a:t>
            </a:r>
            <a:r>
              <a:rPr b="0" lang="en-US" sz="3200" spc="-1" strike="noStrike">
                <a:solidFill>
                  <a:srgbClr val="21ff07"/>
                </a:solidFill>
                <a:latin typeface="Times New Roman"/>
              </a:rPr>
              <a:t>person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 cosas por los </a:t>
            </a:r>
            <a:r>
              <a:rPr b="0" lang="en-US" sz="3200" spc="-1" strike="noStrike">
                <a:solidFill>
                  <a:srgbClr val="21ff07"/>
                </a:solidFill>
                <a:latin typeface="Times New Roman"/>
              </a:rPr>
              <a:t>espacios públ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57880" y="2133720"/>
            <a:ext cx="45799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68652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os teorema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5120" y="18288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Teorema 1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“cualquier cambio que aumente los usuarios de auto y disminuya los de t. público aumentará el costo de viaje para todos”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Mogridge, 198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Teorema 2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los flujos tienen la habilidad de sobreponerse a cualquier aumento de la capacidad vial”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Goodwin, 199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Corolario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 debe optimizar la capacidad de transporte (nº personas o cosas/hora), en vez de la capacidad vial (nº vehículos/hor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8420040" cy="6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¿Qué personas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9920" y="1986120"/>
          <a:ext cx="7775640" cy="41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986120"/>
                    <a:ext cx="777564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7920" y="761760"/>
            <a:ext cx="8420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acidad de transport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nº personas/ho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sta aut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3 m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clo pis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9 mi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 ve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sta peat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21 mi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 ve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sta bu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30 mi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0 veces)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 paradero bu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15 mi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 ve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5120" y="761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sto Infraestructur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512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millones US$/k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iclo ví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0,02 - 0,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mino 2 pis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0,3 - 0,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ioridad bus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1 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ía segregada bus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2 -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ínea trolebus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ínea tranví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10 -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ínea metr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25 -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80 -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manda por bu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7920" y="16765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Alameda S.Antonio-Teatinos, Tar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bidas: 10.000 pas/h-k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jadas:   5.000 pas/h-k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21ff0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ff07"/>
                </a:solidFill>
                <a:latin typeface="Times New Roman"/>
              </a:rPr>
              <a:t>demanda de transferencia</a:t>
            </a:r>
            <a:r>
              <a:rPr b="0" lang="es-ES_tradnl" sz="2400" spc="-1" strike="noStrike">
                <a:solidFill>
                  <a:srgbClr val="21ff07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21ff07"/>
                </a:solidFill>
                <a:latin typeface="Times New Roman"/>
              </a:rPr>
              <a:t>: 15.000 pas/h-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lujo buses: 550 bus/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cupación :   45 pas/b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21ff0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ff07"/>
                </a:solidFill>
                <a:latin typeface="Times New Roman"/>
              </a:rPr>
              <a:t>flujo pasajeros</a:t>
            </a:r>
            <a:r>
              <a:rPr b="0" lang="es-ES_tradnl" sz="2400" spc="-1" strike="noStrike">
                <a:solidFill>
                  <a:srgbClr val="21ff07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21ff07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21ff07"/>
                </a:solidFill>
                <a:latin typeface="Times New Roman"/>
              </a:rPr>
              <a:t>: 25.000 pas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mision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68160" y="2116080"/>
          <a:ext cx="8428320" cy="40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2116080"/>
                    <a:ext cx="842832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6T19:35:28Z</dcterms:created>
  <dc:creator>EVF-RFA</dc:creator>
  <dc:description/>
  <dc:language>en-US</dc:language>
  <cp:lastModifiedBy>Eduardo Valenzuela Freraut</cp:lastModifiedBy>
  <cp:lastPrinted>1997-08-22T15:19:52Z</cp:lastPrinted>
  <dcterms:modified xsi:type="dcterms:W3CDTF">2002-03-12T13:27:51Z</dcterms:modified>
  <cp:revision>242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42840528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s CI53G</vt:lpwstr>
  </property>
</Properties>
</file>