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29C-931A-431A-BA02-1F406A33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ADB-CCAE-4278-AE4D-364226E7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C5C-E428-4618-9B57-D14230CE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F27-F965-44C0-984D-5984801D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260-5759-492A-82DA-65052EE2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77A-0B66-4CC7-85FD-CF19C955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4DF-4CD1-456B-B836-E9E5D4F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435-BF8E-40DE-80C9-5D9385C5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8C3-DF12-4826-A704-D779A71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2D2-0044-4FB2-AB02-19984F72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050-8F49-493F-9148-500E234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7FD-570F-40F8-87E8-2ECBF9C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0C9D-0555-4B9D-960B-A4D6FC22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ecuencial de programación, Akce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enfoque tradicional está basado en la minimización de las demoras de los vehículos de los movimientos críticos (Webster, 1958). Así, el tiempo de ciclo óptimo viene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2286000"/>
                <a:ext cx="2233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57200" y="2971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 algunas objeciones al crite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considera demoras de usuarios, sólo de vehículos (incorporar tasas de ocup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gregar corrientes con alta ocupación y otorgarles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sumo de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úmero de detenciones y ac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o respuesta a estas objeciones, Akcelik pro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17520" y="5018040"/>
                <a:ext cx="2820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,4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49528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 : minimizar dem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2 : minimizar demoras y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4 : minimizar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F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junto de movimentos no conflictivos que tienen derecho de paso simultá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Entrever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 tiempos de amarillo, todo rojo y verdes mínimos para cada 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l tiempo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iclo mínimo, máximo y óptimo de la secuencia completa de f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 Repar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ción de los tiempos de verde a cada f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borda el problema de determinar ciclo y repartos de un semáforo aislado usando programación lin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 : movimiento j de n mov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j: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j: flujo de s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: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Xpj: grado de saturación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 : fase i de m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 : tiempo de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wi =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i : 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m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: verde efectivo mín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 = (aij) = matriz fase(i) – movimiento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ij= 1 si movimiento j tiene verde en fase i; 0 si 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tricciones que deben cumpli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tiempo de ciclo: C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 =&gt; Wo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des mínimos : Ve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Vemi =&gt; W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iW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grado de saturación: q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Qpj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bj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stencia entre verdes efectivos y tiempo de cicl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i = 1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ormalmente son datos Co, aij,L,bj. Luego, las incognitas del problemas son: C y W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ones Objetivos po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nimizar demora total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ximizar capacidad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nimización de demoras (aproximación de Webst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11360" y="2031840"/>
                <a:ext cx="381312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9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948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presión que su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legadas aleatorias (semáforo ais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íodo de verde de cada movimiento es un bloque contínuo dentro del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95480" y="4648320"/>
                <a:ext cx="1963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í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741320" y="5576760"/>
            <a:ext cx="45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.a.: restricciones 1,2,3, 4 y no 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294080"/>
            <a:ext cx="2361960" cy="1192320"/>
          </a:xfrm>
          <a:prstGeom prst="borderCallout1">
            <a:avLst>
              <a:gd name="adj1" fmla="val 18750"/>
              <a:gd name="adj2" fmla="val -8333"/>
              <a:gd name="adj3" fmla="val 47402"/>
              <a:gd name="adj4" fmla="val -109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nderador arbi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asa de ocu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Peat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2800" y="16002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19564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1956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19564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438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P: Verde Peatonal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5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I: Verde Intermitente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3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P: Rojo Peatonal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: tiempo de ciclo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514600"/>
            <a:ext cx="426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 : ancho cruce 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velocidad de cruce (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: verde movimiento vehículos 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71800" y="3733920"/>
                <a:ext cx="21337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,9</m:t>
                              </m:r>
                              <m:f>
                                <m:num>
                                  <m:r>
                                    <m:t xml:space="preserve">W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85320" y="39276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04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040" y="5029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Vehic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8800" y="18288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11120" y="21636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60676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60676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60676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1120" y="27734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139920"/>
            <a:ext cx="22096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139920"/>
            <a:ext cx="1905120" cy="1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3139920"/>
            <a:ext cx="22860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139920"/>
            <a:ext cx="137160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1120" y="3306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673440"/>
            <a:ext cx="4419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3673440"/>
            <a:ext cx="83808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6734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3673440"/>
            <a:ext cx="2286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759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3760" y="291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4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03400" y="29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6120" y="281952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TODO RO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8520" y="32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36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444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19560" y="344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5440" y="332100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NTREVER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78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2280" y="40384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URACION FASE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3:17:57Z</dcterms:modified>
  <cp:revision>109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5654633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