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D29B-9AEC-498F-8AB6-F07D35D6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0439-2DEE-4FC7-920D-FA389CCF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05DF-9685-4D84-976A-E6FA3A5ED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9589-BC52-4FCB-8F94-F42B8A306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5F8E-9451-45A2-934D-CB5A4D8E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2F13-913F-4CC1-A2EB-15A672BF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607A-F5DE-4C6D-9D20-291DE914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7254-8B52-47C0-994D-7799F7C1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D5CA-53DF-4BB6-B220-49325819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58BB-2738-4F18-A908-35DFBF85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6223-A2C5-4AC8-9D73-7684D2DA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7C94-EDBC-467A-8AB7-9ECC296E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2272-1C1A-400D-99FF-14C7DB605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381880" y="111240"/>
            <a:ext cx="546120" cy="11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Método Secuencial de programación, Akcel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enfoque tradicional está basado en la minimización de las demoras de los vehículos de los movimientos críticos (Webster, 1958). Así, el tiempo de ciclo óptimo viene dado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648320" y="2286000"/>
                <a:ext cx="22334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,5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e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457200" y="29718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xisten algunas objeciones al criter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 considera demoras de usuarios, sólo de vehículos (incorporar tasas de ocup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gregar corrientes con alta ocupación y otorgarles prior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onsumo de combust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úmero de detenciones y accid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mo respuesta a estas objeciones, Akcelik propo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217520" y="5018040"/>
                <a:ext cx="28209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,4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e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4572000" y="4952880"/>
            <a:ext cx="3886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k=0 : minimizar demo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k=0,2 : minimizar demoras y combust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k=0,4 : minimizar combust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Res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iseño de Fa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junto de movimentos no conflictivos que tienen derecho de paso simultáne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iseño de Entrever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eterminación de tiempos de amarillo, todo rojo y verdes mínimos para cada f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terminación del tiempo de cic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iclo mínimo, máximo y óptimo de la secuencia completa de f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terminación de Repar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efinición de los tiempos de verde a cada f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Método Simultáneo de Allsop, 19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Aborda el problema de determinar ciclo y repartos de un semáforo aislado usando programación line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j : movimiento j de n movimi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qj: flu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Sj: flujo de sat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j: razón de verde efe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Xpj: grado de saturación prác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i : fase i de m f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C : tiempo de cic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wi = razón de verde efe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li : tiempo perd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emi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 : verde efectivo mín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A = (aij) = matriz fase(i) – movimiento(j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aij= 1 si movimiento j tiene verde en fase i; 0 si 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Método Simultáneo de Allsop, 19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estricciones que deben cumplir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áximo tiempo de ciclo: C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Co =&gt; Wo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Ko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Verdes mínimos : Vei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Vemi =&gt; Wi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KiWo 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áximo grado de saturación: qj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Qpj =&gt;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bj 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nsistencia entre verdes efectivos y tiempo de ciclo: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Wi = 1 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Normalmente son datos Co, aij,L,bj. Luego, las incognitas del problemas son: C y W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unciones Objetivos posib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inimizar demora total de la inters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aximizar capacidad de la inters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Método Simultáneo de Allsop, 19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inimización de demoras (aproximación de Webster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511360" y="2031840"/>
                <a:ext cx="3813120" cy="90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9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609480" y="29718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xpresión que supo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legadas aleatorias (semáforo aisl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íodo de verde de cada movimiento es un bloque contínuo dentro del cic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unción Objetiv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895480" y="4648320"/>
                <a:ext cx="19638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ín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1741320" y="5576760"/>
            <a:ext cx="453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.a.: restricciones 1,2,3, 4 y no neg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4294080"/>
            <a:ext cx="2361960" cy="1192320"/>
          </a:xfrm>
          <a:prstGeom prst="borderCallout1">
            <a:avLst>
              <a:gd name="adj1" fmla="val 18750"/>
              <a:gd name="adj2" fmla="val -8333"/>
              <a:gd name="adj3" fmla="val 47402"/>
              <a:gd name="adj4" fmla="val -1098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onderador arbitr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rá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asa de ocup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esos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Representación de Semáforos Peat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2800" y="1600200"/>
            <a:ext cx="314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3300"/>
                </a:solidFill>
                <a:latin typeface="Times New Roman"/>
              </a:rPr>
              <a:t>DIAGRAMA DE TIEM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2195640"/>
            <a:ext cx="1905120" cy="1522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2195640"/>
            <a:ext cx="228600" cy="15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V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2195640"/>
            <a:ext cx="358128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243828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VP: Verde Peatonal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5 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VI: Verde Intermitente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3 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RP: Rojo Peatonal 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 : tiempo de ciclo 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86200" y="2514600"/>
            <a:ext cx="4267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W : ancho cruce (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 velocidad de cruce (m/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V: verde movimiento vehículos simultáne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971800" y="3733920"/>
                <a:ext cx="2133720" cy="20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,9</m:t>
                              </m:r>
                              <m:f>
                                <m:num>
                                  <m:r>
                                    <m:t xml:space="preserve">W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  <m:r>
                                <m:t xml:space="preserve">s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5485320" y="392760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part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040" y="45720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xclu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86040" y="50292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xclu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Representación de Semáforos Vehicul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8800" y="1828800"/>
            <a:ext cx="314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3300"/>
                </a:solidFill>
                <a:latin typeface="Times New Roman"/>
              </a:rPr>
              <a:t>DIAGRAMA DE TIEM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11120" y="216360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Fas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2606760"/>
            <a:ext cx="1905120" cy="1522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2606760"/>
            <a:ext cx="228600" cy="15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2606760"/>
            <a:ext cx="358128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11120" y="277344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Fas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3139920"/>
            <a:ext cx="2209680" cy="152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3139920"/>
            <a:ext cx="1905120" cy="152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3139920"/>
            <a:ext cx="228600" cy="152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139920"/>
            <a:ext cx="1371600" cy="152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11120" y="330660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Fas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3673440"/>
            <a:ext cx="441972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9920" y="3673440"/>
            <a:ext cx="838080" cy="1522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3673440"/>
            <a:ext cx="228600" cy="15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86600" y="3673440"/>
            <a:ext cx="22860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2759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803760" y="2910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2949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803400" y="2949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6120" y="2819520"/>
            <a:ext cx="88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TODO RO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08520" y="3292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019920" y="33681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10080" y="34448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019560" y="34448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5440" y="3321000"/>
            <a:ext cx="101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ENTREVER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3825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825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15000" y="39783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42280" y="4038480"/>
            <a:ext cx="130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DURACION FASE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3T16:34:33Z</dcterms:created>
  <dc:creator>Eduardo Valenzuela Freraut</dc:creator>
  <dc:description/>
  <dc:language>en-US</dc:language>
  <cp:lastModifiedBy>Eduardo Valenzuela Freraut</cp:lastModifiedBy>
  <dcterms:modified xsi:type="dcterms:W3CDTF">2002-04-16T03:17:57Z</dcterms:modified>
  <cp:revision>109</cp:revision>
  <dc:subject/>
  <dc:title>Programación de Semáfor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85654633</vt:r8>
  </property>
  <property fmtid="{D5CDD505-2E9C-101B-9397-08002B2CF9AE}" pid="3" name="_AuthorEmail">
    <vt:lpwstr>evalenza@ing.uchile.cl</vt:lpwstr>
  </property>
  <property fmtid="{D5CDD505-2E9C-101B-9397-08002B2CF9AE}" pid="4" name="_AuthorEmailDisplayName">
    <vt:lpwstr>Eduardo Valenzuela Freraut</vt:lpwstr>
  </property>
  <property fmtid="{D5CDD505-2E9C-101B-9397-08002B2CF9AE}" pid="5" name="_EmailSubject">
    <vt:lpwstr>subir clases a la web</vt:lpwstr>
  </property>
</Properties>
</file>