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BCE-51AB-4F24-8AD3-2595D6F0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D6E-D849-4927-A672-F3FEE77F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6B0D-49AD-4100-B4CA-A2C7C955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A1C7-7F8D-484E-9DA4-4A6F0B05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3E3-F97B-49A4-8FF9-722A0D82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154-343A-4300-87E5-3B46054F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99C-BE96-40E3-B27D-93FC6655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DA4-D6E7-4F90-A4A9-E927A6D7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788-C6C7-463C-AD05-CC7F7F6F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0FCD-A6DE-40A3-8352-C81711B4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EF0-C241-4ABD-AC21-6C4F2198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EE5-2B02-4D42-B3F8-C697AB54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F061-C828-4FC2-94FC-AEFEE62F8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ENTREVERDE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ríodo que va desde que termina la verde para el movimiento que pierde derecho a vía, hasta el inicio de la verde para el movimiento siguiente en la secuencia de fases. Está compuesto por un tiempo de amarillo y un período todo rojo (que puede existir o n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895480" y="3809880"/>
                <a:ext cx="320040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jetivo: minimizar X, maximizar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puede demostrar (Webster,1958) que </a:t>
            </a:r>
            <a:r>
              <a:rPr b="0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X se minimiz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cuando a los movimientos críticos se les da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verde efectivo en proporción a sus factores de carg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Esto lleva a igualar los grados de saturación de los movimientos crítico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924200" y="2728800"/>
                <a:ext cx="50814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 trayectoria crític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609480" y="3352680"/>
            <a:ext cx="792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dición de no saturación: (q &lt; Q) =&gt; Y/U &lt; 1 (demostrar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ntonces, sabiendo que </a:t>
            </a:r>
            <a:r>
              <a:rPr b="0" lang="es-MX" sz="1800" spc="-1" strike="noStrike">
                <a:solidFill>
                  <a:srgbClr val="3333cc"/>
                </a:solidFill>
                <a:latin typeface="Times New Roman"/>
              </a:rPr>
              <a:t>U = (C-L)/C, por lo tan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819520" y="4164120"/>
                <a:ext cx="2819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09480" y="5105520"/>
            <a:ext cx="7925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gún esto, si no hay movimientos traslapados, es necesario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inimizar el número de fase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para que L no sea muy grande. En cambio, si existen movimientos traslapados, es importante el manejo de los movimientos críticos tratando de maximizar su capacidad (Máx Y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Ciclo Máximo, Métod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considera que existe un máximo tiempo de ciclo aceptable por los usuarios del modo: 120 seg.  (180 se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 hecho el diseño de fases y, aún para Cmáx, Y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1, existen tres posibili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514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isminuir L, el cual está acotado por 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isminuir el flujo (reasignación, prohibición de mov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Aumentar S de movimientos críticos (rediseños geométricos u operativ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Una vez asegurado que la intersección no está saturada, para el tiempo de ciclo escogido (óptimo, máximo, etc.), el paso siguiente es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determinar los repartos o asignación de tiempos de verde por movimiento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 anterior implica definir algún criterio de optimización aplicado a la intersec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étodo Secuencial (Akcelik): el más tradicional (aplicado a aaSIDR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Método Simultáneo por programación lineal (Allsop): aplicado a programas SIGCAP y SIGS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Ciclo 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523880"/>
            <a:ext cx="792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 define un tiempo de ciclo práctico (Cp) que asegure que Xi &lt; Xp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36600" y="2016000"/>
                <a:ext cx="41864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crítico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752480" y="3657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09588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90960" y="5867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34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200400"/>
            <a:ext cx="4114800" cy="1879560"/>
          </a:xfrm>
          <a:custGeom>
            <a:avLst/>
            <a:gdLst/>
            <a:ahLst/>
            <a:rect l="l" t="t" r="r" b="b"/>
            <a:pathLst>
              <a:path w="2592" h="1184">
                <a:moveTo>
                  <a:pt x="0" y="576"/>
                </a:moveTo>
                <a:cubicBezTo>
                  <a:pt x="64" y="632"/>
                  <a:pt x="128" y="688"/>
                  <a:pt x="336" y="768"/>
                </a:cubicBezTo>
                <a:cubicBezTo>
                  <a:pt x="544" y="848"/>
                  <a:pt x="872" y="1184"/>
                  <a:pt x="1248" y="1056"/>
                </a:cubicBezTo>
                <a:cubicBezTo>
                  <a:pt x="1624" y="928"/>
                  <a:pt x="2108" y="464"/>
                  <a:pt x="2592" y="0"/>
                </a:cubicBezTo>
              </a:path>
            </a:pathLst>
          </a:custGeom>
          <a:noFill/>
          <a:ln w="3492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4419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952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61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59320" y="61722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1,5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6172200"/>
            <a:ext cx="9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99"/>
                </a:solidFill>
                <a:latin typeface="Times New Roman"/>
              </a:rPr>
              <a:t>0,75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495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523880" y="4419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880" y="41562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1,2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12760" y="4648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638000" y="49528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4876920"/>
            <a:ext cx="0" cy="121896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920" y="6095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4876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04812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Relación Tiempo de Ciclo &amp; Dem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4496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1920" y="4295880"/>
            <a:ext cx="27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Elección del tiempo de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sin efecto sustancial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Times New Roman"/>
              </a:rPr>
              <a:t>Demoras de inters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tención repa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925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efinido el tiempo de ciclo, si no se considera EQUISATURAC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24160" y="1905120"/>
                <a:ext cx="1952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3575520" y="209556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i pertenece a trayectoria 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305000" y="2771640"/>
                <a:ext cx="22384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Y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575520" y="2986200"/>
            <a:ext cx="31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, i pertenece a trayectoria cr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080" y="3809880"/>
            <a:ext cx="77155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a segunda expresión es aplicable en ambos casos ya que si existe equisaturació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= cte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i y x = Máx {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}=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,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uando hay movimientos controlados por verde mínimo, se apl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y aparecen en 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620120" y="4724280"/>
                <a:ext cx="1023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09480" y="5486400"/>
            <a:ext cx="792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Finalmente, los repartos en el semáforo real será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248520" y="533412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Obtención repa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447920"/>
            <a:ext cx="7924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ay movimientos traslapados que son críticos, los no traslapados pueden ser tratados como fases de un ciclo reducido de duración igual al traslapo (diagrama de red nodos=fases, arcos=movimient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5720" y="3200400"/>
            <a:ext cx="60948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82096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281952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2819520"/>
            <a:ext cx="1752480" cy="303120"/>
          </a:xfrm>
          <a:custGeom>
            <a:avLst/>
            <a:gdLst/>
            <a:ahLst/>
            <a:rect l="l" t="t" r="r" b="b"/>
            <a:pathLst>
              <a:path w="1104" h="191">
                <a:moveTo>
                  <a:pt x="0" y="191"/>
                </a:moveTo>
                <a:cubicBezTo>
                  <a:pt x="49" y="164"/>
                  <a:pt x="158" y="54"/>
                  <a:pt x="294" y="27"/>
                </a:cubicBezTo>
                <a:cubicBezTo>
                  <a:pt x="430" y="0"/>
                  <a:pt x="680" y="0"/>
                  <a:pt x="815" y="27"/>
                </a:cubicBezTo>
                <a:cubicBezTo>
                  <a:pt x="950" y="54"/>
                  <a:pt x="1044" y="157"/>
                  <a:pt x="1104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4680" y="3714840"/>
            <a:ext cx="3508200" cy="641160"/>
          </a:xfrm>
          <a:custGeom>
            <a:avLst/>
            <a:gdLst/>
            <a:ahLst/>
            <a:rect l="l" t="t" r="r" b="b"/>
            <a:pathLst>
              <a:path w="2210" h="404">
                <a:moveTo>
                  <a:pt x="36" y="0"/>
                </a:moveTo>
                <a:cubicBezTo>
                  <a:pt x="48" y="9"/>
                  <a:pt x="0" y="2"/>
                  <a:pt x="98" y="60"/>
                </a:cubicBezTo>
                <a:cubicBezTo>
                  <a:pt x="196" y="118"/>
                  <a:pt x="386" y="300"/>
                  <a:pt x="626" y="348"/>
                </a:cubicBezTo>
                <a:cubicBezTo>
                  <a:pt x="866" y="396"/>
                  <a:pt x="1274" y="404"/>
                  <a:pt x="1538" y="348"/>
                </a:cubicBezTo>
                <a:cubicBezTo>
                  <a:pt x="1802" y="292"/>
                  <a:pt x="2006" y="152"/>
                  <a:pt x="2210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4920" y="2498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85720" y="25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38200" y="25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2880" y="432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10080" y="3733920"/>
                <a:ext cx="1447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´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533520" y="4724280"/>
            <a:ext cx="7924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por el contrario, los no traslapados son los críticos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676600" y="5207040"/>
                <a:ext cx="31906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AMARILLO (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s obligatorio en el entreverde y significa que un vehículo que lo enfrenta debe detenerse, si alcanza a hacerlo. Así, el amarillo de un movimiento i, será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47920" y="2971800"/>
                <a:ext cx="2209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2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114800" y="2755800"/>
            <a:ext cx="3267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tpo. de reacción (1 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: veloc. Aproximación al cruce (m/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: tasa frenado (2,5 m/s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2280" y="4267080"/>
            <a:ext cx="2204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 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5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TODO ROJO (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a existencia de un período todo rojo dependerá de la necesidad de un período adicional para que se cumpla la función del entreverde: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desalojar con seguridad de la intersección  al movimiento que pierde derecho de v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2971800"/>
                <a:ext cx="1828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745800" y="2971800"/>
            <a:ext cx="518436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distancia desde línea de detención hasta punto de confli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ás alejado 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: longitud promedio de vehículos ( 6 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7600" y="4191120"/>
            <a:ext cx="21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0 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R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3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Tiempo Desaprovechado o perdido total del movimiento i (l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s-MX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período en que el movimiento no cir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429000" y="2819520"/>
                <a:ext cx="2209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62120" y="342900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274400" y="344340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érdida inicial (1,7 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394160" y="3429000"/>
                <a:ext cx="406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884480" y="3429000"/>
            <a:ext cx="3498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anancia del amarillo (0,6 A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erdes Mínim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período de verde de un movimiento se acota inferiormente por razones de seguridad para el cruce de vehículos y pea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0800" y="2666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ara vehículos: 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min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= 8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para peatones: 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min</a:t>
            </a:r>
            <a:r>
              <a:rPr b="0" lang="es-ES_tradnl" sz="2800" spc="-1" strike="noStrike">
                <a:solidFill>
                  <a:srgbClr val="00cc99"/>
                </a:solidFill>
                <a:latin typeface="Times New Roman"/>
              </a:rPr>
              <a:t> = 5 + w/v</a:t>
            </a:r>
            <a:r>
              <a:rPr b="0" lang="es-ES_tradnl" sz="2800" spc="-1" strike="noStrike" baseline="-25000">
                <a:solidFill>
                  <a:srgbClr val="00cc99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2514600"/>
            <a:ext cx="2438640" cy="762120"/>
          </a:xfrm>
          <a:prstGeom prst="borderCallout1">
            <a:avLst>
              <a:gd name="adj1" fmla="val 18750"/>
              <a:gd name="adj2" fmla="val -8333"/>
              <a:gd name="adj3" fmla="val 107500"/>
              <a:gd name="adj4" fmla="val -4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W: Ancho cr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p: Velocidad pea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3886200"/>
            <a:ext cx="1558800" cy="880920"/>
          </a:xfrm>
          <a:prstGeom prst="borderCallout1">
            <a:avLst>
              <a:gd name="adj1" fmla="val 18750"/>
              <a:gd name="adj2" fmla="val -8333"/>
              <a:gd name="adj3" fmla="val -34055"/>
              <a:gd name="adj4" fmla="val -39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rgen de 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marL="65160" indent="-6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Otras variables por movimiento, utiles en la determinación del tiempo de ciclo,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5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azón de verde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ctor de 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1120" indent="-54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ado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962520" y="2286000"/>
                <a:ext cx="1143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86280" y="2860560"/>
                <a:ext cx="10954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903840" y="3578400"/>
                <a:ext cx="1261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962520" y="4086360"/>
                <a:ext cx="30715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c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62120" y="5181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onde q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s el flujo del movimiento i, S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el es flujo de saturación correspondiente, v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el verde efectivo del movimiento y c es el tiempo de ciclo del semáforo (ambos a determin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grado de saturación define el límite entre dos condiciones de operación del movimien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No Saturado (Xi &lt; 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aturado (Xi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1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ara cubrir fluctuaciones aleatorias en la demanda (flujo) se suele imponer o recomendar un </a:t>
            </a:r>
            <a:r>
              <a:rPr b="0" lang="es-MX" sz="2000" spc="-1" strike="noStrike">
                <a:solidFill>
                  <a:srgbClr val="ff3300"/>
                </a:solidFill>
                <a:latin typeface="Times New Roman"/>
              </a:rPr>
              <a:t>Grado de Saturación Práctico (Xp)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tal que Xpi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0,90 (0,85) para cada movimiento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n movimiento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ede estar autorizado en más de una fas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en una fase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pueden estar autorizados más de un movimient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ovimiento traslapado: 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es el que dispnde de verde en más de una fase consecutiva. Luego, la entreverde correspondiente no tiene pérdidas asoci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Movimiento Crítico:</a:t>
            </a:r>
            <a:r>
              <a:rPr b="0" lang="es-MX" sz="1800" spc="-1" strike="noStrike">
                <a:solidFill>
                  <a:srgbClr val="00cc99"/>
                </a:solidFill>
                <a:latin typeface="Times New Roman"/>
              </a:rPr>
              <a:t> es aquél, de todos los movimientos autorizados en la fase, que requiere de más tiempo de verde para pa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Variables Auxili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tiempo asignado a un movimiento es: Ii + Vi, donde Vi es el verde presentado del semáforo para el movimiento 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n embargo, el tiempo necesario para que ese movimiento pueda cruzar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7400" y="2392200"/>
                <a:ext cx="16128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990720" y="304812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e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46240" y="2833560"/>
                <a:ext cx="290664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y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181480" y="3048120"/>
            <a:ext cx="1524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 Entonc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90920" y="3724200"/>
                <a:ext cx="35924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685800" y="45720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i no hay movimientos traslapados, el movimiento crítico de una fase es aquel para el cual 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ti es máximo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l existir traslapos, la definición no es tan clara y se debe encontrar una “</a:t>
            </a:r>
            <a:r>
              <a:rPr b="0" lang="es-MX" sz="1800" spc="-1" strike="noStrike">
                <a:solidFill>
                  <a:srgbClr val="ff3300"/>
                </a:solidFill>
                <a:latin typeface="Times New Roman"/>
              </a:rPr>
              <a:t>trayectoria crítica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”, compuesta por la suma de los ti may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Los movimientos que compongan la trayectoria crítica serán los crít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53352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Programación de Semáfo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Indicadores Glob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Factor de 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Razón de Ver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érdida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Tiempo de Cic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64520" indent="-164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Grado de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74880" y="1752480"/>
                <a:ext cx="1339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719440" y="2600280"/>
                <a:ext cx="13953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22680" y="3505320"/>
                <a:ext cx="12286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93960" y="4419720"/>
                <a:ext cx="42163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SES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6200" y="5442120"/>
                <a:ext cx="466236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áx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movimiento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Eduardo Valenzuela Freraut</dc:creator>
  <dc:description/>
  <dc:language>en-US</dc:language>
  <cp:lastModifiedBy>Eduardo Valenzuela Freraut</cp:lastModifiedBy>
  <dcterms:modified xsi:type="dcterms:W3CDTF">2002-04-16T02:17:18Z</dcterms:modified>
  <cp:revision>91</cp:revision>
  <dc:subject/>
  <dc:title>Programación de Semáfo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1651689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subir clases a la web</vt:lpwstr>
  </property>
</Properties>
</file>