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8A75-8920-4278-B9A1-EEEB148F5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9165-238F-48D5-A4CC-7BA5ED86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E6A6-8C6C-4FD6-81BA-376FD405A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5814-2E7B-4581-8CFD-CF3021F1E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8949-C7A9-42C9-BF1D-00B7ABAB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3A81-00CC-48B4-BC14-D8051AF7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1DA1-70BF-49B0-9D30-DBA691CA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3543-C53E-42E6-BD58-8040EE65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F7DD-8D11-4277-9014-68975AD8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9846-8D08-4457-B7C9-274E9AE6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55D9-C698-4CB8-935E-18FAB521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FE5B-FA35-4E66-8F6D-A7F03DE6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0FE1-E149-4E34-8956-AC1D48280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381880" y="111240"/>
            <a:ext cx="546120" cy="11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99"/>
                </a:solidFill>
                <a:latin typeface="Times New Roman"/>
              </a:rPr>
              <a:t>ENTREVERDE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ríodo que va desde que termina la verde para el movimiento que pierde derecho a vía, hasta el inicio de la verde para el movimiento siguiente en la secuencia de fases. Está compuesto por un tiempo de amarillo y un período todo rojo (que puede existir o n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895480" y="3809880"/>
                <a:ext cx="320040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Objetivo: minimizar X, maximiza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 puede demostrar (Webster,1958) que </a:t>
            </a:r>
            <a:r>
              <a:rPr b="0" lang="es-MX" sz="1800" spc="-1" strike="noStrike" u="sng">
                <a:solidFill>
                  <a:srgbClr val="000000"/>
                </a:solidFill>
                <a:uFillTx/>
                <a:latin typeface="Times New Roman"/>
              </a:rPr>
              <a:t>X se minimiza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cuando a los movimientos críticos se les da </a:t>
            </a:r>
            <a:r>
              <a:rPr b="0" lang="es-MX" sz="1800" spc="-1" strike="noStrike">
                <a:solidFill>
                  <a:srgbClr val="00cc99"/>
                </a:solidFill>
                <a:latin typeface="Times New Roman"/>
              </a:rPr>
              <a:t>verde efectivo en proporción a sus factores de carga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MX" sz="1800" spc="-1" strike="noStrike">
                <a:solidFill>
                  <a:srgbClr val="ff3300"/>
                </a:solidFill>
                <a:latin typeface="Times New Roman"/>
              </a:rPr>
              <a:t>Esto lleva a igualar los grados de saturación de los movimientos críticos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924200" y="2728800"/>
                <a:ext cx="50814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 trayectoria crític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609480" y="3352680"/>
            <a:ext cx="7925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ndición de no saturación: (q &lt; Q) =&gt; Y/U &lt; 1 (demostrar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ntonces, sabiendo que </a:t>
            </a:r>
            <a:r>
              <a:rPr b="0" lang="es-MX" sz="1800" spc="-1" strike="noStrike">
                <a:solidFill>
                  <a:srgbClr val="3333cc"/>
                </a:solidFill>
                <a:latin typeface="Times New Roman"/>
              </a:rPr>
              <a:t>U = (C-L)/C, por lo tan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819520" y="4164120"/>
                <a:ext cx="28191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609480" y="5105520"/>
            <a:ext cx="7925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gún esto, si no hay movimientos traslapados, es necesario </a:t>
            </a:r>
            <a:r>
              <a:rPr b="0" lang="es-MX" sz="1800" spc="-1" strike="noStrike">
                <a:solidFill>
                  <a:srgbClr val="ff3300"/>
                </a:solidFill>
                <a:latin typeface="Times New Roman"/>
              </a:rPr>
              <a:t>minimizar el número de fases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, para que L no sea muy grande. En cambio, si existen movimientos traslapados, es importante el manejo de los movimientos críticos tratando de maximizar su capacidad (Máx Y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Ciclo Máximo, Métodos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9250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 considera que existe un máximo tiempo de ciclo aceptable por los usuarios del modo: 120 seg.  (180 seg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i hecho el diseño de fases y, aún para Cmáx, Y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1, existen tres posibilidad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2514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cc99"/>
                </a:solidFill>
                <a:latin typeface="Times New Roman"/>
              </a:rPr>
              <a:t>Disminuir L, el cual está acotado por segur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cc99"/>
                </a:solidFill>
                <a:latin typeface="Times New Roman"/>
              </a:rPr>
              <a:t>Disminuir el flujo (reasignación, prohibición de movimien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cc99"/>
                </a:solidFill>
                <a:latin typeface="Times New Roman"/>
              </a:rPr>
              <a:t>Aumentar S de movimientos críticos (rediseños geométricos u operativ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Una vez asegurado que la intersección no está saturada, para el tiempo de ciclo escogido (óptimo, máximo, etc.), el paso siguiente es </a:t>
            </a:r>
            <a:r>
              <a:rPr b="0" lang="es-MX" sz="1800" spc="-1" strike="noStrike">
                <a:solidFill>
                  <a:srgbClr val="00cc99"/>
                </a:solidFill>
                <a:latin typeface="Times New Roman"/>
              </a:rPr>
              <a:t>determinar los repartos o asignación de tiempos de verde por movimientos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o anterior implica definir algún criterio de optimización aplicado a la intersec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étodo Secuencial (Akcelik): el más tradicional (aplicado a aaSIDR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étodo Simultáneo por programación lineal (Allsop): aplicado a programas SIGCAP y SIGS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Ciclo Prác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523880"/>
            <a:ext cx="7925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 define un tiempo de ciclo práctico (Cp) que asegure que Xi &lt; Xp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136600" y="2016000"/>
                <a:ext cx="41864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, U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crítico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752480" y="3657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609588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90960" y="5867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34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3200400"/>
            <a:ext cx="4114800" cy="1879560"/>
          </a:xfrm>
          <a:custGeom>
            <a:avLst/>
            <a:gdLst/>
            <a:ahLst/>
            <a:rect l="l" t="t" r="r" b="b"/>
            <a:pathLst>
              <a:path w="2592" h="1184">
                <a:moveTo>
                  <a:pt x="0" y="576"/>
                </a:moveTo>
                <a:cubicBezTo>
                  <a:pt x="64" y="632"/>
                  <a:pt x="128" y="688"/>
                  <a:pt x="336" y="768"/>
                </a:cubicBezTo>
                <a:cubicBezTo>
                  <a:pt x="544" y="848"/>
                  <a:pt x="872" y="1184"/>
                  <a:pt x="1248" y="1056"/>
                </a:cubicBezTo>
                <a:cubicBezTo>
                  <a:pt x="1624" y="928"/>
                  <a:pt x="2108" y="464"/>
                  <a:pt x="2592" y="0"/>
                </a:cubicBezTo>
              </a:path>
            </a:pathLst>
          </a:custGeom>
          <a:noFill/>
          <a:ln w="349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76920" y="4419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49528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66880" y="61722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3300"/>
                </a:solidFill>
                <a:latin typeface="Times New Roman"/>
              </a:rPr>
              <a:t>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59320" y="6172200"/>
            <a:ext cx="7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99"/>
                </a:solidFill>
                <a:latin typeface="Times New Roman"/>
              </a:rPr>
              <a:t>1,5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09680" y="6172200"/>
            <a:ext cx="9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99"/>
                </a:solidFill>
                <a:latin typeface="Times New Roman"/>
              </a:rPr>
              <a:t>0,75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44956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523880" y="4419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1880" y="41562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3300"/>
                </a:solidFill>
                <a:latin typeface="Times New Roman"/>
              </a:rPr>
              <a:t>1,2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12760" y="4648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33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638000" y="49528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4876920"/>
            <a:ext cx="0" cy="121896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920" y="6095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imes New Roman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33920" y="4876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304812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Times New Roman"/>
              </a:rPr>
              <a:t>Relación Tiempo de Ciclo &amp; Dem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4449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1920" y="4295880"/>
            <a:ext cx="279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Times New Roman"/>
              </a:rPr>
              <a:t>Elección del tiempo de cic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Times New Roman"/>
              </a:rPr>
              <a:t>sin efecto sustancial 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Times New Roman"/>
              </a:rPr>
              <a:t>Demoras de inters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Obtención repar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925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efinido el tiempo de ciclo, si no se considera EQUISATURAC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424160" y="1905120"/>
                <a:ext cx="19522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3575520" y="2095560"/>
            <a:ext cx="31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, i pertenece a trayectoria crí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305000" y="2771640"/>
                <a:ext cx="22384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Y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3575520" y="2986200"/>
            <a:ext cx="31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, i pertenece a trayectoria crí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6080" y="3809880"/>
            <a:ext cx="771552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a segunda expresión es aplicable en ambos casos ya que si existe equisaturació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= cte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i y x = Máx {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}=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i,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uando hay movimientos controlados por verde mínimo, se apl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y aparecen en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620120" y="4724280"/>
                <a:ext cx="10238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í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609480" y="5486400"/>
            <a:ext cx="7925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inalmente, los repartos en el semáforo real será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6248520" y="5334120"/>
                <a:ext cx="2438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Obtención repar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1447920"/>
            <a:ext cx="792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 hay movimientos traslapados que son críticos, los no traslapados pueden ser tratados como fases de un ciclo reducido de duración igual al traslapo (diagrama de red nodos=fases, arcos=movimient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3200400"/>
            <a:ext cx="609480" cy="53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3200400"/>
            <a:ext cx="609480" cy="53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3200400"/>
            <a:ext cx="609480" cy="53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05720" y="3200400"/>
            <a:ext cx="609480" cy="53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2820960"/>
            <a:ext cx="1752480" cy="303120"/>
          </a:xfrm>
          <a:custGeom>
            <a:avLst/>
            <a:gdLst/>
            <a:ahLst/>
            <a:rect l="l" t="t" r="r" b="b"/>
            <a:pathLst>
              <a:path w="1104" h="191">
                <a:moveTo>
                  <a:pt x="0" y="191"/>
                </a:moveTo>
                <a:cubicBezTo>
                  <a:pt x="49" y="164"/>
                  <a:pt x="158" y="54"/>
                  <a:pt x="294" y="27"/>
                </a:cubicBezTo>
                <a:cubicBezTo>
                  <a:pt x="430" y="0"/>
                  <a:pt x="680" y="0"/>
                  <a:pt x="815" y="27"/>
                </a:cubicBezTo>
                <a:cubicBezTo>
                  <a:pt x="950" y="54"/>
                  <a:pt x="1044" y="157"/>
                  <a:pt x="1104" y="1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2819520"/>
            <a:ext cx="1752480" cy="303120"/>
          </a:xfrm>
          <a:custGeom>
            <a:avLst/>
            <a:gdLst/>
            <a:ahLst/>
            <a:rect l="l" t="t" r="r" b="b"/>
            <a:pathLst>
              <a:path w="1104" h="191">
                <a:moveTo>
                  <a:pt x="0" y="191"/>
                </a:moveTo>
                <a:cubicBezTo>
                  <a:pt x="49" y="164"/>
                  <a:pt x="158" y="54"/>
                  <a:pt x="294" y="27"/>
                </a:cubicBezTo>
                <a:cubicBezTo>
                  <a:pt x="430" y="0"/>
                  <a:pt x="680" y="0"/>
                  <a:pt x="815" y="27"/>
                </a:cubicBezTo>
                <a:cubicBezTo>
                  <a:pt x="950" y="54"/>
                  <a:pt x="1044" y="157"/>
                  <a:pt x="1104" y="1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2819520"/>
            <a:ext cx="1752480" cy="303120"/>
          </a:xfrm>
          <a:custGeom>
            <a:avLst/>
            <a:gdLst/>
            <a:ahLst/>
            <a:rect l="l" t="t" r="r" b="b"/>
            <a:pathLst>
              <a:path w="1104" h="191">
                <a:moveTo>
                  <a:pt x="0" y="191"/>
                </a:moveTo>
                <a:cubicBezTo>
                  <a:pt x="49" y="164"/>
                  <a:pt x="158" y="54"/>
                  <a:pt x="294" y="27"/>
                </a:cubicBezTo>
                <a:cubicBezTo>
                  <a:pt x="430" y="0"/>
                  <a:pt x="680" y="0"/>
                  <a:pt x="815" y="27"/>
                </a:cubicBezTo>
                <a:cubicBezTo>
                  <a:pt x="950" y="54"/>
                  <a:pt x="1044" y="157"/>
                  <a:pt x="1104" y="1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44680" y="3714840"/>
            <a:ext cx="3508200" cy="641160"/>
          </a:xfrm>
          <a:custGeom>
            <a:avLst/>
            <a:gdLst/>
            <a:ahLst/>
            <a:rect l="l" t="t" r="r" b="b"/>
            <a:pathLst>
              <a:path w="2210" h="404">
                <a:moveTo>
                  <a:pt x="36" y="0"/>
                </a:moveTo>
                <a:cubicBezTo>
                  <a:pt x="48" y="9"/>
                  <a:pt x="0" y="2"/>
                  <a:pt x="98" y="60"/>
                </a:cubicBezTo>
                <a:cubicBezTo>
                  <a:pt x="196" y="118"/>
                  <a:pt x="386" y="300"/>
                  <a:pt x="626" y="348"/>
                </a:cubicBezTo>
                <a:cubicBezTo>
                  <a:pt x="866" y="396"/>
                  <a:pt x="1274" y="404"/>
                  <a:pt x="1538" y="348"/>
                </a:cubicBezTo>
                <a:cubicBezTo>
                  <a:pt x="1802" y="292"/>
                  <a:pt x="2006" y="152"/>
                  <a:pt x="2210" y="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94920" y="2498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85720" y="2514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38200" y="2514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72880" y="4327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10080" y="3733920"/>
                <a:ext cx="14479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´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r>
                          <m:t xml:space="preserve">L</m:t>
                        </m:r>
                        <m:r>
                          <m:t xml:space="preserve">´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533520" y="4724280"/>
            <a:ext cx="7924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 por el contrario, los no traslapados son los críticos, enton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676600" y="5207040"/>
                <a:ext cx="31906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Times New Roman"/>
              </a:rPr>
              <a:t>AMARILLO (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s obligatorio en el entreverde y significa que un vehículo que lo enfrenta debe detenerse, si alcanza a hacerlo. Así, el amarillo de un movimiento i, será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447920" y="2971800"/>
                <a:ext cx="220968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2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114800" y="2755800"/>
            <a:ext cx="3267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tpo. de reacción (1 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: veloc. Aproximación al cruce (m/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: tasa frenado (2,5 m/s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2280" y="4267080"/>
            <a:ext cx="220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 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5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3300"/>
                </a:solidFill>
                <a:latin typeface="Times New Roman"/>
              </a:rPr>
              <a:t>TODO ROJO (R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a existencia de un período todo rojo dependerá de la necesidad de un período adicional para que se cumpla la función del entreverde: </a:t>
            </a:r>
            <a:r>
              <a:rPr b="0" lang="es-MX" sz="1800" spc="-1" strike="noStrike">
                <a:solidFill>
                  <a:srgbClr val="ff3300"/>
                </a:solidFill>
                <a:latin typeface="Times New Roman"/>
              </a:rPr>
              <a:t>desalojar con seguridad de la intersección  al movimiento que pierde derecho de v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371600" y="2971800"/>
                <a:ext cx="18288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3745800" y="2971800"/>
            <a:ext cx="518436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distancia desde línea de detención hasta punto de confli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ás alejado (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longitud promedio de vehículos ( 6 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07600" y="4191120"/>
            <a:ext cx="21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 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R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3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3300"/>
                </a:solidFill>
                <a:latin typeface="Times New Roman"/>
              </a:rPr>
              <a:t>Tiempo Desaprovechado o perdido total del movimiento i (l</a:t>
            </a:r>
            <a:r>
              <a:rPr b="0" lang="es-MX" sz="18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s-MX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período en que el movimiento no cir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429000" y="2819520"/>
                <a:ext cx="22096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762120" y="3429000"/>
                <a:ext cx="380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1274400" y="3443400"/>
            <a:ext cx="236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érdida inicial (1,7 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394160" y="342900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884480" y="3429000"/>
            <a:ext cx="3498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anancia del amarillo (0,6 A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Verdes Mínim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período de verde de un movimiento se acota inferiormente por razones de seguridad para el cruce de vehículos y peat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0800" y="26668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cc99"/>
                </a:solidFill>
                <a:latin typeface="Times New Roman"/>
              </a:rPr>
              <a:t>para vehículos: V</a:t>
            </a:r>
            <a:r>
              <a:rPr b="0" lang="es-ES_tradnl" sz="2800" spc="-1" strike="noStrike" baseline="-25000">
                <a:solidFill>
                  <a:srgbClr val="00cc99"/>
                </a:solidFill>
                <a:latin typeface="Times New Roman"/>
              </a:rPr>
              <a:t>min</a:t>
            </a:r>
            <a:r>
              <a:rPr b="0" lang="es-ES_tradnl" sz="2800" spc="-1" strike="noStrike">
                <a:solidFill>
                  <a:srgbClr val="00cc99"/>
                </a:solidFill>
                <a:latin typeface="Times New Roman"/>
              </a:rPr>
              <a:t>= 8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cc99"/>
                </a:solidFill>
                <a:latin typeface="Times New Roman"/>
              </a:rPr>
              <a:t>para peatones: V</a:t>
            </a:r>
            <a:r>
              <a:rPr b="0" lang="es-ES_tradnl" sz="2800" spc="-1" strike="noStrike" baseline="-25000">
                <a:solidFill>
                  <a:srgbClr val="00cc99"/>
                </a:solidFill>
                <a:latin typeface="Times New Roman"/>
              </a:rPr>
              <a:t>min</a:t>
            </a:r>
            <a:r>
              <a:rPr b="0" lang="es-ES_tradnl" sz="2800" spc="-1" strike="noStrike">
                <a:solidFill>
                  <a:srgbClr val="00cc99"/>
                </a:solidFill>
                <a:latin typeface="Times New Roman"/>
              </a:rPr>
              <a:t> = 5 + w/v</a:t>
            </a:r>
            <a:r>
              <a:rPr b="0" lang="es-ES_tradnl" sz="2800" spc="-1" strike="noStrike" baseline="-25000">
                <a:solidFill>
                  <a:srgbClr val="00cc99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324480" y="2514600"/>
            <a:ext cx="2438640" cy="762120"/>
          </a:xfrm>
          <a:prstGeom prst="borderCallout1">
            <a:avLst>
              <a:gd name="adj1" fmla="val 18750"/>
              <a:gd name="adj2" fmla="val -8333"/>
              <a:gd name="adj3" fmla="val 107500"/>
              <a:gd name="adj4" fmla="val -40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W: Ancho cru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p: Velocidad peat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3886200"/>
            <a:ext cx="1558800" cy="880920"/>
          </a:xfrm>
          <a:prstGeom prst="borderCallout1">
            <a:avLst>
              <a:gd name="adj1" fmla="val 18750"/>
              <a:gd name="adj2" fmla="val -8333"/>
              <a:gd name="adj3" fmla="val -34055"/>
              <a:gd name="adj4" fmla="val -394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argen de segur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Variables Auxili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marL="65160" indent="-65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Otras variables por movimiento, utiles en la determinación del tiempo de ciclo,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-54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Razón de verde efec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-54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Factor de c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-54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-54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Grado de s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962520" y="2286000"/>
                <a:ext cx="11430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986280" y="2860560"/>
                <a:ext cx="10954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903840" y="3578400"/>
                <a:ext cx="12618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962520" y="4086360"/>
                <a:ext cx="30715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c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762120" y="5181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onde q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es el flujo del movimiento i, S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el es flujo de saturación correspondiente, v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es el verde efectivo del movimiento y c es el tiempo de ciclo del semáforo (ambos a determin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Variables Auxili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grado de saturación define el límite entre dos condiciones de operación del movimien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No Saturado (Xi &lt; 1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aturado (Xi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1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ara cubrir fluctuaciones aleatorias en la demanda (flujo) se suele imponer o recomendar un </a:t>
            </a:r>
            <a:r>
              <a:rPr b="0" lang="es-MX" sz="2000" spc="-1" strike="noStrike">
                <a:solidFill>
                  <a:srgbClr val="ff3300"/>
                </a:solidFill>
                <a:latin typeface="Times New Roman"/>
              </a:rPr>
              <a:t>Grado de Saturación Práctico (Xp)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tal que Xpi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0,90 (0,85) para cada movimiento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n movimiento 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imes New Roman"/>
              </a:rPr>
              <a:t>puede estar autorizado en más de una fase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y en una fase 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imes New Roman"/>
              </a:rPr>
              <a:t>pueden estar autorizados más de un movimient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. Enton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3300"/>
                </a:solidFill>
                <a:latin typeface="Times New Roman"/>
              </a:rPr>
              <a:t>Movimiento traslapado: </a:t>
            </a:r>
            <a:r>
              <a:rPr b="0" lang="es-MX" sz="1800" spc="-1" strike="noStrike">
                <a:solidFill>
                  <a:srgbClr val="00cc99"/>
                </a:solidFill>
                <a:latin typeface="Times New Roman"/>
              </a:rPr>
              <a:t>es el que dispnde de verde en más de una fase consecutiva. Luego, la entreverde correspondiente no tiene pérdidas asocia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3300"/>
                </a:solidFill>
                <a:latin typeface="Times New Roman"/>
              </a:rPr>
              <a:t>Movimiento Crítico:</a:t>
            </a:r>
            <a:r>
              <a:rPr b="0" lang="es-MX" sz="1800" spc="-1" strike="noStrike">
                <a:solidFill>
                  <a:srgbClr val="00cc99"/>
                </a:solidFill>
                <a:latin typeface="Times New Roman"/>
              </a:rPr>
              <a:t> es aquél, de todos los movimientos autorizados en la fase, que requiere de más tiempo de verde para pas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Variables Auxili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tiempo asignado a un movimiento es: Ii + Vi, donde Vi es el verde presentado del semáforo para el movimiento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n embargo, el tiempo necesario para que ese movimiento pueda cruzar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057400" y="2392200"/>
                <a:ext cx="16128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990720" y="304812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046240" y="2833560"/>
                <a:ext cx="290664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y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5181480" y="3048120"/>
            <a:ext cx="1524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. Entonc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590920" y="3724200"/>
                <a:ext cx="35924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685800" y="457200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i no hay movimientos traslapados, el movimiento crítico de una fase es aquel para el cual </a:t>
            </a:r>
            <a:r>
              <a:rPr b="0" lang="es-MX" sz="1800" spc="-1" strike="noStrike">
                <a:solidFill>
                  <a:srgbClr val="ff3300"/>
                </a:solidFill>
                <a:latin typeface="Times New Roman"/>
              </a:rPr>
              <a:t>ti es máximo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Al existir traslapos, la definición no es tan clara y se debe encontrar una “</a:t>
            </a:r>
            <a:r>
              <a:rPr b="0" lang="es-MX" sz="1800" spc="-1" strike="noStrike">
                <a:solidFill>
                  <a:srgbClr val="ff3300"/>
                </a:solidFill>
                <a:latin typeface="Times New Roman"/>
              </a:rPr>
              <a:t>trayectoria crítica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”, compuesta por la suma de los ti may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os movimientos que compongan la trayectoria crítica serán los crít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Indicadores Glob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09480" y="1828440"/>
            <a:ext cx="2438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-164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Factor de C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-164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Razón de Ver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-164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érdida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-164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iempo de Cic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-164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Grado de S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774880" y="1752480"/>
                <a:ext cx="133992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719440" y="2600280"/>
                <a:ext cx="13953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722680" y="3505320"/>
                <a:ext cx="12286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793960" y="4419720"/>
                <a:ext cx="42163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ASES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986200" y="5442120"/>
                <a:ext cx="466236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áx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movimiento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3T16:34:33Z</dcterms:created>
  <dc:creator>Eduardo Valenzuela Freraut</dc:creator>
  <dc:description/>
  <dc:language>en-US</dc:language>
  <cp:lastModifiedBy>Eduardo Valenzuela Freraut</cp:lastModifiedBy>
  <dcterms:modified xsi:type="dcterms:W3CDTF">2002-04-16T02:17:18Z</dcterms:modified>
  <cp:revision>91</cp:revision>
  <dc:subject/>
  <dc:title>Programación de Semáfor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91651689</vt:r8>
  </property>
  <property fmtid="{D5CDD505-2E9C-101B-9397-08002B2CF9AE}" pid="3" name="_AuthorEmail">
    <vt:lpwstr>evalenza@ing.uchile.cl</vt:lpwstr>
  </property>
  <property fmtid="{D5CDD505-2E9C-101B-9397-08002B2CF9AE}" pid="4" name="_AuthorEmailDisplayName">
    <vt:lpwstr>Eduardo Valenzuela Freraut</vt:lpwstr>
  </property>
  <property fmtid="{D5CDD505-2E9C-101B-9397-08002B2CF9AE}" pid="5" name="_EmailSubject">
    <vt:lpwstr>subir clases a la web</vt:lpwstr>
  </property>
</Properties>
</file>