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0A2-95F4-4AE7-9CC3-D8ECE635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F56-6722-4CEF-AC43-717F50F1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783-438C-4D98-A4BB-D78D8D46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322-2DE0-4AED-B495-C796E3A9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DDC-966B-43B6-B61B-D6750CBF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B3-DC3E-433A-967B-3D6C562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BFE-A289-4391-B861-1EE04119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804-A761-4402-8107-C2A7149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D68-F730-41C5-86D0-C94F547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008-C6DC-47ED-B0E3-833AC6E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E41-2BDB-466E-A91D-C9CE6C4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BF2-17BB-49F4-BCE0-8D8A051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AF9-B6D5-4759-AC0A-47759887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ENTREVERDE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íodo que va desde que termina la verde para el movimiento que pierde derecho a vía, hasta el inicio de la verde para el movimiento siguiente en la secuencia de fases. Está compuesto por un tiempo de amarillo y un período todo rojo (que puede existir o 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809880"/>
                <a:ext cx="32004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jetivo: minimizar X, maximiza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puede demostrar (Webster,1958) que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se minimiz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uando a los movimientos críticos se les da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verde efectivo en proporción a sus factores de carg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Esto lleva a igualar los grados de saturación de los movimientos crític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24200" y="2728800"/>
                <a:ext cx="5081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trayectoria críti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09480" y="33526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dición de no saturación: (q &lt; Q) =&gt; Y/U &lt; 1 (demostrar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tonces, sabiendo que </a:t>
            </a:r>
            <a:r>
              <a:rPr b="0" lang="es-MX" sz="1800" spc="-1" strike="noStrike">
                <a:solidFill>
                  <a:srgbClr val="3333cc"/>
                </a:solidFill>
                <a:latin typeface="Times New Roman"/>
              </a:rPr>
              <a:t>U = (C-L)/C, por lo ta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19520" y="4164120"/>
                <a:ext cx="2819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09480" y="51055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ún esto, si no hay movimientos traslapados, es necesario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inimizar el número de fase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para que L no sea muy grande. En cambio, si existen movimientos traslapados, es importante el manejo de los movimientos críticos tratando de maximizar su capacidad (Máx 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Máximo, Métod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considera que existe un máximo tiempo de ciclo aceptable por los usuarios del modo: 120 seg.  (180 se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hecho el diseño de fases y, aún para Cmáx,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 existen tres posibil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L, el cual está acotado por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el flujo (reasignación, prohibición de mov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Aumentar S de movimientos críticos (rediseños geométricos u operativ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vez asegurado que la intersección no está saturada, para el tiempo de ciclo escogido (óptimo, máximo, etc.), el paso siguiente es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eterminar los repartos o asignación de tiempos de verde por movimient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 anterior implica definir algún criterio de optimización aplicado a la interse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ecuencial (Akcelik): el más tradicional (aplicado a aaSID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imultáneo por programación lineal (Allsop): aplicado a programas SIGCAP y SIG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define un tiempo de ciclo práctico (Cp) que asegure que Xi &lt; Xp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6600" y="2016000"/>
                <a:ext cx="4186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rítico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095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0960" y="5867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3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200400"/>
            <a:ext cx="4114800" cy="1879560"/>
          </a:xfrm>
          <a:custGeom>
            <a:avLst/>
            <a:gdLst/>
            <a:ahLst/>
            <a:rect l="l" t="t" r="r" b="b"/>
            <a:pathLst>
              <a:path w="2592" h="1184">
                <a:moveTo>
                  <a:pt x="0" y="576"/>
                </a:moveTo>
                <a:cubicBezTo>
                  <a:pt x="64" y="632"/>
                  <a:pt x="128" y="688"/>
                  <a:pt x="336" y="768"/>
                </a:cubicBezTo>
                <a:cubicBezTo>
                  <a:pt x="544" y="848"/>
                  <a:pt x="872" y="1184"/>
                  <a:pt x="1248" y="1056"/>
                </a:cubicBezTo>
                <a:cubicBezTo>
                  <a:pt x="1624" y="928"/>
                  <a:pt x="2108" y="464"/>
                  <a:pt x="2592" y="0"/>
                </a:cubicBezTo>
              </a:path>
            </a:pathLst>
          </a:custGeom>
          <a:noFill/>
          <a:ln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61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9320" y="61722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1,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6172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0,7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238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880" y="4156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1,2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27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3800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920" y="6095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048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lación Tiempo de Ciclo &amp; Dem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49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1920" y="4295880"/>
            <a:ext cx="27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Elección del 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sin efecto sustanci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moras de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do el tiempo de ciclo, si no se considera EQUISATURAC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24160" y="1905120"/>
                <a:ext cx="1952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575520" y="20955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05000" y="2771640"/>
                <a:ext cx="22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575520" y="298620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080" y="3809880"/>
            <a:ext cx="77155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segunda expresión es aplicable en ambos casos ya que si existe equisatura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cte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 y x = Máx {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uando hay movimientos controlados por verde mínimo, se a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 aparecen en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0120" y="4724280"/>
                <a:ext cx="1023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9480" y="54864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inalmente, los repartos en el semáforo real será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48520" y="53341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ay movimientos traslapados que son críticos, los no traslapados pueden ser tratados como fases de un ciclo reducido de duración igual al traslapo (diagrama de red nodos=fases, arcos=movimien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82096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4680" y="3714840"/>
            <a:ext cx="3508200" cy="641160"/>
          </a:xfrm>
          <a:custGeom>
            <a:avLst/>
            <a:gdLst/>
            <a:ahLst/>
            <a:rect l="l" t="t" r="r" b="b"/>
            <a:pathLst>
              <a:path w="2210" h="404">
                <a:moveTo>
                  <a:pt x="36" y="0"/>
                </a:moveTo>
                <a:cubicBezTo>
                  <a:pt x="48" y="9"/>
                  <a:pt x="0" y="2"/>
                  <a:pt x="98" y="60"/>
                </a:cubicBezTo>
                <a:cubicBezTo>
                  <a:pt x="196" y="118"/>
                  <a:pt x="386" y="300"/>
                  <a:pt x="626" y="348"/>
                </a:cubicBezTo>
                <a:cubicBezTo>
                  <a:pt x="866" y="396"/>
                  <a:pt x="1274" y="404"/>
                  <a:pt x="1538" y="348"/>
                </a:cubicBezTo>
                <a:cubicBezTo>
                  <a:pt x="1802" y="292"/>
                  <a:pt x="2006" y="152"/>
                  <a:pt x="2210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4920" y="2498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572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3820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2880" y="432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10080" y="373392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33520" y="47242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por el contrario, los no traslapados son los críticos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76600" y="5207040"/>
                <a:ext cx="3190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AMARILLO (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obligatorio en el entreverde y significa que un vehículo que lo enfrenta debe detenerse, si alcanza a hacerlo. Así, el amarillo de un movimiento i, se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2971800"/>
                <a:ext cx="2209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114800" y="2755800"/>
            <a:ext cx="3267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tpo. de reacción (1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: veloc. Aproximación al cruce (m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: tasa frenado (2,5 m/s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2280" y="4267080"/>
            <a:ext cx="220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5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TODO ROJO (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existencia de un período todo rojo dependerá de la necesidad de un período adicional para que se cumpla la función del entreverde: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desalojar con seguridad de la intersección  al movimiento que pierde derecho de 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2971800"/>
                <a:ext cx="18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45800" y="2971800"/>
            <a:ext cx="5184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distancia desde línea de detención hasta punto de confl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s alejado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ngitud promedio de vehículos ( 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7600" y="4191120"/>
            <a:ext cx="21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iempo Desaprovechado o perdido total del movimiento i (l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en que el movimiento no cir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29000" y="2819520"/>
                <a:ext cx="2209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342900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274400" y="344340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érdida inicial (1,7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94160" y="34290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884480" y="3429000"/>
            <a:ext cx="349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anancia del amarillo (0,6 A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erde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de verde de un movimiento se acota inferiormente por razones de seguridad para el cruce de vehículos y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00" y="2666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vehículo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= 8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peatone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= 5 + w/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514600"/>
            <a:ext cx="2438640" cy="762120"/>
          </a:xfrm>
          <a:prstGeom prst="borderCallout1">
            <a:avLst>
              <a:gd name="adj1" fmla="val 18750"/>
              <a:gd name="adj2" fmla="val -8333"/>
              <a:gd name="adj3" fmla="val 107500"/>
              <a:gd name="adj4" fmla="val -4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W: Ancho c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p: Velocidad pea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886200"/>
            <a:ext cx="1558800" cy="880920"/>
          </a:xfrm>
          <a:prstGeom prst="borderCallout1">
            <a:avLst>
              <a:gd name="adj1" fmla="val 18750"/>
              <a:gd name="adj2" fmla="val -8333"/>
              <a:gd name="adj3" fmla="val -34055"/>
              <a:gd name="adj4" fmla="val -3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rgen de 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tras variables por movimiento, utiles en la determinación del tiempo de ciclo,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962520" y="228600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86280" y="2860560"/>
                <a:ext cx="1095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03840" y="3578400"/>
                <a:ext cx="1261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962520" y="4086360"/>
                <a:ext cx="3071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c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 q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s el flujo del movimiento i, S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l es flujo de saturación correspondiente, 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el verde efectivo del movimiento y c es el tiempo de ciclo del semáforo (ambos a determ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grado de saturación define el límite entre dos condiciones de operación del movimi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 Saturado (Xi &lt;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aturado (X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cubrir fluctuaciones aleatorias en la demanda (flujo) se suele imponer o recomendar un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Grado de Saturación Práctico (Xp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al que Xpi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0,90 (0,85) para cada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movimiento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 estar autorizado en más de una fas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en una fase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n estar autorizados más de un movimient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traslapado: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es el que dispnde de verde en más de una fase consecutiva. Luego, la entreverde correspondiente no tiene pérdidas asoc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Crítico: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 es aquél, de todos los movimientos autorizados en la fase, que requiere de más tiempo de verde para pa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tiempo asignado a un movimiento es: Ii + Vi, donde Vi es el verde presentado del semáforo para el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n embargo, el tiempo necesario para que ese movimiento pueda cruzar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2392200"/>
                <a:ext cx="1612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90720" y="30481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46240" y="2833560"/>
                <a:ext cx="2906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y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81480" y="3048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724200"/>
                <a:ext cx="359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4572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no hay movimientos traslapados, el movimiento crítico de una fase es aquel para el cual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i es máximo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 existir traslapos, la definición no es tan clara y se debe encontrar una “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rayectoria crític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”, compuesta por la suma de los ti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movimientos que compongan la trayectoria crítica serán l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Indicadores Glob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érdid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4880" y="1752480"/>
                <a:ext cx="1339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19440" y="2600280"/>
                <a:ext cx="1395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22680" y="3505320"/>
                <a:ext cx="1228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93960" y="4419720"/>
                <a:ext cx="4216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SE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6200" y="5442120"/>
                <a:ext cx="4662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á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movimie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2:17:18Z</dcterms:modified>
  <cp:revision>91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1651689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