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399-CC4E-4941-94A1-15551ED4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81E-B80A-4437-8740-E1D1F49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6BF-E3FB-4123-BBB8-B2BB9E6E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2B9-80BF-4960-8752-122EBEE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C83-F5EB-45F5-B470-B8A8C8B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955-4CC2-4CF3-965A-2983FB9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8B9-FDD9-4585-8049-81FD08B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16D-0AE3-4558-8FCA-C4BE78C0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03A-F455-4D77-897D-D695133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BA9-734B-4D1C-B90E-82563947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477-E0AA-4792-84B0-585FFEF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D3C-B235-4B65-8F79-5A81517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19B-8373-4184-B030-4F6E8C769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Aspecto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erramienta de la GT que intenta eliminar conflictos direccionales, separándolos temporalmente =&gt; medida de “bajo costo” que da derecho de paso alternadamente y en proporción al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disposi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gún du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máforos de tiempo 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máforos activados por el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gún ubicación espa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máforos ais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máforos en redes o intercont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Pasos en la programación de semáfo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seño de F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junto de movimentos no conflictivos que tienen derecho de paso simultáne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seño de Entrever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terminación de tiempos de amarillo, todo rojo y verdes mínimos para cada f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l tiempo de cic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uración mínima, máxima y óptima de la secuencia completa de f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 Repar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finición de los tiempos de verde a cada f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 desf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ferencia entre los inicios de tiempos de verde para fases homóloga de semáforos adyacente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Herramientas Computacionales Dispon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máforos Aisl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GCAP: Máx (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GSET: Mín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aSIDRA: Optimiza F.O. (combinación lineal de recur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SCADY, PICADY, ARC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máforos en 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nsyt 7F parche 9 (vertiente 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nsyt 11  (vertiente ingl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nsyt 8S Versión 2000 (vertiente chile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85800"/>
            <a:ext cx="7848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Justificación de Semáforos Ais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unción del semáfo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ducir y prevenir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ducir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emor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 vehículos y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ducir consumos de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mbustibl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emisión de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ntam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eneficios y Costos esperados debido a instal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mbio en # y tipo de accidentes (conflicto direccional en conflicto concurren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mbio en demoras de usuarios de inters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ducción costo de control pol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mbio costos operación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stos de inversión, mantención y reparación de controld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eneficios deben superar los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istencia de requisitos estándar,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aunque lo mejor es modelar cada situación en particula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Justificación de Semáforos Ais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quisitos Está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olúmenes vehiculares mínimos: deben ser iguales o superiores a los establecidos en cada una de las 8 horas de máxima demanda, durante un día típ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ía principal: 500 a 600 veh/h (1 ó 2 pistas, ambos sent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ía secundaria: 150 a 200 veh/h (1 ó 2 pistas, un solo sent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terrupción de flujo:para evitar demoras excesivas en rama secundaria debe interrumpirse flujo de rama principal si se cu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ía principal: 750 – 900 veh/h (1 ó 2 pistas, ambos sent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ía secundaria: 75 – 100 veh/h (1 ó 2 pistas, un solo sent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1768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Justificación de Semáforos Ais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quisitos Está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olúmenes peatonales mínimos: para permitir el cruce de peatones sobre una corriente de vehícu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olúmen peatonal: 150 peat/h por paso de mayor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Volúmen vehicular: 600 veh/h sin refugio central ó 1000 veh/h con refugio centra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ccidentes: para disminuir el número de accidentes, si se cu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Nº y tipo de accidentes: +5 acc/año de cierta consid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Período de ocurrencia: 3 últimos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51768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Justificación de Semáforos Ais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quisitos Estándar: </a:t>
            </a:r>
            <a:r>
              <a:rPr b="1" lang="es-CL" sz="1600" spc="-1" strike="noStrike">
                <a:solidFill>
                  <a:srgbClr val="ff3300"/>
                </a:solidFill>
                <a:latin typeface="Arial"/>
              </a:rPr>
              <a:t>Obje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qué hacer cuando los criterios mínimos se superan con creces, sólo en algunas hor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qué sucede cuando hay más de dos pistas por algún acce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qué decisión tomar cuando el flujo de un acceso sobrepasa holgadamente, pero el otr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l semáforo se justifica por accidentes y estos son producidos por mala visibilidad, ¿es posible diseñar medidas de mitigación (mejorar visibilidad) sin instalar semáfo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3T22:05:23Z</dcterms:modified>
  <cp:revision>14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888152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