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0C8CE-2467-4A87-929D-DA4BBAD43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78257-B0E0-414A-B72C-B82E27BF0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7025D-4C2F-48C5-AC1D-08CEC20C4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9DD0E-73C4-4D13-9C83-742238A9E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6B007-39E4-43EB-9087-751CC3639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A9860-3943-451D-91DA-8184BBB3C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A2B80-018F-42AD-A758-290BF446C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30107-7934-4258-AEBF-0A3FDB7E3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735DB-CA59-4780-BD58-1982E4059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3C27A-7112-4136-AE9A-5E5B18BDE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E7A39-BB0D-40E6-9304-2937956E3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54194-1233-4AB5-BDEF-04BAD0D64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B78E7-9E31-49FA-B15A-92F2AC0857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8381880" y="111240"/>
            <a:ext cx="546120" cy="1108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457200" y="473040"/>
            <a:ext cx="78487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3333cc"/>
                </a:solidFill>
                <a:latin typeface="Arial"/>
              </a:rPr>
              <a:t>Ingeniería de Tránsito – CI53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Arial"/>
              </a:rPr>
              <a:t>Rotondas (Glorietas-Redondel) y Minirotond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333cc"/>
                </a:solidFill>
                <a:latin typeface="Arial"/>
              </a:rPr>
              <a:t>Defini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07960" y="1447920"/>
            <a:ext cx="741672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07960" y="1371600"/>
            <a:ext cx="741672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07960" y="1562040"/>
            <a:ext cx="74167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tersección prioritaria que consiste en el empalme de las ramas de acceso sobre un anillo circular por el cual los vehículos giran hasta llegar a su rama de sal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Forma de control que ofrece ventajas si se dan las condicion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Intersección con más de </a:t>
            </a:r>
            <a:r>
              <a:rPr b="0" lang="es-ES_tradnl" sz="2000" spc="-1" strike="noStrike">
                <a:solidFill>
                  <a:srgbClr val="fc210a"/>
                </a:solidFill>
                <a:latin typeface="Times New Roman"/>
              </a:rPr>
              <a:t>tres acces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lujos </a:t>
            </a:r>
            <a:r>
              <a:rPr b="0" lang="es-ES_tradnl" sz="2000" spc="-1" strike="noStrike">
                <a:solidFill>
                  <a:srgbClr val="fc210a"/>
                </a:solidFill>
                <a:latin typeface="Times New Roman"/>
              </a:rPr>
              <a:t>equilibrados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or los acces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Virajes importantes, a la </a:t>
            </a:r>
            <a:r>
              <a:rPr b="0" lang="es-ES_tradnl" sz="2000" spc="-1" strike="noStrike">
                <a:solidFill>
                  <a:srgbClr val="fc210a"/>
                </a:solidFill>
                <a:latin typeface="Times New Roman"/>
              </a:rPr>
              <a:t>izquierda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principalmente, que pueden llegar a superar a los direc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c210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c210a"/>
                </a:solidFill>
                <a:latin typeface="Times New Roman"/>
              </a:rPr>
              <a:t>Espacio suficiente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y horizontal para un buen diseñ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oco movimiento de </a:t>
            </a:r>
            <a:r>
              <a:rPr b="0" lang="es-ES_tradnl" sz="2000" spc="-1" strike="noStrike">
                <a:solidFill>
                  <a:srgbClr val="fc210a"/>
                </a:solidFill>
                <a:latin typeface="Times New Roman"/>
              </a:rPr>
              <a:t>peat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istancia entre ramas consecutivas que permita el trenzado de movimientos (rotondas tradicional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473040"/>
            <a:ext cx="78487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3333cc"/>
                </a:solidFill>
                <a:latin typeface="Arial"/>
              </a:rPr>
              <a:t>Ingeniería de Tránsito – CI53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Arial"/>
              </a:rPr>
              <a:t>Rotondas (Glorietas,Redondel) y Minirotond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333cc"/>
                </a:solidFill>
                <a:latin typeface="Arial"/>
              </a:rPr>
              <a:t>Defini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07960" y="1447920"/>
            <a:ext cx="741672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07960" y="1371600"/>
            <a:ext cx="741672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7960" y="1562040"/>
            <a:ext cx="74167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convenientes que la hacen poco atractiva frente a otras formas de regul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oca capacidad en relación a superficie ocupada (rotondas tradicional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Recorridos largos (rotondas tradicional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renzados moles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Velocidades generalmente baj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Incomodidad e inseguridad a peat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No obstante, al comparar rotonda con cruce semaforizado, con volumenes similares por cada acceso, con </a:t>
            </a:r>
            <a:r>
              <a:rPr b="0" lang="es-MX" sz="2400" spc="-1" strike="noStrike">
                <a:solidFill>
                  <a:srgbClr val="fc210a"/>
                </a:solidFill>
                <a:latin typeface="Times New Roman"/>
              </a:rPr>
              <a:t>35% o más de flujo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virando a izquierda, las rotondas ofrecen </a:t>
            </a:r>
            <a:r>
              <a:rPr b="0" lang="es-MX" sz="2400" spc="-1" strike="noStrike">
                <a:solidFill>
                  <a:srgbClr val="fc210a"/>
                </a:solidFill>
                <a:latin typeface="Times New Roman"/>
              </a:rPr>
              <a:t>mayor capacidad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para una misma superficie ocupada en las </a:t>
            </a:r>
            <a:r>
              <a:rPr b="0" lang="es-MX" sz="2400" spc="-1" strike="noStrike">
                <a:solidFill>
                  <a:srgbClr val="fc210a"/>
                </a:solidFill>
                <a:latin typeface="Times New Roman"/>
              </a:rPr>
              <a:t>horas punta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y mucho más efectivas en las </a:t>
            </a:r>
            <a:r>
              <a:rPr b="0" lang="es-MX" sz="2400" spc="-1" strike="noStrike">
                <a:solidFill>
                  <a:srgbClr val="fc210a"/>
                </a:solidFill>
                <a:latin typeface="Times New Roman"/>
              </a:rPr>
              <a:t>horas fuera de punta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473040"/>
            <a:ext cx="78487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3333cc"/>
                </a:solidFill>
                <a:latin typeface="Arial"/>
              </a:rPr>
              <a:t>Ingeniería de Tránsito – CI53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Arial"/>
              </a:rPr>
              <a:t>Rotondas (Glorietas, Redondel) y Minirotond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333cc"/>
                </a:solidFill>
                <a:latin typeface="Arial"/>
              </a:rPr>
              <a:t>Algo de historia.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07960" y="1447920"/>
            <a:ext cx="741672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07960" y="1371600"/>
            <a:ext cx="741672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07960" y="1562040"/>
            <a:ext cx="74167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imeras rotonda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Gran Bretaña, 19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Regulación dando prioridad al flujo entrante (on-side-priority), requiriendo suficiente reserva de capacidad en anillo interio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Anillo de gran diámetro (rotondas de Avda. Américo Vespuci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Capacidad copada rápidamente, con inconveniente de generar largos recorri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esde 1966, cambia regla de prioridad a flujos circulantes (off-Side-priorit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Aumento de capacidad en al menos 1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Reducción de demoras en un 4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iseños más pequeños y compactos (islas centrales de 5 m o menos=&gt;</a:t>
            </a:r>
            <a:r>
              <a:rPr b="0" lang="es-ES_tradnl" sz="1800" spc="-1" strike="noStrike">
                <a:solidFill>
                  <a:srgbClr val="00cc99"/>
                </a:solidFill>
                <a:latin typeface="Times New Roman"/>
              </a:rPr>
              <a:t>MINIROTONDAS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Entradas ensanchadas con 1 pista más de circulación que la calzada de aproxim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Mejora importante del diseño: </a:t>
            </a:r>
            <a:r>
              <a:rPr b="0" lang="es-ES_tradnl" sz="1800" spc="-1" strike="noStrike">
                <a:solidFill>
                  <a:srgbClr val="fc210a"/>
                </a:solidFill>
                <a:latin typeface="Times New Roman"/>
              </a:rPr>
              <a:t>FILTROS DE VIRAJE (pistas especiales para vehículos que entran y salen de inmediato en siguiente acces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" y="473040"/>
            <a:ext cx="78487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3333cc"/>
                </a:solidFill>
                <a:latin typeface="Arial"/>
              </a:rPr>
              <a:t>Ingeniería de Tránsito – CI53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Arial"/>
              </a:rPr>
              <a:t>Rotondas (Glorietas, Redondel) y Minirotond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333cc"/>
                </a:solidFill>
                <a:latin typeface="Arial"/>
              </a:rPr>
              <a:t>CAPACIDAD=Q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07960" y="1447920"/>
            <a:ext cx="741672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7960" y="1371600"/>
            <a:ext cx="741672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07960" y="1562040"/>
            <a:ext cx="74167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rotonda" descr=""/>
          <p:cNvPicPr/>
          <p:nvPr/>
        </p:nvPicPr>
        <p:blipFill>
          <a:blip r:embed="rId1"/>
          <a:stretch/>
        </p:blipFill>
        <p:spPr>
          <a:xfrm>
            <a:off x="533520" y="1600200"/>
            <a:ext cx="1963440" cy="207324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2514600" y="1523520"/>
            <a:ext cx="64771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 flujo circulante por roton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q = flujo que accede a roton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3581280" y="2438280"/>
                <a:ext cx="383544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Qe</m:t>
                    </m:r>
                    <m:r>
                      <m:t xml:space="preserve">=</m:t>
                    </m:r>
                    <m:r>
                      <m:t xml:space="preserve">k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by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Qe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4" name=""/>
          <p:cNvSpPr/>
          <p:nvPr/>
        </p:nvSpPr>
        <p:spPr>
          <a:xfrm>
            <a:off x="2514600" y="3124080"/>
            <a:ext cx="64771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a,b = constantes de calib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k = factor de corrección dependiente del ángulo y radio de entr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x = factor dependiente de las dimensiones de la entr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y = factor dependiente del radio del circulo inscrito en la roton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371600" y="5181480"/>
            <a:ext cx="6477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i q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es el flujo </a:t>
            </a:r>
            <a:r>
              <a:rPr b="0" lang="es-ES_tradnl" sz="2000" spc="-1" strike="noStrike">
                <a:solidFill>
                  <a:srgbClr val="fc210a"/>
                </a:solidFill>
                <a:latin typeface="Times New Roman"/>
              </a:rPr>
              <a:t>que puede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entrar a la rotonda, entonc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3429000" y="5638680"/>
                <a:ext cx="236232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ín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q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Qe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457200" y="473040"/>
            <a:ext cx="78487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3333cc"/>
                </a:solidFill>
                <a:latin typeface="Arial"/>
              </a:rPr>
              <a:t>Ingeniería de Tránsito – CI53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Arial"/>
              </a:rPr>
              <a:t>Rotondas (Glorietas, Redondel) y Minirotond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333cc"/>
                </a:solidFill>
                <a:latin typeface="Arial"/>
              </a:rPr>
              <a:t>CAPAC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07960" y="1447920"/>
            <a:ext cx="741672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07960" y="1371600"/>
            <a:ext cx="741672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07960" y="1562040"/>
            <a:ext cx="74167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533160" y="1599840"/>
            <a:ext cx="7391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Si cada acceso funciona bien (Qe &gt; q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, para cada acceso), la rotonda funciona perfectam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Si Qe &lt; q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para algún acceso la rotonda está </a:t>
            </a:r>
            <a:r>
              <a:rPr b="0" lang="es-ES_tradnl" sz="1800" spc="-1" strike="noStrike">
                <a:solidFill>
                  <a:srgbClr val="fc210a"/>
                </a:solidFill>
                <a:latin typeface="Times New Roman"/>
              </a:rPr>
              <a:t>sobresaturada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y el cálculo de la capacidad debe seguir el procedimiento siguiente (que consiste en buscar un conjunto de valores q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y q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mutuamente consistentes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09480" y="3124080"/>
            <a:ext cx="739152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lvl="1" marL="914400" indent="-45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Hacer q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Escoger cualquier acceso y calcular, q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= Mín {q , Qe(0)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Calcular el q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 resultante para la entrada o acceso siguiente en la dirección del fluj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Para ese acceso, calcular </a:t>
            </a: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= Mín {q , Qe(q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)}, verificando que q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 es el mismo anteriormente calcul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Repetir 3 y 4 hasta que se haya pasado el total de accesos sin que cambie ningún q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3T16:34:33Z</dcterms:created>
  <dc:creator>.</dc:creator>
  <dc:description/>
  <dc:language>en-US</dc:language>
  <cp:lastModifiedBy>Eduardo Valenzuela Freraut</cp:lastModifiedBy>
  <dcterms:modified xsi:type="dcterms:W3CDTF">2002-04-13T21:55:02Z</dcterms:modified>
  <cp:revision>43</cp:revision>
  <dc:subject/>
  <dc:title>Presentación de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821117577</vt:r8>
  </property>
  <property fmtid="{D5CDD505-2E9C-101B-9397-08002B2CF9AE}" pid="3" name="_AuthorEmail">
    <vt:lpwstr>evalenza@ing.uchile.cl</vt:lpwstr>
  </property>
  <property fmtid="{D5CDD505-2E9C-101B-9397-08002B2CF9AE}" pid="4" name="_AuthorEmailDisplayName">
    <vt:lpwstr>Eduardo Valenzuela Freraut</vt:lpwstr>
  </property>
  <property fmtid="{D5CDD505-2E9C-101B-9397-08002B2CF9AE}" pid="5" name="_EmailSubject">
    <vt:lpwstr>clases</vt:lpwstr>
  </property>
</Properties>
</file>