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-1968840" y="6308640"/>
            <a:ext cx="424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cc3300"/>
                </a:solidFill>
                <a:latin typeface="Tahoma"/>
              </a:rPr>
              <a:t>PROHIBIDA SU REPRODUCCION TOTAL O PARCIAL SIN CONCENTIMINETO DE AU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33200" y="81000"/>
            <a:ext cx="455760" cy="604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12000" y="150120"/>
            <a:ext cx="395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amento de Ingeniería Civil, División Ingeniería de Transpor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0440" y="8634240"/>
            <a:ext cx="284400" cy="482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58040" y="8629560"/>
            <a:ext cx="280800" cy="500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111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130080" y="8628120"/>
            <a:ext cx="281160" cy="4982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111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5400000">
            <a:off x="5670360" y="8745120"/>
            <a:ext cx="500040" cy="280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111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5400000">
            <a:off x="5768640" y="8784720"/>
            <a:ext cx="289080" cy="171360"/>
          </a:xfrm>
          <a:prstGeom prst="rightArrow">
            <a:avLst>
              <a:gd name="adj1" fmla="val 61611"/>
              <a:gd name="adj2" fmla="val 9062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08680" y="8928000"/>
            <a:ext cx="0" cy="1080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908680" y="8837640"/>
            <a:ext cx="1440" cy="522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535800" y="8723160"/>
            <a:ext cx="158760" cy="295560"/>
          </a:xfrm>
          <a:prstGeom prst="rightArrow">
            <a:avLst>
              <a:gd name="adj1" fmla="val 61611"/>
              <a:gd name="adj2" fmla="val 53718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 flipH="1">
            <a:off x="6179400" y="8723160"/>
            <a:ext cx="158760" cy="295560"/>
          </a:xfrm>
          <a:prstGeom prst="rightArrow">
            <a:avLst>
              <a:gd name="adj1" fmla="val 61611"/>
              <a:gd name="adj2" fmla="val 53718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968120" y="6310080"/>
            <a:ext cx="424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cc3300"/>
                </a:solidFill>
                <a:latin typeface="Tahoma"/>
              </a:rPr>
              <a:t>PROHIBIDA SU REPRODUCCION TOTAL O PARCIAL SIN CONCENTIMINETO DE AU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3720" y="1422360"/>
            <a:ext cx="466272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aga clic para modificar el estilo del patrón de tex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0440" y="627120"/>
            <a:ext cx="1146240" cy="388800"/>
          </a:xfrm>
          <a:prstGeom prst="rect">
            <a:avLst/>
          </a:prstGeom>
          <a:solidFill>
            <a:srgbClr val="ffcc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RESENTAC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0720" y="627120"/>
            <a:ext cx="962280" cy="3888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METODOLIG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25880" y="627120"/>
            <a:ext cx="1017720" cy="388800"/>
          </a:xfrm>
          <a:prstGeom prst="rect">
            <a:avLst/>
          </a:prstGeom>
          <a:solidFill>
            <a:srgbClr val="6600ff"/>
          </a:solidFill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DISEÑ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Diseño Intersecciones: Consideraciones Generales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3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600200"/>
            <a:ext cx="601992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lementos críticos en sistema de transporte (ST), concentran: demoras, accidentes, emision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eño de soluciones es complejo: existen programas que ayudan al proce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ntro del ST, su objetivo es facilitar la transferencia de flujos (vehículos, peatones, biciclos) entre ramas de manera eficiente y segu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almente, la transferencia debe ser entre corrientes de niveles de jerarquía adyacen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os conflictos en una intersección pueden clasificarse en: divergentes, confluyentes, de cr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os diseños deben considerar que estos conflictos sean solucionados de manera eficiente, segura y con un mínimo de consumo de recur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Verdana"/>
              </a:rPr>
              <a:t>Problema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: metas conflictivas entre sí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200" spc="-1" strike="noStrike">
                <a:solidFill>
                  <a:srgbClr val="3333cc"/>
                </a:solidFill>
                <a:latin typeface="Verdana"/>
              </a:rPr>
              <a:t>Diseño requiere conocimiento de varios aspectos (gestión) e implica restricciones que afectan la capacidad y/o seguridad de la intersec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272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ipos de Intersec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668920"/>
            <a:ext cx="60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 función del nivel de flujo circulante, es posible jerarquizarlas segú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126120"/>
            <a:ext cx="50292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rsecciones sin prioridad desig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rsecciones de Prior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rsecciones de Prioridad con canalización de movimien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oton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rsecciones Semaforiz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rsecciones a desni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Tipo de Intersección según nivel de flujo (ilustrativo)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3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Tipo%20Intersección%20Color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5867280" cy="401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67080" y="1447920"/>
            <a:ext cx="1270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000"/>
              <a:gd name="adj5" fmla="val 145050"/>
              <a:gd name="adj6" fmla="val -73375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sni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666880"/>
            <a:ext cx="152388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5000"/>
              <a:gd name="adj5" fmla="val 120074"/>
              <a:gd name="adj6" fmla="val -101666"/>
            </a:avLst>
          </a:prstGeom>
          <a:noFill/>
          <a:ln w="316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Arial"/>
              </a:rPr>
              <a:t>Roton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Arial"/>
              </a:rPr>
              <a:t>Semafo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105520"/>
            <a:ext cx="144756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05263"/>
              <a:gd name="adj5" fmla="val -69583"/>
              <a:gd name="adj6" fmla="val 209976"/>
            </a:avLst>
          </a:prstGeom>
          <a:noFill/>
          <a:ln w="316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99ff"/>
                </a:solidFill>
                <a:latin typeface="Arial"/>
              </a:rPr>
              <a:t>Prio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2960" y="617220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jemplo con flujos med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Principios de Diseño de Intersecciones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219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xternalidades Negati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76520"/>
            <a:ext cx="601956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cident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bre 2/3 accidentes urbanos en interseccione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gunos diseños de intersección generan más accidentes que otr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sto de vidas humanas elevado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Justifica el analizar “Puntos Negro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gestión y Dem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a congestión se expande rápidamente cuando la intersección se satura, siendo la magnitud de la congestión proporcional al exceso de demanda y su duració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xiste DU y DAS. Siendo DU menor en duración, pero mayor en frecuenci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AS normalmente es la más impactante (opinión públic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sumo de Combust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aje típico urbano, consume sobre el 50% más de combustible que uno similar interurbano (sin intersecciones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bido a cambios de velocidad y ciclos de aceleración/frenado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ución del aire y Rui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as emisiones y nivel de ruido aumentan con la congestió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gregación, Intrusión Visual, Intimid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xternalidades poco consideradas en el diseño de intersecciones, pero no por ello irrelevante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Principios de Diseño de Intersecciones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219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00200"/>
            <a:ext cx="601956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Geometría y Contro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ben ser considerados en conjunto para un buen 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vitar ejes con variadas regulaciones (semaforo, rotonda, desnive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m para peatones (pelicano, cebra, tuca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eño adecuado para cambio de regul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971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Geométricos y Operac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6629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eatones y Bicic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429000"/>
            <a:ext cx="601956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alización de Movimien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 conflictivos (cruces, convergentes, divergen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uave y lento cruce, seguro para usuarios vulner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adios de giro adecuados al tipo de vehículo que circ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sibi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ñalización Hz y Vt adecu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486400"/>
            <a:ext cx="60195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almente separados de vehículos motoriz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 conflictivos (cruces, convergentes, divergen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uave y lento cruce, seguro para usuarios vulner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adios de giro adecuados al tipo de vehículo que circ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7086600"/>
            <a:ext cx="6019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almente se debe considerar una auditoría de segur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écnica de conflic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Canalización de Movimientos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erramien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601956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marcación de la vía (pintura, elementos reflactan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egregación física (medianas, islas, solera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egregar corrientes de tráfico según dirección para facilitar su tratamiento diferenciado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Garantizar áreas de espera seguras en la calzada tanto a vehículos como a peatone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umentar la visibilidad de la intersección a movimientos secundarios o desprotegid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ar ángulos y velocidades de aproximación a la intersecció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revenir la realización de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s (o detenciones) prohibidas en la Intersec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3716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6765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IMPONER COMPORTAMIENTO DESEADO INDIRECT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8769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Ejempl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57360" y="5726160"/>
            <a:ext cx="2435040" cy="1893960"/>
            <a:chOff x="657360" y="5726160"/>
            <a:chExt cx="2435040" cy="1893960"/>
          </a:xfrm>
        </p:grpSpPr>
        <p:sp>
          <p:nvSpPr>
            <p:cNvPr id="129" name=""/>
            <p:cNvSpPr/>
            <p:nvPr/>
          </p:nvSpPr>
          <p:spPr>
            <a:xfrm>
              <a:off x="1469160" y="6718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7360" y="6718320"/>
              <a:ext cx="81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57360" y="5726160"/>
              <a:ext cx="2435040" cy="1893960"/>
              <a:chOff x="657360" y="5726160"/>
              <a:chExt cx="2435040" cy="1893960"/>
            </a:xfrm>
          </p:grpSpPr>
          <p:sp>
            <p:nvSpPr>
              <p:cNvPr id="132" name=""/>
              <p:cNvSpPr/>
              <p:nvPr/>
            </p:nvSpPr>
            <p:spPr>
              <a:xfrm>
                <a:off x="1559160" y="5726160"/>
                <a:ext cx="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90600" y="5726160"/>
                <a:ext cx="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9160" y="7079040"/>
                <a:ext cx="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90600" y="7079040"/>
                <a:ext cx="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7360" y="626724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7360" y="707904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90600" y="707904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90600" y="626724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80600" y="62672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0600" y="6627960"/>
                <a:ext cx="81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559160" y="6357240"/>
                <a:ext cx="14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7360" y="6808320"/>
                <a:ext cx="117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69160" y="6357240"/>
                <a:ext cx="541080" cy="450720"/>
              </a:xfrm>
              <a:custGeom>
                <a:avLst/>
                <a:gdLst/>
                <a:ahLst/>
                <a:rect l="l" t="t" r="r" b="b"/>
                <a:pathLst>
                  <a:path w="852" h="710">
                    <a:moveTo>
                      <a:pt x="0" y="710"/>
                    </a:moveTo>
                    <a:cubicBezTo>
                      <a:pt x="284" y="698"/>
                      <a:pt x="568" y="686"/>
                      <a:pt x="710" y="568"/>
                    </a:cubicBezTo>
                    <a:cubicBezTo>
                      <a:pt x="852" y="450"/>
                      <a:pt x="828" y="95"/>
                      <a:pt x="85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2010240" y="5815800"/>
                <a:ext cx="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370600" y="6537600"/>
                <a:ext cx="63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29880" y="6537600"/>
                <a:ext cx="541080" cy="541080"/>
              </a:xfrm>
              <a:custGeom>
                <a:avLst/>
                <a:gdLst/>
                <a:ahLst/>
                <a:rect l="l" t="t" r="r" b="b"/>
                <a:pathLst>
                  <a:path w="852" h="852">
                    <a:moveTo>
                      <a:pt x="852" y="0"/>
                    </a:moveTo>
                    <a:cubicBezTo>
                      <a:pt x="698" y="35"/>
                      <a:pt x="544" y="71"/>
                      <a:pt x="426" y="142"/>
                    </a:cubicBezTo>
                    <a:cubicBezTo>
                      <a:pt x="308" y="213"/>
                      <a:pt x="213" y="308"/>
                      <a:pt x="142" y="426"/>
                    </a:cubicBezTo>
                    <a:cubicBezTo>
                      <a:pt x="71" y="544"/>
                      <a:pt x="24" y="781"/>
                      <a:pt x="0" y="8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19880" y="6808320"/>
                <a:ext cx="27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9880" y="7079040"/>
                <a:ext cx="0" cy="3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7360" y="6988680"/>
                <a:ext cx="81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559160" y="6988680"/>
              <a:ext cx="270360" cy="180000"/>
            </a:xfrm>
            <a:custGeom>
              <a:avLst/>
              <a:gdLst/>
              <a:ahLst/>
              <a:rect l="l" t="t" r="r" b="b"/>
              <a:pathLst>
                <a:path w="426" h="284">
                  <a:moveTo>
                    <a:pt x="0" y="0"/>
                  </a:moveTo>
                  <a:cubicBezTo>
                    <a:pt x="106" y="47"/>
                    <a:pt x="213" y="95"/>
                    <a:pt x="284" y="142"/>
                  </a:cubicBezTo>
                  <a:cubicBezTo>
                    <a:pt x="355" y="189"/>
                    <a:pt x="402" y="260"/>
                    <a:pt x="426" y="2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633120" y="5726160"/>
            <a:ext cx="2615400" cy="2434680"/>
            <a:chOff x="3633120" y="5726160"/>
            <a:chExt cx="2615400" cy="2434680"/>
          </a:xfrm>
        </p:grpSpPr>
        <p:sp>
          <p:nvSpPr>
            <p:cNvPr id="153" name=""/>
            <p:cNvSpPr/>
            <p:nvPr/>
          </p:nvSpPr>
          <p:spPr>
            <a:xfrm>
              <a:off x="4714920" y="572616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46720" y="572616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46720" y="707904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3120" y="626724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3120" y="7079040"/>
              <a:ext cx="3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46720" y="707904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46720" y="626724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6720" y="626724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7080" y="6718320"/>
              <a:ext cx="63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812760" y="671832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14920" y="653760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174560" y="7079040"/>
              <a:ext cx="540360" cy="540360"/>
              <a:chOff x="4174560" y="7079040"/>
              <a:chExt cx="540360" cy="540360"/>
            </a:xfrm>
          </p:grpSpPr>
          <p:sp>
            <p:nvSpPr>
              <p:cNvPr id="165" name=""/>
              <p:cNvSpPr/>
              <p:nvPr/>
            </p:nvSpPr>
            <p:spPr>
              <a:xfrm>
                <a:off x="4714920" y="7079040"/>
                <a:ext cx="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174560" y="7079040"/>
                <a:ext cx="540000" cy="540360"/>
                <a:chOff x="4174560" y="7079040"/>
                <a:chExt cx="540000" cy="540360"/>
              </a:xfrm>
            </p:grpSpPr>
            <p:sp>
              <p:nvSpPr>
                <p:cNvPr id="167" name=""/>
                <p:cNvSpPr/>
                <p:nvPr/>
              </p:nvSpPr>
              <p:spPr>
                <a:xfrm flipH="1">
                  <a:off x="4444200" y="7079040"/>
                  <a:ext cx="27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174560" y="7079040"/>
                  <a:ext cx="540000" cy="54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3633120" y="7079040"/>
              <a:ext cx="1081440" cy="108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3120" y="689868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263840" y="6537600"/>
              <a:ext cx="45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3480" y="6537600"/>
              <a:ext cx="270360" cy="180360"/>
            </a:xfrm>
            <a:custGeom>
              <a:avLst/>
              <a:gdLst/>
              <a:ahLst/>
              <a:rect l="l" t="t" r="r" b="b"/>
              <a:pathLst>
                <a:path w="426" h="284">
                  <a:moveTo>
                    <a:pt x="0" y="284"/>
                  </a:moveTo>
                  <a:cubicBezTo>
                    <a:pt x="35" y="236"/>
                    <a:pt x="71" y="189"/>
                    <a:pt x="142" y="142"/>
                  </a:cubicBezTo>
                  <a:cubicBezTo>
                    <a:pt x="213" y="95"/>
                    <a:pt x="379" y="24"/>
                    <a:pt x="42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83480" y="6718320"/>
              <a:ext cx="63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3480" y="6808320"/>
              <a:ext cx="45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3480" y="6988680"/>
              <a:ext cx="45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73840" y="6627960"/>
              <a:ext cx="27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44560" y="6537600"/>
              <a:ext cx="60120" cy="4824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0" y="76"/>
                  </a:moveTo>
                  <a:cubicBezTo>
                    <a:pt x="25" y="70"/>
                    <a:pt x="56" y="73"/>
                    <a:pt x="76" y="57"/>
                  </a:cubicBezTo>
                  <a:cubicBezTo>
                    <a:pt x="92" y="44"/>
                    <a:pt x="95" y="0"/>
                    <a:pt x="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7680" y="6990480"/>
              <a:ext cx="216360" cy="84240"/>
            </a:xfrm>
            <a:custGeom>
              <a:avLst/>
              <a:gdLst/>
              <a:ahLst/>
              <a:rect l="l" t="t" r="r" b="b"/>
              <a:pathLst>
                <a:path w="341" h="133">
                  <a:moveTo>
                    <a:pt x="0" y="0"/>
                  </a:moveTo>
                  <a:cubicBezTo>
                    <a:pt x="116" y="29"/>
                    <a:pt x="252" y="44"/>
                    <a:pt x="341" y="1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17080" y="6537600"/>
              <a:ext cx="63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346360" y="6537600"/>
              <a:ext cx="27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67600" y="6545520"/>
              <a:ext cx="236160" cy="171360"/>
            </a:xfrm>
            <a:custGeom>
              <a:avLst/>
              <a:gdLst/>
              <a:ahLst/>
              <a:rect l="l" t="t" r="r" b="b"/>
              <a:pathLst>
                <a:path w="372" h="270">
                  <a:moveTo>
                    <a:pt x="372" y="265"/>
                  </a:moveTo>
                  <a:cubicBezTo>
                    <a:pt x="269" y="231"/>
                    <a:pt x="149" y="270"/>
                    <a:pt x="50" y="227"/>
                  </a:cubicBezTo>
                  <a:cubicBezTo>
                    <a:pt x="0" y="205"/>
                    <a:pt x="12" y="32"/>
                    <a:pt x="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526720" y="6537600"/>
              <a:ext cx="18036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707080" y="6357240"/>
              <a:ext cx="27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24000" y="6605280"/>
              <a:ext cx="252720" cy="72000"/>
            </a:xfrm>
            <a:custGeom>
              <a:avLst/>
              <a:gdLst/>
              <a:ahLst/>
              <a:rect l="l" t="t" r="r" b="b"/>
              <a:pathLst>
                <a:path w="398" h="114">
                  <a:moveTo>
                    <a:pt x="398" y="20"/>
                  </a:moveTo>
                  <a:cubicBezTo>
                    <a:pt x="278" y="0"/>
                    <a:pt x="175" y="0"/>
                    <a:pt x="57" y="39"/>
                  </a:cubicBezTo>
                  <a:cubicBezTo>
                    <a:pt x="38" y="64"/>
                    <a:pt x="0" y="114"/>
                    <a:pt x="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2400" y="5334120"/>
            <a:ext cx="126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SEGREGAC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Ejemplos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7200" y="1568520"/>
            <a:ext cx="2435400" cy="1893960"/>
            <a:chOff x="457200" y="1568520"/>
            <a:chExt cx="2435400" cy="1893960"/>
          </a:xfrm>
        </p:grpSpPr>
        <p:sp>
          <p:nvSpPr>
            <p:cNvPr id="189" name=""/>
            <p:cNvSpPr/>
            <p:nvPr/>
          </p:nvSpPr>
          <p:spPr>
            <a:xfrm>
              <a:off x="1359000" y="3191760"/>
              <a:ext cx="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57200" y="1568520"/>
              <a:ext cx="2435400" cy="1893960"/>
              <a:chOff x="457200" y="1568520"/>
              <a:chExt cx="2435400" cy="1893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57200" y="2470320"/>
                <a:ext cx="54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59000" y="1568520"/>
                <a:ext cx="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90440" y="1568520"/>
                <a:ext cx="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90440" y="3191760"/>
                <a:ext cx="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7200" y="183888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200" y="319176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90440" y="319176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90440" y="183888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51520" y="1838880"/>
                <a:ext cx="0" cy="72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51520" y="2560680"/>
                <a:ext cx="54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2080800" y="1658520"/>
                <a:ext cx="180360" cy="1713600"/>
                <a:chOff x="2080800" y="1658520"/>
                <a:chExt cx="180360" cy="17136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171160" y="1658520"/>
                  <a:ext cx="0" cy="171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080800" y="1838520"/>
                  <a:ext cx="0" cy="13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61160" y="1838520"/>
                  <a:ext cx="0" cy="13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351520" y="2019240"/>
                <a:ext cx="541080" cy="360720"/>
                <a:chOff x="2351520" y="2019240"/>
                <a:chExt cx="541080" cy="360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351520" y="2199600"/>
                  <a:ext cx="54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51520" y="2379960"/>
                  <a:ext cx="54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51520" y="2019240"/>
                  <a:ext cx="54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088280" y="1658520"/>
                <a:ext cx="180360" cy="1713600"/>
                <a:chOff x="1088280" y="1658520"/>
                <a:chExt cx="180360" cy="1713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178640" y="1658520"/>
                  <a:ext cx="0" cy="171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088280" y="1838520"/>
                  <a:ext cx="0" cy="13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268640" y="1838520"/>
                  <a:ext cx="0" cy="13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998280" y="2470320"/>
                <a:ext cx="0" cy="72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457200" y="2650680"/>
                <a:ext cx="541080" cy="360720"/>
                <a:chOff x="457200" y="2650680"/>
                <a:chExt cx="541080" cy="360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57200" y="2831040"/>
                  <a:ext cx="54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7200" y="3011400"/>
                  <a:ext cx="54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57200" y="2650680"/>
                  <a:ext cx="54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794960" y="2921400"/>
                <a:ext cx="375840" cy="541080"/>
              </a:xfrm>
              <a:custGeom>
                <a:avLst/>
                <a:gdLst/>
                <a:ahLst/>
                <a:rect l="l" t="t" r="r" b="b"/>
                <a:pathLst>
                  <a:path w="592" h="852">
                    <a:moveTo>
                      <a:pt x="24" y="852"/>
                    </a:moveTo>
                    <a:cubicBezTo>
                      <a:pt x="12" y="698"/>
                      <a:pt x="0" y="544"/>
                      <a:pt x="24" y="426"/>
                    </a:cubicBezTo>
                    <a:cubicBezTo>
                      <a:pt x="48" y="308"/>
                      <a:pt x="71" y="213"/>
                      <a:pt x="166" y="142"/>
                    </a:cubicBezTo>
                    <a:cubicBezTo>
                      <a:pt x="261" y="71"/>
                      <a:pt x="521" y="24"/>
                      <a:pt x="5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71160" y="2921400"/>
                <a:ext cx="3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817920" y="2199600"/>
                <a:ext cx="3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178640" y="2169720"/>
                <a:ext cx="375840" cy="1292400"/>
              </a:xfrm>
              <a:custGeom>
                <a:avLst/>
                <a:gdLst/>
                <a:ahLst/>
                <a:rect l="l" t="t" r="r" b="b"/>
                <a:pathLst>
                  <a:path w="592" h="2035">
                    <a:moveTo>
                      <a:pt x="0" y="47"/>
                    </a:moveTo>
                    <a:cubicBezTo>
                      <a:pt x="165" y="23"/>
                      <a:pt x="331" y="0"/>
                      <a:pt x="426" y="47"/>
                    </a:cubicBezTo>
                    <a:cubicBezTo>
                      <a:pt x="521" y="94"/>
                      <a:pt x="544" y="0"/>
                      <a:pt x="568" y="331"/>
                    </a:cubicBezTo>
                    <a:cubicBezTo>
                      <a:pt x="592" y="662"/>
                      <a:pt x="568" y="1751"/>
                      <a:pt x="568" y="20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5280120" y="2478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1295280"/>
            <a:ext cx="2523960" cy="2435400"/>
            <a:chOff x="3657600" y="1295280"/>
            <a:chExt cx="2523960" cy="2435400"/>
          </a:xfrm>
        </p:grpSpPr>
        <p:sp>
          <p:nvSpPr>
            <p:cNvPr id="224" name=""/>
            <p:cNvSpPr/>
            <p:nvPr/>
          </p:nvSpPr>
          <p:spPr>
            <a:xfrm>
              <a:off x="3657600" y="2467800"/>
              <a:ext cx="27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58680" y="129528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90120" y="129528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90120" y="318960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57600" y="1836360"/>
              <a:ext cx="9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7600" y="3189600"/>
              <a:ext cx="9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90120" y="3189600"/>
              <a:ext cx="9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90120" y="1836360"/>
              <a:ext cx="9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0480" y="183636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120" y="183636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60480" y="183636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550480" y="1926720"/>
              <a:ext cx="540720" cy="360720"/>
              <a:chOff x="5550480" y="1926720"/>
              <a:chExt cx="540720" cy="36072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0480" y="210708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50480" y="228744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50480" y="192672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88320" y="1836360"/>
              <a:ext cx="0" cy="13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68680" y="1836360"/>
              <a:ext cx="0" cy="13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8320" y="2467800"/>
              <a:ext cx="0" cy="7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657600" y="2648160"/>
              <a:ext cx="540720" cy="360720"/>
              <a:chOff x="3657600" y="2648160"/>
              <a:chExt cx="540720" cy="360720"/>
            </a:xfrm>
          </p:grpSpPr>
          <p:sp>
            <p:nvSpPr>
              <p:cNvPr id="243" name=""/>
              <p:cNvSpPr/>
              <p:nvPr/>
            </p:nvSpPr>
            <p:spPr>
              <a:xfrm>
                <a:off x="3657600" y="282852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57600" y="300888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57600" y="264816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rot="16200000">
              <a:off x="4017960" y="2287440"/>
              <a:ext cx="180360" cy="36036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4468680" y="2377440"/>
              <a:ext cx="180360" cy="180360"/>
            </a:xfrm>
            <a:prstGeom prst="flowChartOffpage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280120" y="2738520"/>
              <a:ext cx="540720" cy="360720"/>
              <a:chOff x="5280120" y="2738520"/>
              <a:chExt cx="540720" cy="360720"/>
            </a:xfrm>
          </p:grpSpPr>
          <p:sp>
            <p:nvSpPr>
              <p:cNvPr id="249" name=""/>
              <p:cNvSpPr/>
              <p:nvPr/>
            </p:nvSpPr>
            <p:spPr>
              <a:xfrm>
                <a:off x="5280120" y="291888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80120" y="309924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80120" y="273852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190120" y="2379600"/>
              <a:ext cx="901440" cy="1803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58680" y="318960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20840" y="2558160"/>
              <a:ext cx="0" cy="6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11200" y="2558160"/>
              <a:ext cx="0" cy="6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1560" y="2558160"/>
              <a:ext cx="0" cy="6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280120" y="3459960"/>
              <a:ext cx="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280120" y="3279240"/>
              <a:ext cx="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0120" y="3279600"/>
              <a:ext cx="27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50480" y="3279600"/>
              <a:ext cx="27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33520" y="3965400"/>
            <a:ext cx="270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33160" y="4190760"/>
            <a:ext cx="2705400" cy="1533600"/>
            <a:chOff x="533160" y="4190760"/>
            <a:chExt cx="2705400" cy="1533600"/>
          </a:xfrm>
        </p:grpSpPr>
        <p:sp>
          <p:nvSpPr>
            <p:cNvPr id="263" name=""/>
            <p:cNvSpPr/>
            <p:nvPr/>
          </p:nvSpPr>
          <p:spPr>
            <a:xfrm>
              <a:off x="2246760" y="518328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5183280"/>
              <a:ext cx="10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46760" y="5183280"/>
              <a:ext cx="9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15320" y="518328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5320" y="5273280"/>
              <a:ext cx="63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15320" y="5363640"/>
              <a:ext cx="63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886040" y="5453640"/>
              <a:ext cx="180000" cy="180360"/>
              <a:chOff x="1886040" y="5453640"/>
              <a:chExt cx="180000" cy="180360"/>
            </a:xfrm>
          </p:grpSpPr>
          <p:sp>
            <p:nvSpPr>
              <p:cNvPr id="270" name=""/>
              <p:cNvSpPr/>
              <p:nvPr/>
            </p:nvSpPr>
            <p:spPr>
              <a:xfrm>
                <a:off x="1886040" y="54536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86040" y="54986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86040" y="55890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86040" y="56340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86040" y="545364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066040" y="545364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344960" y="4912200"/>
              <a:ext cx="180360" cy="180360"/>
              <a:chOff x="1344960" y="4912200"/>
              <a:chExt cx="180360" cy="18036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134496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38996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4803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5253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44960" y="509256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44960" y="491220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074240" y="4912200"/>
              <a:ext cx="180000" cy="180360"/>
              <a:chOff x="1074240" y="4912200"/>
              <a:chExt cx="180000" cy="18036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10742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11192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2092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2542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74240" y="50925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74240" y="4912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03880" y="4912200"/>
              <a:ext cx="180360" cy="180360"/>
              <a:chOff x="803880" y="4912200"/>
              <a:chExt cx="180360" cy="18036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80388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84888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9392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9842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3880" y="509256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3880" y="491220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33520" y="4912200"/>
              <a:ext cx="180000" cy="180360"/>
              <a:chOff x="533520" y="4912200"/>
              <a:chExt cx="180000" cy="1803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335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785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685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135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3520" y="50925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3520" y="4912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894240" y="4641840"/>
              <a:ext cx="360360" cy="180000"/>
              <a:chOff x="894240" y="4641840"/>
              <a:chExt cx="360360" cy="18000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894240" y="4641840"/>
                <a:ext cx="0" cy="1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984240" y="4641840"/>
                <a:ext cx="0" cy="1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1164600" y="4641840"/>
                <a:ext cx="0" cy="1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1254600" y="4641840"/>
                <a:ext cx="0" cy="1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94240" y="48218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94240" y="46418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H="1">
              <a:off x="533160" y="4822200"/>
              <a:ext cx="27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23520" y="4732200"/>
              <a:ext cx="180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3520" y="4641840"/>
              <a:ext cx="90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983880" y="4190760"/>
              <a:ext cx="991800" cy="126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246760" y="4912200"/>
              <a:ext cx="180360" cy="180360"/>
              <a:chOff x="2246760" y="4912200"/>
              <a:chExt cx="180360" cy="18036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224676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29176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3821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42712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46760" y="509256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46760" y="491220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 flipV="1">
              <a:off x="1976040" y="4190760"/>
              <a:ext cx="631080" cy="126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9084200">
              <a:off x="1444320" y="4526640"/>
              <a:ext cx="9003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8" y="872"/>
                  </a:moveTo>
                  <a:arcTo wR="10800" hR="10800" stAng="-6790945" swAng="78176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8" y="872"/>
                  </a:moveTo>
                  <a:arcTo wR="10800" hR="10800" stAng="-6790945" swAng="781766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480040" y="4785120"/>
              <a:ext cx="254160" cy="254160"/>
              <a:chOff x="2480040" y="4785120"/>
              <a:chExt cx="254160" cy="254160"/>
            </a:xfrm>
          </p:grpSpPr>
          <p:sp>
            <p:nvSpPr>
              <p:cNvPr id="325" name=""/>
              <p:cNvSpPr/>
              <p:nvPr/>
            </p:nvSpPr>
            <p:spPr>
              <a:xfrm flipH="1" flipV="1">
                <a:off x="2480040" y="4909680"/>
                <a:ext cx="124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2512440" y="4878360"/>
                <a:ext cx="124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2577240" y="4816080"/>
                <a:ext cx="124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2609640" y="4785120"/>
                <a:ext cx="124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604600" y="4914720"/>
                <a:ext cx="12960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480040" y="4785120"/>
                <a:ext cx="12960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058200" y="4912200"/>
              <a:ext cx="180000" cy="180360"/>
              <a:chOff x="3058200" y="4912200"/>
              <a:chExt cx="180000" cy="1803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305820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0320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19320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323820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058200" y="50925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58200" y="4912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787840" y="4912200"/>
              <a:ext cx="180360" cy="180360"/>
              <a:chOff x="2787840" y="4912200"/>
              <a:chExt cx="180360" cy="180360"/>
            </a:xfrm>
          </p:grpSpPr>
          <p:sp>
            <p:nvSpPr>
              <p:cNvPr id="339" name=""/>
              <p:cNvSpPr/>
              <p:nvPr/>
            </p:nvSpPr>
            <p:spPr>
              <a:xfrm flipV="1">
                <a:off x="27878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83284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292320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2968200" y="4912200"/>
                <a:ext cx="0" cy="18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87840" y="509256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87840" y="4912200"/>
                <a:ext cx="18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5313240" y="48099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89280" y="51735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51735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1440" y="48099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1440" y="480996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1440" y="49006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951440" y="4992840"/>
            <a:ext cx="181080" cy="269640"/>
            <a:chOff x="4951440" y="4992840"/>
            <a:chExt cx="181080" cy="269640"/>
          </a:xfrm>
        </p:grpSpPr>
        <p:sp>
          <p:nvSpPr>
            <p:cNvPr id="352" name=""/>
            <p:cNvSpPr/>
            <p:nvPr/>
          </p:nvSpPr>
          <p:spPr>
            <a:xfrm>
              <a:off x="4951440" y="499284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1440" y="506016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51440" y="519516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1440" y="526248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51440" y="499284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32520" y="499284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780000" y="4900320"/>
            <a:ext cx="180720" cy="181080"/>
            <a:chOff x="3780000" y="4900320"/>
            <a:chExt cx="180720" cy="181080"/>
          </a:xfrm>
        </p:grpSpPr>
        <p:sp>
          <p:nvSpPr>
            <p:cNvPr id="359" name=""/>
            <p:cNvSpPr/>
            <p:nvPr/>
          </p:nvSpPr>
          <p:spPr>
            <a:xfrm flipV="1">
              <a:off x="378000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2500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91572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96072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0000" y="508140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0000" y="490032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19084200">
            <a:off x="4533840" y="4450320"/>
            <a:ext cx="1068480" cy="11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83" y="2343"/>
                </a:moveTo>
                <a:arcTo wR="10800" hR="10800" stAng="-7707319" swAng="9450610"/>
                <a:lnTo>
                  <a:pt x="10800" y="10800"/>
                </a:lnTo>
                <a:close/>
              </a:path>
              <a:path fill="none" w="21600" h="21600">
                <a:moveTo>
                  <a:pt x="4083" y="2343"/>
                </a:moveTo>
                <a:arcTo wR="10800" hR="10800" stAng="-7707319" swAng="945061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033960" y="4900320"/>
            <a:ext cx="181080" cy="181080"/>
            <a:chOff x="6033960" y="4900320"/>
            <a:chExt cx="181080" cy="181080"/>
          </a:xfrm>
        </p:grpSpPr>
        <p:sp>
          <p:nvSpPr>
            <p:cNvPr id="367" name=""/>
            <p:cNvSpPr/>
            <p:nvPr/>
          </p:nvSpPr>
          <p:spPr>
            <a:xfrm flipV="1">
              <a:off x="603396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07896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16968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215040" y="49003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33960" y="508140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33960" y="490032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89280" y="3962520"/>
            <a:ext cx="26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320720" y="4809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312880" y="4809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673600" y="4809960"/>
            <a:ext cx="27000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049640" y="4809960"/>
            <a:ext cx="2714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779640" y="4809600"/>
            <a:ext cx="1261800" cy="2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041800" y="4809600"/>
            <a:ext cx="1262160" cy="2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10016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9000" y="114300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AREAS DE ESP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4920" y="361152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AUMENTO DE VISIBI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9160" y="5745240"/>
            <a:ext cx="20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CONTROL DE VELOC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15880" y="6095880"/>
            <a:ext cx="2165040" cy="2895840"/>
            <a:chOff x="1415880" y="6095880"/>
            <a:chExt cx="2165040" cy="2895840"/>
          </a:xfrm>
        </p:grpSpPr>
        <p:sp>
          <p:nvSpPr>
            <p:cNvPr id="385" name=""/>
            <p:cNvSpPr/>
            <p:nvPr/>
          </p:nvSpPr>
          <p:spPr>
            <a:xfrm>
              <a:off x="1415880" y="6095880"/>
              <a:ext cx="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8400" y="6095880"/>
              <a:ext cx="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226600" y="7972560"/>
              <a:ext cx="324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228400" y="6549840"/>
              <a:ext cx="126216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228400" y="7368840"/>
              <a:ext cx="126216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17320" y="7186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08040" y="70959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317320" y="6913080"/>
              <a:ext cx="126360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679480" y="7003800"/>
              <a:ext cx="269640" cy="270000"/>
              <a:chOff x="2679480" y="7003800"/>
              <a:chExt cx="269640" cy="27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2733480" y="7135560"/>
                <a:ext cx="5364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679480" y="7003800"/>
                <a:ext cx="21564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733480" y="7135560"/>
                <a:ext cx="21564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79480" y="7139160"/>
                <a:ext cx="5400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95120" y="7004160"/>
                <a:ext cx="5364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41120" y="7071480"/>
                <a:ext cx="5364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flipH="1">
              <a:off x="2317320" y="7186680"/>
              <a:ext cx="36216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047320" y="7369200"/>
              <a:ext cx="269640" cy="8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66600" y="6095880"/>
              <a:ext cx="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66600" y="8169120"/>
              <a:ext cx="0" cy="8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96600" y="6823080"/>
              <a:ext cx="0" cy="189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047680" y="7003800"/>
              <a:ext cx="0" cy="135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96600" y="7456320"/>
              <a:ext cx="451080" cy="901800"/>
            </a:xfrm>
            <a:custGeom>
              <a:avLst/>
              <a:gdLst/>
              <a:ahLst/>
              <a:rect l="l" t="t" r="r" b="b"/>
              <a:pathLst>
                <a:path w="710" h="1420">
                  <a:moveTo>
                    <a:pt x="710" y="0"/>
                  </a:moveTo>
                  <a:cubicBezTo>
                    <a:pt x="627" y="94"/>
                    <a:pt x="544" y="189"/>
                    <a:pt x="426" y="426"/>
                  </a:cubicBezTo>
                  <a:cubicBezTo>
                    <a:pt x="308" y="663"/>
                    <a:pt x="71" y="1254"/>
                    <a:pt x="0" y="14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47680" y="7277040"/>
              <a:ext cx="269640" cy="104760"/>
            </a:xfrm>
            <a:custGeom>
              <a:avLst/>
              <a:gdLst/>
              <a:ahLst/>
              <a:rect l="l" t="t" r="r" b="b"/>
              <a:pathLst>
                <a:path w="426" h="166">
                  <a:moveTo>
                    <a:pt x="426" y="142"/>
                  </a:moveTo>
                  <a:cubicBezTo>
                    <a:pt x="319" y="154"/>
                    <a:pt x="213" y="166"/>
                    <a:pt x="142" y="142"/>
                  </a:cubicBezTo>
                  <a:cubicBezTo>
                    <a:pt x="71" y="118"/>
                    <a:pt x="24" y="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57080" y="6276960"/>
              <a:ext cx="420480" cy="992160"/>
            </a:xfrm>
            <a:custGeom>
              <a:avLst/>
              <a:gdLst/>
              <a:ahLst/>
              <a:rect l="l" t="t" r="r" b="b"/>
              <a:pathLst>
                <a:path w="662" h="1562">
                  <a:moveTo>
                    <a:pt x="615" y="1562"/>
                  </a:moveTo>
                  <a:cubicBezTo>
                    <a:pt x="354" y="1550"/>
                    <a:pt x="94" y="1538"/>
                    <a:pt x="47" y="1420"/>
                  </a:cubicBezTo>
                  <a:cubicBezTo>
                    <a:pt x="0" y="1302"/>
                    <a:pt x="236" y="1018"/>
                    <a:pt x="331" y="852"/>
                  </a:cubicBezTo>
                  <a:cubicBezTo>
                    <a:pt x="426" y="686"/>
                    <a:pt x="568" y="568"/>
                    <a:pt x="615" y="426"/>
                  </a:cubicBezTo>
                  <a:cubicBezTo>
                    <a:pt x="662" y="284"/>
                    <a:pt x="615" y="71"/>
                    <a:pt x="61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027320" y="5943600"/>
            <a:ext cx="2525760" cy="2894040"/>
            <a:chOff x="4027320" y="5943600"/>
            <a:chExt cx="2525760" cy="2894040"/>
          </a:xfrm>
        </p:grpSpPr>
        <p:sp>
          <p:nvSpPr>
            <p:cNvPr id="410" name=""/>
            <p:cNvSpPr/>
            <p:nvPr/>
          </p:nvSpPr>
          <p:spPr>
            <a:xfrm flipH="1" rot="10800000">
              <a:off x="5020920" y="7124400"/>
              <a:ext cx="811440" cy="45108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7320" y="5943600"/>
              <a:ext cx="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19480" y="5943600"/>
              <a:ext cx="0" cy="8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68760" y="5943600"/>
              <a:ext cx="0" cy="8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19480" y="676116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00560" y="6761160"/>
              <a:ext cx="315720" cy="104760"/>
            </a:xfrm>
            <a:custGeom>
              <a:avLst/>
              <a:gdLst/>
              <a:ahLst/>
              <a:rect l="l" t="t" r="r" b="b"/>
              <a:pathLst>
                <a:path w="497" h="166">
                  <a:moveTo>
                    <a:pt x="497" y="142"/>
                  </a:moveTo>
                  <a:cubicBezTo>
                    <a:pt x="319" y="154"/>
                    <a:pt x="142" y="166"/>
                    <a:pt x="71" y="142"/>
                  </a:cubicBezTo>
                  <a:cubicBezTo>
                    <a:pt x="0" y="118"/>
                    <a:pt x="71" y="24"/>
                    <a:pt x="7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0560" y="6943680"/>
              <a:ext cx="54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90920" y="7034400"/>
              <a:ext cx="270000" cy="104760"/>
            </a:xfrm>
            <a:custGeom>
              <a:avLst/>
              <a:gdLst/>
              <a:ahLst/>
              <a:rect l="l" t="t" r="r" b="b"/>
              <a:pathLst>
                <a:path w="426" h="166">
                  <a:moveTo>
                    <a:pt x="426" y="24"/>
                  </a:moveTo>
                  <a:cubicBezTo>
                    <a:pt x="319" y="12"/>
                    <a:pt x="213" y="0"/>
                    <a:pt x="142" y="24"/>
                  </a:cubicBezTo>
                  <a:cubicBezTo>
                    <a:pt x="71" y="48"/>
                    <a:pt x="24" y="142"/>
                    <a:pt x="0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19480" y="712476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9840" y="6761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0560" y="6761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741640" y="6306840"/>
              <a:ext cx="81144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019480" y="6670440"/>
              <a:ext cx="15336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830560" y="6670440"/>
              <a:ext cx="270000" cy="270360"/>
              <a:chOff x="5830560" y="6670440"/>
              <a:chExt cx="270000" cy="27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5884560" y="6802560"/>
                <a:ext cx="5400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830560" y="6670440"/>
                <a:ext cx="21600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884560" y="6802200"/>
                <a:ext cx="21600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30560" y="6805800"/>
                <a:ext cx="5400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46560" y="6670800"/>
                <a:ext cx="5400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92560" y="6738120"/>
                <a:ext cx="5400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5019480" y="7034040"/>
              <a:ext cx="15336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19480" y="7925040"/>
              <a:ext cx="0" cy="9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19480" y="712476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68760" y="7124760"/>
              <a:ext cx="0" cy="17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52280" y="762120"/>
            <a:ext cx="654372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09160" y="914400"/>
            <a:ext cx="6343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Verdana"/>
              </a:rPr>
              <a:t>Ejemplos</a:t>
            </a:r>
            <a:endParaRPr b="1" lang="en-US" sz="16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469080" y="129528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PREVENCION MOVIMIENTOS NO DESE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5800" y="1676520"/>
            <a:ext cx="2449080" cy="2886120"/>
            <a:chOff x="685800" y="1676520"/>
            <a:chExt cx="2449080" cy="2886120"/>
          </a:xfrm>
        </p:grpSpPr>
        <p:grpSp>
          <p:nvGrpSpPr>
            <p:cNvPr id="438" name=""/>
            <p:cNvGrpSpPr/>
            <p:nvPr/>
          </p:nvGrpSpPr>
          <p:grpSpPr>
            <a:xfrm>
              <a:off x="685800" y="1676520"/>
              <a:ext cx="2435400" cy="2886120"/>
              <a:chOff x="685800" y="1676520"/>
              <a:chExt cx="2435400" cy="2886120"/>
            </a:xfrm>
          </p:grpSpPr>
          <p:sp>
            <p:nvSpPr>
              <p:cNvPr id="439" name=""/>
              <p:cNvSpPr/>
              <p:nvPr/>
            </p:nvSpPr>
            <p:spPr>
              <a:xfrm>
                <a:off x="1497240" y="1676520"/>
                <a:ext cx="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97240" y="3660840"/>
                <a:ext cx="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5800" y="2578320"/>
                <a:ext cx="81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09400" y="1676520"/>
                <a:ext cx="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09400" y="2578320"/>
                <a:ext cx="81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09400" y="3660840"/>
                <a:ext cx="81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5800" y="3660840"/>
                <a:ext cx="81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09400" y="3660840"/>
                <a:ext cx="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1046160" y="3038400"/>
              <a:ext cx="181080" cy="1810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5080" y="303840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5080" y="313056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685800" y="2949480"/>
              <a:ext cx="645840" cy="360360"/>
              <a:chOff x="685800" y="2949480"/>
              <a:chExt cx="645840" cy="360360"/>
            </a:xfrm>
          </p:grpSpPr>
          <p:sp>
            <p:nvSpPr>
              <p:cNvPr id="451" name=""/>
              <p:cNvSpPr/>
              <p:nvPr/>
            </p:nvSpPr>
            <p:spPr>
              <a:xfrm>
                <a:off x="685800" y="294948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5800" y="330984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26520" y="2949480"/>
                <a:ext cx="105120" cy="360360"/>
              </a:xfrm>
              <a:custGeom>
                <a:avLst/>
                <a:gdLst/>
                <a:ahLst/>
                <a:rect l="l" t="t" r="r" b="b"/>
                <a:pathLst>
                  <a:path w="166" h="568">
                    <a:moveTo>
                      <a:pt x="0" y="0"/>
                    </a:moveTo>
                    <a:cubicBezTo>
                      <a:pt x="59" y="47"/>
                      <a:pt x="118" y="95"/>
                      <a:pt x="142" y="142"/>
                    </a:cubicBezTo>
                    <a:cubicBezTo>
                      <a:pt x="166" y="189"/>
                      <a:pt x="142" y="237"/>
                      <a:pt x="142" y="284"/>
                    </a:cubicBezTo>
                    <a:cubicBezTo>
                      <a:pt x="142" y="331"/>
                      <a:pt x="166" y="379"/>
                      <a:pt x="142" y="426"/>
                    </a:cubicBezTo>
                    <a:cubicBezTo>
                      <a:pt x="118" y="473"/>
                      <a:pt x="24" y="544"/>
                      <a:pt x="0" y="5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489040" y="2949120"/>
              <a:ext cx="645840" cy="360360"/>
              <a:chOff x="2489040" y="2949120"/>
              <a:chExt cx="645840" cy="3603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2594160" y="330948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594160" y="294912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0800000">
                <a:off x="2489040" y="2949120"/>
                <a:ext cx="105120" cy="360360"/>
              </a:xfrm>
              <a:custGeom>
                <a:avLst/>
                <a:gdLst/>
                <a:ahLst/>
                <a:rect l="l" t="t" r="r" b="b"/>
                <a:pathLst>
                  <a:path w="166" h="568">
                    <a:moveTo>
                      <a:pt x="0" y="0"/>
                    </a:moveTo>
                    <a:cubicBezTo>
                      <a:pt x="59" y="47"/>
                      <a:pt x="118" y="95"/>
                      <a:pt x="142" y="142"/>
                    </a:cubicBezTo>
                    <a:cubicBezTo>
                      <a:pt x="166" y="189"/>
                      <a:pt x="142" y="237"/>
                      <a:pt x="142" y="284"/>
                    </a:cubicBezTo>
                    <a:cubicBezTo>
                      <a:pt x="142" y="331"/>
                      <a:pt x="166" y="379"/>
                      <a:pt x="142" y="426"/>
                    </a:cubicBezTo>
                    <a:cubicBezTo>
                      <a:pt x="118" y="473"/>
                      <a:pt x="24" y="544"/>
                      <a:pt x="0" y="5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577960" y="3038400"/>
              <a:ext cx="181080" cy="1810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59040" y="313056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40120" y="303840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06520" y="2130480"/>
              <a:ext cx="376200" cy="660240"/>
            </a:xfrm>
            <a:custGeom>
              <a:avLst/>
              <a:gdLst/>
              <a:ahLst/>
              <a:rect l="l" t="t" r="r" b="b"/>
              <a:pathLst>
                <a:path w="592" h="1041">
                  <a:moveTo>
                    <a:pt x="568" y="0"/>
                  </a:moveTo>
                  <a:cubicBezTo>
                    <a:pt x="580" y="272"/>
                    <a:pt x="592" y="544"/>
                    <a:pt x="568" y="710"/>
                  </a:cubicBezTo>
                  <a:cubicBezTo>
                    <a:pt x="544" y="876"/>
                    <a:pt x="521" y="947"/>
                    <a:pt x="426" y="994"/>
                  </a:cubicBezTo>
                  <a:cubicBezTo>
                    <a:pt x="331" y="1041"/>
                    <a:pt x="71" y="994"/>
                    <a:pt x="0" y="9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045800" y="2766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06520" y="2766960"/>
              <a:ext cx="104760" cy="720720"/>
            </a:xfrm>
            <a:custGeom>
              <a:avLst/>
              <a:gdLst/>
              <a:ahLst/>
              <a:rect l="l" t="t" r="r" b="b"/>
              <a:pathLst>
                <a:path w="166" h="1136">
                  <a:moveTo>
                    <a:pt x="0" y="0"/>
                  </a:moveTo>
                  <a:cubicBezTo>
                    <a:pt x="59" y="83"/>
                    <a:pt x="118" y="166"/>
                    <a:pt x="142" y="284"/>
                  </a:cubicBezTo>
                  <a:cubicBezTo>
                    <a:pt x="166" y="402"/>
                    <a:pt x="166" y="568"/>
                    <a:pt x="142" y="710"/>
                  </a:cubicBezTo>
                  <a:cubicBezTo>
                    <a:pt x="118" y="852"/>
                    <a:pt x="24" y="1065"/>
                    <a:pt x="0" y="1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46160" y="349416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57240" y="34941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41400" y="2720880"/>
              <a:ext cx="736560" cy="1217880"/>
            </a:xfrm>
            <a:custGeom>
              <a:avLst/>
              <a:gdLst/>
              <a:ahLst/>
              <a:rect l="l" t="t" r="r" b="b"/>
              <a:pathLst>
                <a:path w="1160" h="1917">
                  <a:moveTo>
                    <a:pt x="1160" y="71"/>
                  </a:moveTo>
                  <a:cubicBezTo>
                    <a:pt x="1030" y="35"/>
                    <a:pt x="900" y="0"/>
                    <a:pt x="734" y="71"/>
                  </a:cubicBezTo>
                  <a:cubicBezTo>
                    <a:pt x="568" y="142"/>
                    <a:pt x="284" y="308"/>
                    <a:pt x="166" y="497"/>
                  </a:cubicBezTo>
                  <a:cubicBezTo>
                    <a:pt x="48" y="686"/>
                    <a:pt x="48" y="970"/>
                    <a:pt x="24" y="1207"/>
                  </a:cubicBezTo>
                  <a:cubicBezTo>
                    <a:pt x="0" y="1444"/>
                    <a:pt x="24" y="1799"/>
                    <a:pt x="24" y="19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660840" y="1676160"/>
            <a:ext cx="2539800" cy="2905200"/>
            <a:chOff x="3660840" y="1676160"/>
            <a:chExt cx="2539800" cy="2905200"/>
          </a:xfrm>
        </p:grpSpPr>
        <p:sp>
          <p:nvSpPr>
            <p:cNvPr id="468" name=""/>
            <p:cNvSpPr/>
            <p:nvPr/>
          </p:nvSpPr>
          <p:spPr>
            <a:xfrm>
              <a:off x="4562640" y="3584520"/>
              <a:ext cx="420480" cy="961920"/>
            </a:xfrm>
            <a:custGeom>
              <a:avLst/>
              <a:gdLst/>
              <a:ahLst/>
              <a:rect l="l" t="t" r="r" b="b"/>
              <a:pathLst>
                <a:path w="710" h="1586">
                  <a:moveTo>
                    <a:pt x="47" y="213"/>
                  </a:moveTo>
                  <a:cubicBezTo>
                    <a:pt x="94" y="118"/>
                    <a:pt x="520" y="0"/>
                    <a:pt x="615" y="213"/>
                  </a:cubicBezTo>
                  <a:cubicBezTo>
                    <a:pt x="710" y="426"/>
                    <a:pt x="662" y="1396"/>
                    <a:pt x="615" y="1491"/>
                  </a:cubicBezTo>
                  <a:cubicBezTo>
                    <a:pt x="568" y="1586"/>
                    <a:pt x="426" y="994"/>
                    <a:pt x="331" y="781"/>
                  </a:cubicBezTo>
                  <a:cubicBezTo>
                    <a:pt x="236" y="568"/>
                    <a:pt x="0" y="308"/>
                    <a:pt x="47" y="21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43480" y="2903400"/>
              <a:ext cx="330120" cy="420840"/>
            </a:xfrm>
            <a:custGeom>
              <a:avLst/>
              <a:gdLst/>
              <a:ahLst/>
              <a:rect l="l" t="t" r="r" b="b"/>
              <a:pathLst>
                <a:path w="520" h="663">
                  <a:moveTo>
                    <a:pt x="473" y="71"/>
                  </a:moveTo>
                  <a:cubicBezTo>
                    <a:pt x="520" y="118"/>
                    <a:pt x="331" y="260"/>
                    <a:pt x="331" y="355"/>
                  </a:cubicBezTo>
                  <a:cubicBezTo>
                    <a:pt x="331" y="450"/>
                    <a:pt x="497" y="615"/>
                    <a:pt x="473" y="639"/>
                  </a:cubicBezTo>
                  <a:cubicBezTo>
                    <a:pt x="449" y="663"/>
                    <a:pt x="260" y="592"/>
                    <a:pt x="189" y="497"/>
                  </a:cubicBezTo>
                  <a:cubicBezTo>
                    <a:pt x="118" y="402"/>
                    <a:pt x="0" y="142"/>
                    <a:pt x="47" y="71"/>
                  </a:cubicBezTo>
                  <a:cubicBezTo>
                    <a:pt x="94" y="0"/>
                    <a:pt x="426" y="24"/>
                    <a:pt x="473" y="7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43400" y="2895480"/>
              <a:ext cx="612720" cy="412920"/>
            </a:xfrm>
            <a:custGeom>
              <a:avLst/>
              <a:gdLst/>
              <a:ahLst/>
              <a:rect l="l" t="t" r="r" b="b"/>
              <a:pathLst>
                <a:path w="965" h="719">
                  <a:moveTo>
                    <a:pt x="0" y="78"/>
                  </a:moveTo>
                  <a:cubicBezTo>
                    <a:pt x="19" y="84"/>
                    <a:pt x="40" y="85"/>
                    <a:pt x="56" y="96"/>
                  </a:cubicBezTo>
                  <a:cubicBezTo>
                    <a:pt x="85" y="116"/>
                    <a:pt x="131" y="171"/>
                    <a:pt x="131" y="171"/>
                  </a:cubicBezTo>
                  <a:cubicBezTo>
                    <a:pt x="175" y="304"/>
                    <a:pt x="146" y="250"/>
                    <a:pt x="206" y="339"/>
                  </a:cubicBezTo>
                  <a:cubicBezTo>
                    <a:pt x="188" y="568"/>
                    <a:pt x="233" y="610"/>
                    <a:pt x="37" y="676"/>
                  </a:cubicBezTo>
                  <a:cubicBezTo>
                    <a:pt x="334" y="719"/>
                    <a:pt x="617" y="709"/>
                    <a:pt x="916" y="695"/>
                  </a:cubicBezTo>
                  <a:cubicBezTo>
                    <a:pt x="910" y="483"/>
                    <a:pt x="965" y="260"/>
                    <a:pt x="898" y="59"/>
                  </a:cubicBezTo>
                  <a:cubicBezTo>
                    <a:pt x="878" y="0"/>
                    <a:pt x="773" y="73"/>
                    <a:pt x="711" y="78"/>
                  </a:cubicBezTo>
                  <a:cubicBezTo>
                    <a:pt x="339" y="107"/>
                    <a:pt x="443" y="97"/>
                    <a:pt x="0" y="78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920" y="1676520"/>
              <a:ext cx="0" cy="9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71920" y="413064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60840" y="25779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73720" y="1676520"/>
              <a:ext cx="0" cy="9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73720" y="258588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73720" y="367668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60840" y="3675240"/>
              <a:ext cx="45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73720" y="3675240"/>
              <a:ext cx="0" cy="9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1560" y="3675240"/>
              <a:ext cx="360360" cy="541080"/>
            </a:xfrm>
            <a:custGeom>
              <a:avLst/>
              <a:gdLst/>
              <a:ahLst/>
              <a:rect l="l" t="t" r="r" b="b"/>
              <a:pathLst>
                <a:path w="568" h="852">
                  <a:moveTo>
                    <a:pt x="0" y="0"/>
                  </a:moveTo>
                  <a:cubicBezTo>
                    <a:pt x="165" y="71"/>
                    <a:pt x="331" y="142"/>
                    <a:pt x="426" y="284"/>
                  </a:cubicBezTo>
                  <a:cubicBezTo>
                    <a:pt x="521" y="426"/>
                    <a:pt x="544" y="757"/>
                    <a:pt x="568" y="8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1920" y="249408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923000" y="167616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3660840" y="2949480"/>
              <a:ext cx="811080" cy="360360"/>
              <a:chOff x="3660840" y="2949480"/>
              <a:chExt cx="811080" cy="36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3660840" y="2949480"/>
                <a:ext cx="67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60840" y="3309840"/>
                <a:ext cx="67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339800" y="2949480"/>
                <a:ext cx="132120" cy="360360"/>
              </a:xfrm>
              <a:custGeom>
                <a:avLst/>
                <a:gdLst/>
                <a:ahLst/>
                <a:rect l="l" t="t" r="r" b="b"/>
                <a:pathLst>
                  <a:path w="166" h="568">
                    <a:moveTo>
                      <a:pt x="0" y="0"/>
                    </a:moveTo>
                    <a:cubicBezTo>
                      <a:pt x="59" y="47"/>
                      <a:pt x="118" y="95"/>
                      <a:pt x="142" y="142"/>
                    </a:cubicBezTo>
                    <a:cubicBezTo>
                      <a:pt x="166" y="189"/>
                      <a:pt x="142" y="237"/>
                      <a:pt x="142" y="284"/>
                    </a:cubicBezTo>
                    <a:cubicBezTo>
                      <a:pt x="142" y="331"/>
                      <a:pt x="166" y="379"/>
                      <a:pt x="142" y="426"/>
                    </a:cubicBezTo>
                    <a:cubicBezTo>
                      <a:pt x="118" y="473"/>
                      <a:pt x="24" y="544"/>
                      <a:pt x="0" y="5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381560" y="294948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81560" y="331164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23000" y="294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5555160" y="2949120"/>
              <a:ext cx="645480" cy="360360"/>
              <a:chOff x="5555160" y="2949120"/>
              <a:chExt cx="645480" cy="3603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5660280" y="3309480"/>
                <a:ext cx="54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660280" y="2949120"/>
                <a:ext cx="54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0800000">
                <a:off x="5555160" y="2949120"/>
                <a:ext cx="105120" cy="360360"/>
              </a:xfrm>
              <a:custGeom>
                <a:avLst/>
                <a:gdLst/>
                <a:ahLst/>
                <a:rect l="l" t="t" r="r" b="b"/>
                <a:pathLst>
                  <a:path w="166" h="568">
                    <a:moveTo>
                      <a:pt x="0" y="0"/>
                    </a:moveTo>
                    <a:cubicBezTo>
                      <a:pt x="59" y="47"/>
                      <a:pt x="118" y="95"/>
                      <a:pt x="142" y="142"/>
                    </a:cubicBezTo>
                    <a:cubicBezTo>
                      <a:pt x="166" y="189"/>
                      <a:pt x="142" y="237"/>
                      <a:pt x="142" y="284"/>
                    </a:cubicBezTo>
                    <a:cubicBezTo>
                      <a:pt x="142" y="331"/>
                      <a:pt x="166" y="379"/>
                      <a:pt x="142" y="426"/>
                    </a:cubicBezTo>
                    <a:cubicBezTo>
                      <a:pt x="118" y="473"/>
                      <a:pt x="24" y="544"/>
                      <a:pt x="0" y="5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>
              <a:off x="5373360" y="2949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73720" y="2949480"/>
              <a:ext cx="270000" cy="360360"/>
            </a:xfrm>
            <a:custGeom>
              <a:avLst/>
              <a:gdLst/>
              <a:ahLst/>
              <a:rect l="l" t="t" r="r" b="b"/>
              <a:pathLst>
                <a:path w="426" h="568">
                  <a:moveTo>
                    <a:pt x="0" y="0"/>
                  </a:moveTo>
                  <a:cubicBezTo>
                    <a:pt x="35" y="165"/>
                    <a:pt x="71" y="331"/>
                    <a:pt x="142" y="426"/>
                  </a:cubicBezTo>
                  <a:cubicBezTo>
                    <a:pt x="213" y="521"/>
                    <a:pt x="379" y="544"/>
                    <a:pt x="426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23000" y="367524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562280" y="3675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62640" y="3675240"/>
              <a:ext cx="360360" cy="811080"/>
            </a:xfrm>
            <a:custGeom>
              <a:avLst/>
              <a:gdLst/>
              <a:ahLst/>
              <a:rect l="l" t="t" r="r" b="b"/>
              <a:pathLst>
                <a:path w="568" h="1278">
                  <a:moveTo>
                    <a:pt x="0" y="0"/>
                  </a:moveTo>
                  <a:cubicBezTo>
                    <a:pt x="94" y="177"/>
                    <a:pt x="189" y="355"/>
                    <a:pt x="284" y="568"/>
                  </a:cubicBezTo>
                  <a:cubicBezTo>
                    <a:pt x="379" y="781"/>
                    <a:pt x="521" y="1160"/>
                    <a:pt x="568" y="12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64080" y="2585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554440" y="2766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03720" y="194940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16680" y="2048040"/>
              <a:ext cx="118800" cy="249120"/>
            </a:xfrm>
            <a:custGeom>
              <a:avLst/>
              <a:gdLst/>
              <a:ahLst/>
              <a:rect l="l" t="t" r="r" b="b"/>
              <a:pathLst>
                <a:path w="187" h="393">
                  <a:moveTo>
                    <a:pt x="0" y="0"/>
                  </a:moveTo>
                  <a:cubicBezTo>
                    <a:pt x="23" y="95"/>
                    <a:pt x="43" y="187"/>
                    <a:pt x="74" y="280"/>
                  </a:cubicBezTo>
                  <a:cubicBezTo>
                    <a:pt x="74" y="280"/>
                    <a:pt x="157" y="363"/>
                    <a:pt x="187" y="3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0480" y="3494160"/>
              <a:ext cx="45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5600" y="3495600"/>
              <a:ext cx="177480" cy="14292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0"/>
                  </a:moveTo>
                  <a:cubicBezTo>
                    <a:pt x="50" y="33"/>
                    <a:pt x="103" y="73"/>
                    <a:pt x="149" y="112"/>
                  </a:cubicBezTo>
                  <a:cubicBezTo>
                    <a:pt x="176" y="135"/>
                    <a:pt x="199" y="162"/>
                    <a:pt x="224" y="187"/>
                  </a:cubicBezTo>
                  <a:cubicBezTo>
                    <a:pt x="240" y="203"/>
                    <a:pt x="280" y="224"/>
                    <a:pt x="28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561920" y="2220840"/>
              <a:ext cx="90360" cy="158760"/>
            </a:xfrm>
            <a:custGeom>
              <a:avLst/>
              <a:gdLst/>
              <a:ahLst/>
              <a:rect l="l" t="t" r="r" b="b"/>
              <a:pathLst>
                <a:path w="187" h="393">
                  <a:moveTo>
                    <a:pt x="0" y="0"/>
                  </a:moveTo>
                  <a:cubicBezTo>
                    <a:pt x="23" y="95"/>
                    <a:pt x="43" y="187"/>
                    <a:pt x="74" y="280"/>
                  </a:cubicBezTo>
                  <a:cubicBezTo>
                    <a:pt x="74" y="280"/>
                    <a:pt x="157" y="363"/>
                    <a:pt x="187" y="3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53000" y="194940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752480" y="5181480"/>
            <a:ext cx="3246480" cy="2631960"/>
            <a:chOff x="1752480" y="5181480"/>
            <a:chExt cx="3246480" cy="2631960"/>
          </a:xfrm>
        </p:grpSpPr>
        <p:sp>
          <p:nvSpPr>
            <p:cNvPr id="507" name=""/>
            <p:cNvSpPr/>
            <p:nvPr/>
          </p:nvSpPr>
          <p:spPr>
            <a:xfrm>
              <a:off x="2654280" y="6635520"/>
              <a:ext cx="541080" cy="45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55720" y="5908680"/>
              <a:ext cx="541440" cy="4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55720" y="6635520"/>
              <a:ext cx="541440" cy="45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54280" y="5908680"/>
              <a:ext cx="541080" cy="4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752480" y="5181480"/>
              <a:ext cx="541440" cy="450720"/>
              <a:chOff x="1752480" y="5181480"/>
              <a:chExt cx="541440" cy="450720"/>
            </a:xfrm>
          </p:grpSpPr>
          <p:sp>
            <p:nvSpPr>
              <p:cNvPr id="512" name=""/>
              <p:cNvSpPr/>
              <p:nvPr/>
            </p:nvSpPr>
            <p:spPr>
              <a:xfrm>
                <a:off x="2293920" y="51814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1752480" y="563220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752480" y="5908680"/>
              <a:ext cx="541440" cy="450720"/>
              <a:chOff x="1752480" y="5908680"/>
              <a:chExt cx="541440" cy="450720"/>
            </a:xfrm>
          </p:grpSpPr>
          <p:sp>
            <p:nvSpPr>
              <p:cNvPr id="515" name=""/>
              <p:cNvSpPr/>
              <p:nvPr/>
            </p:nvSpPr>
            <p:spPr>
              <a:xfrm>
                <a:off x="1752480" y="590868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293920" y="59086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1752480" y="635940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752480" y="6635520"/>
              <a:ext cx="541440" cy="451080"/>
              <a:chOff x="1752480" y="6635520"/>
              <a:chExt cx="541440" cy="451080"/>
            </a:xfrm>
          </p:grpSpPr>
          <p:sp>
            <p:nvSpPr>
              <p:cNvPr id="519" name=""/>
              <p:cNvSpPr/>
              <p:nvPr/>
            </p:nvSpPr>
            <p:spPr>
              <a:xfrm>
                <a:off x="1752480" y="663552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293920" y="6635520"/>
                <a:ext cx="0" cy="4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1752480" y="708660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1752480" y="736272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93920" y="736272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457520" y="5908680"/>
              <a:ext cx="541440" cy="450720"/>
              <a:chOff x="4457520" y="5908680"/>
              <a:chExt cx="541440" cy="450720"/>
            </a:xfrm>
          </p:grpSpPr>
          <p:sp>
            <p:nvSpPr>
              <p:cNvPr id="525" name=""/>
              <p:cNvSpPr/>
              <p:nvPr/>
            </p:nvSpPr>
            <p:spPr>
              <a:xfrm flipH="1">
                <a:off x="4457520" y="635940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4457520" y="59086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57520" y="590868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457520" y="6635160"/>
              <a:ext cx="541440" cy="451080"/>
              <a:chOff x="4457520" y="6635160"/>
              <a:chExt cx="541440" cy="45108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4457520" y="708624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4457520" y="6635160"/>
                <a:ext cx="0" cy="45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57520" y="663516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4457520" y="7362720"/>
              <a:ext cx="541440" cy="450720"/>
              <a:chOff x="4457520" y="7362720"/>
              <a:chExt cx="541440" cy="45072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4457520" y="736272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57520" y="736272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457520" y="563544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4457520" y="518148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654280" y="7362720"/>
              <a:ext cx="541080" cy="450720"/>
              <a:chOff x="2654280" y="7362720"/>
              <a:chExt cx="541080" cy="450720"/>
            </a:xfrm>
          </p:grpSpPr>
          <p:sp>
            <p:nvSpPr>
              <p:cNvPr id="538" name=""/>
              <p:cNvSpPr/>
              <p:nvPr/>
            </p:nvSpPr>
            <p:spPr>
              <a:xfrm flipV="1">
                <a:off x="2654280" y="736272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654280" y="7362720"/>
                <a:ext cx="54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95360" y="736272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555720" y="7362720"/>
              <a:ext cx="541440" cy="450720"/>
              <a:chOff x="3555720" y="7362720"/>
              <a:chExt cx="541440" cy="45072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3555720" y="736272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555720" y="736272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097160" y="736272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653920" y="5181480"/>
              <a:ext cx="541080" cy="450720"/>
              <a:chOff x="2653920" y="5181480"/>
              <a:chExt cx="541080" cy="450720"/>
            </a:xfrm>
          </p:grpSpPr>
          <p:sp>
            <p:nvSpPr>
              <p:cNvPr id="546" name=""/>
              <p:cNvSpPr/>
              <p:nvPr/>
            </p:nvSpPr>
            <p:spPr>
              <a:xfrm>
                <a:off x="3195000" y="51814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2653920" y="5632200"/>
                <a:ext cx="54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2653920" y="51814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555720" y="5181480"/>
              <a:ext cx="541440" cy="450720"/>
              <a:chOff x="3555720" y="5181480"/>
              <a:chExt cx="541440" cy="450720"/>
            </a:xfrm>
          </p:grpSpPr>
          <p:sp>
            <p:nvSpPr>
              <p:cNvPr id="550" name=""/>
              <p:cNvSpPr/>
              <p:nvPr/>
            </p:nvSpPr>
            <p:spPr>
              <a:xfrm>
                <a:off x="4097160" y="51814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555720" y="5632200"/>
                <a:ext cx="54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555720" y="5181480"/>
                <a:ext cx="0" cy="45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flipV="1">
              <a:off x="3284280" y="57272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382120" y="572760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82480" y="57276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021760" y="6454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465360" y="5817960"/>
              <a:ext cx="0" cy="99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465360" y="5817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86080" y="581796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923920" y="645480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465360" y="727236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65360" y="72723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367160" y="65451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923560" y="6545160"/>
              <a:ext cx="1443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0" y="252396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0440" y="4724280"/>
            <a:ext cx="357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Verdana"/>
              </a:rPr>
              <a:t>ELIMINACION MOVIMIENTOS CONFLICTIV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333960" y="746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25880" y="6781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40080" y="673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6760" y="7937640"/>
            <a:ext cx="147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1: Viraje en 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: Viraje en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: Viraje en 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cp:lastPrinted>1996-11-27T17:41:04Z</cp:lastPrinted>
  <dcterms:modified xsi:type="dcterms:W3CDTF">2001-05-03T14:37:37Z</dcterms:modified>
  <cp:revision>276</cp:revision>
  <dc:subject/>
  <dc:title>PowerPoint Centr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5213950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s</vt:lpwstr>
  </property>
</Properties>
</file>