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0413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6520" y="129492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041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26520" y="4041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91920" y="129492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74360" y="129492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041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91920" y="4041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74360" y="4041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26520" y="129492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6520" y="129492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041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6520" y="129492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26520" y="4041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6520" y="129492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0413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48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e9b03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81880" y="0"/>
            <a:ext cx="546120" cy="110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aramond"/>
              </a:rPr>
              <a:t>Click to edit the title text format</a:t>
            </a: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57200" y="70164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Arial"/>
              </a:rPr>
              <a:t>Gestión Integral de Tránsito </a:t>
            </a:r>
            <a:r>
              <a:rPr b="1" lang="es-CL" sz="1400" spc="-1" strike="noStrike">
                <a:solidFill>
                  <a:srgbClr val="0033cc"/>
                </a:solidFill>
                <a:latin typeface="Arial"/>
              </a:rPr>
              <a:t>Fernández,R. (1996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c0128"/>
                </a:solidFill>
                <a:latin typeface="Times New Roman"/>
              </a:rPr>
              <a:t>De la planificación a la gestión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imes New Roman"/>
              </a:rPr>
              <a:t>sin planificación adecuada ni control dirigido a un objetivo común =&gt; degradación continua de la ciudad en su ambiente físico y calidad de vi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Times New Roman"/>
              </a:rPr>
              <a:t>Prevención debe ser meta común del ordenamiento del TU y del ST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c0128"/>
                </a:solidFill>
                <a:latin typeface="Times New Roman"/>
              </a:rPr>
              <a:t>Objetivos generales de la planificación en áreas urb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Times New Roman"/>
              </a:rPr>
              <a:t>Largo Plaz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cc"/>
                </a:solidFill>
                <a:latin typeface="Times New Roman"/>
              </a:rPr>
              <a:t>modificar tanto como se pueda, uso de suelo (intensidad, localización), minimizando desplazamientos de person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cc"/>
                </a:solidFill>
                <a:latin typeface="Times New Roman"/>
              </a:rPr>
              <a:t>Facilitar la provisión de servicios de transporte públ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cc"/>
                </a:solidFill>
                <a:latin typeface="Times New Roman"/>
              </a:rPr>
              <a:t>¿cómo?: limitando expansión urbana, facilidades para realizar actividades al interior de los propios barri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70164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Arial"/>
              </a:rPr>
              <a:t>Principios, Componentes y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c0128"/>
                </a:solidFill>
                <a:latin typeface="Times New Roman"/>
              </a:rPr>
              <a:t>Componentes y Acciones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acilidades a peatones y bicicl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0d2f"/>
                </a:solidFill>
                <a:latin typeface="Times New Roman"/>
              </a:rPr>
              <a:t>Diseño de áreas para la circulación y detención de peatones (veredas, esquinas, pase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0d2f"/>
                </a:solidFill>
                <a:latin typeface="Times New Roman"/>
              </a:rPr>
              <a:t>Disposición de facilidades para el cruce de vías (refugios, islas, pasos peatonales, semáforos peatonal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0d2f"/>
                </a:solidFill>
                <a:latin typeface="Times New Roman"/>
              </a:rPr>
              <a:t>Diseño de ciclopistas, ciclovías y sus cruces con otras vías (calles, veredas, líneas férrea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0d2f"/>
                </a:solidFill>
                <a:latin typeface="Times New Roman"/>
              </a:rPr>
              <a:t>Provisión de estacionamientos de biciclos en centros comerciales y/o de servicios, estaciones de metros y terminales de bu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70164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Arial"/>
              </a:rPr>
              <a:t>Principios, Componentes y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c0128"/>
                </a:solidFill>
                <a:latin typeface="Times New Roman"/>
              </a:rPr>
              <a:t>Componentes y Acciones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acilidades al transporte públ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0d2f"/>
                </a:solidFill>
                <a:latin typeface="Times New Roman"/>
              </a:rPr>
              <a:t>Generación de pistas, vías o calles sólo bus, facilidades en virajes, prioridad en semáfo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0d2f"/>
                </a:solidFill>
                <a:latin typeface="Times New Roman"/>
              </a:rPr>
              <a:t>Diseño de paraderos (localización, operación, diseño de áreas de parada y anden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0d2f"/>
                </a:solidFill>
                <a:latin typeface="Times New Roman"/>
              </a:rPr>
              <a:t>Mejoramiento de los puntos de transferencia de pasajeros en estaciones de metro y/o trenes, en terminales de buses urba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70164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Arial"/>
              </a:rPr>
              <a:t>Principios, Componentes y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c0128"/>
                </a:solidFill>
                <a:latin typeface="Times New Roman"/>
              </a:rPr>
              <a:t>Componentes y Acciones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Control de Estacionami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0d2f"/>
                </a:solidFill>
                <a:latin typeface="Times New Roman"/>
              </a:rPr>
              <a:t>Control de los estacionamientos en la calzada (prohibición o autorización restringid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0d2f"/>
                </a:solidFill>
                <a:latin typeface="Times New Roman"/>
              </a:rPr>
              <a:t>Regulación fuera de la calzada (no residenciales, residenciales de alta densidad, centros comercial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0d2f"/>
                </a:solidFill>
                <a:latin typeface="Times New Roman"/>
              </a:rPr>
              <a:t>Provisión de especiales para usuarios con problemas (minusválidos, enfermos, personas con niños o paque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0d2f"/>
                </a:solidFill>
                <a:latin typeface="Times New Roman"/>
              </a:rPr>
              <a:t>Creación de larga estadía en puntos de intercambio con transporte público (estaciones de metro, trenes, terminales o paraderos de bus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0d2f"/>
                </a:solidFill>
                <a:latin typeface="Times New Roman"/>
              </a:rPr>
              <a:t>Diseño de corta estadía para tomar y dejar pasajeros (paradas de buses y metro, colegios, hospitales, et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70164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Arial"/>
              </a:rPr>
              <a:t>Principios, Componentes y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c0128"/>
                </a:solidFill>
                <a:latin typeface="Times New Roman"/>
              </a:rPr>
              <a:t>Componentes y Acciones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diseño v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0d2f"/>
                </a:solidFill>
                <a:latin typeface="Times New Roman"/>
              </a:rPr>
              <a:t>Apertura, cierre, cambio de uso de conexiones viales menores (vehicular a peatonal o vicevers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0d2f"/>
                </a:solidFill>
                <a:latin typeface="Times New Roman"/>
              </a:rPr>
              <a:t>Rediseño geométrico de ejes viales e intersecciones (alineación, anchos, medianas, islas, paraderos de buses, bandas de estacionamiento, vereda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0d2f"/>
                </a:solidFill>
                <a:latin typeface="Times New Roman"/>
              </a:rPr>
              <a:t>Mejoramiento de pavimentos (cambio de carpeta, uso de texturas, pig</a:t>
            </a:r>
            <a:r>
              <a:rPr b="0" lang="es-ES_tradnl" sz="2000" spc="-1" strike="noStrike">
                <a:solidFill>
                  <a:srgbClr val="010d2f"/>
                </a:solidFill>
                <a:latin typeface="Times New Roman"/>
              </a:rPr>
              <a:t>m</a:t>
            </a:r>
            <a:r>
              <a:rPr b="0" lang="es-ES" sz="2000" spc="-1" strike="noStrike">
                <a:solidFill>
                  <a:srgbClr val="010d2f"/>
                </a:solidFill>
                <a:latin typeface="Times New Roman"/>
              </a:rPr>
              <a:t>e</a:t>
            </a:r>
            <a:r>
              <a:rPr b="0" lang="es-ES_tradnl" sz="2000" spc="-1" strike="noStrike">
                <a:solidFill>
                  <a:srgbClr val="010d2f"/>
                </a:solidFill>
                <a:latin typeface="Times New Roman"/>
              </a:rPr>
              <a:t>n</a:t>
            </a:r>
            <a:r>
              <a:rPr b="0" lang="es-ES" sz="2000" spc="-1" strike="noStrike">
                <a:solidFill>
                  <a:srgbClr val="010d2f"/>
                </a:solidFill>
                <a:latin typeface="Times New Roman"/>
              </a:rPr>
              <a:t>t</a:t>
            </a:r>
            <a:r>
              <a:rPr b="0" lang="es-ES_tradnl" sz="2000" spc="-1" strike="noStrike">
                <a:solidFill>
                  <a:srgbClr val="010d2f"/>
                </a:solidFill>
                <a:latin typeface="Times New Roman"/>
              </a:rPr>
              <a:t>ación</a:t>
            </a:r>
            <a:r>
              <a:rPr b="0" lang="es-ES" sz="2000" spc="-1" strike="noStrike">
                <a:solidFill>
                  <a:srgbClr val="010d2f"/>
                </a:solidFill>
                <a:latin typeface="Times New Roman"/>
              </a:rPr>
              <a:t> y elevación para fines específic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70164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Arial"/>
              </a:rPr>
              <a:t>Principios, Componentes y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c0128"/>
                </a:solidFill>
                <a:latin typeface="Times New Roman"/>
              </a:rPr>
              <a:t>Componentes y Acciones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iscalización, Control, Evalu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0d2f"/>
                </a:solidFill>
                <a:latin typeface="Times New Roman"/>
              </a:rPr>
              <a:t>Información y difusión mediante prensa, folletos, campañas, charlas o reun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0d2f"/>
                </a:solidFill>
                <a:latin typeface="Times New Roman"/>
              </a:rPr>
              <a:t>Fiscalización mediante inspección y sanciones periód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0d2f"/>
                </a:solidFill>
                <a:latin typeface="Times New Roman"/>
              </a:rPr>
              <a:t>Control técnico (observación, medición, evaluación ex-post y ajus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70164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Arial"/>
              </a:rPr>
              <a:t>Gestión Integral de Tráns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c0128"/>
                </a:solidFill>
                <a:latin typeface="Times New Roman"/>
              </a:rPr>
              <a:t>Objetivos generales de la planificación en áreas urb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Times New Roman"/>
              </a:rPr>
              <a:t>Largo Plaz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cc"/>
                </a:solidFill>
                <a:latin typeface="Times New Roman"/>
              </a:rPr>
              <a:t>Influir tanto como sea posible, en la partición modal, de manera que los sistemas disponibles sean utilizados con un máximo beneficio so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76767"/>
                </a:solidFill>
                <a:latin typeface="Times New Roman"/>
              </a:rPr>
              <a:t>Controlar ciertos modos de transporte en determinadas zonas en post de la calidad del entorno urban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cc"/>
                </a:solidFill>
                <a:latin typeface="Times New Roman"/>
              </a:rPr>
              <a:t>Sólo donde los medios de Tpte. sean inadecuados y no se pueda aumentar su eficiencia, asegurar que recursos sean usados en nuevos sistemas o para la complementación de los existen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76767"/>
                </a:solidFill>
                <a:latin typeface="Times New Roman"/>
              </a:rPr>
              <a:t>Inversiones para conformar red vial jerarqu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76767"/>
                </a:solidFill>
                <a:latin typeface="Times New Roman"/>
              </a:rPr>
              <a:t>Redes complementarias de TP masivo y Tpte. No motoriz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c0128"/>
                </a:solidFill>
                <a:latin typeface="Times New Roman"/>
              </a:rPr>
              <a:t>A estos objetivos debe estar subordinada la Gestión Integral de Tránsi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70164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Arial"/>
              </a:rPr>
              <a:t>Gestión Integral de Tráns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c0128"/>
                </a:solidFill>
                <a:latin typeface="Times New Roman"/>
              </a:rPr>
              <a:t>en consecuencia, los objetivos de la GI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optimizar la capacidad y el funcionamiento de la infraestructura vial urbana existente (vías, intersecciones, terminales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segurar una adecuada accesibilidad a las actividades urbanas por parte de todos los grupos ciudadanos (peatones, pasajeros, automovilistas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proveer un buen nivel de servicio a aquellos modos que hacen un uso más eficiente del espacio vial urbano (transporte público, biciclos, peatones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proteger al medio ambiente urbano y a todos sus habitantes de los efectos negativos derivados del tráfico (accidentes, ruido, polución, segregación, impactos estético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spcBef>
                <a:spcPts val="451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Dados estos objetivos, es fácil ver que van más allá de la </a:t>
            </a:r>
            <a:r>
              <a:rPr b="0" i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mera eficiencia económica </a:t>
            </a:r>
            <a:r>
              <a:rPr b="0" i="1" lang="es-ES_tradnl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(optimizar la infraestructura) o tratar de </a:t>
            </a:r>
            <a:r>
              <a:rPr b="0" i="1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ducir la congestión</a:t>
            </a:r>
            <a:r>
              <a:rPr b="0" i="1" lang="es-ES_tradnl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(mejorar el nivel de servicio del modo auto), sino que incorporan además consideraciones </a:t>
            </a:r>
            <a:r>
              <a:rPr b="1" i="1" lang="es-ES_tradnl" sz="1800" spc="-1" strike="noStrike">
                <a:solidFill>
                  <a:srgbClr val="21ff07"/>
                </a:solidFill>
                <a:latin typeface="Times New Roman"/>
                <a:ea typeface="Times New Roman"/>
              </a:rPr>
              <a:t>sociales y ambientales</a:t>
            </a:r>
            <a:r>
              <a:rPr b="1" i="1" lang="es-ES_tradnl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70164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Arial"/>
              </a:rPr>
              <a:t>Principios, Componentes y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c0128"/>
                </a:solidFill>
                <a:latin typeface="Times New Roman"/>
              </a:rPr>
              <a:t>Principios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La GIT debe ser una actividad </a:t>
            </a:r>
            <a:r>
              <a:rPr b="0" lang="es-ES_tradnl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permanente</a:t>
            </a:r>
            <a:r>
              <a:rPr b="0" lang="es-ES_tradnl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destinada a mejorar el desplazamiento de todas las personas (no sólo de los vehículos) en toda un área urbana a través de conjuntos de medidas coherentes y coordinad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cciones individuales sobre lugares aislados </a:t>
            </a:r>
            <a:r>
              <a:rPr b="0" lang="es-ES_tradnl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deben ser evitadas</a:t>
            </a:r>
            <a:r>
              <a:rPr b="0" lang="es-ES_tradnl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Cualquier medida de GIT debe estar en concordancia con una </a:t>
            </a:r>
            <a:r>
              <a:rPr b="0" lang="es-ES_tradnl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jerarquización de las vías urbanas</a:t>
            </a:r>
            <a:r>
              <a:rPr b="0" lang="es-ES_tradnl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que defina categorías de calles en base a las funciones que éstas cumplirán y de acuerdo con las actividades predominantes que tienen lugar en sus márgenes. (Department of Transport UK, 1963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70164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Arial"/>
              </a:rPr>
              <a:t>Principios, Componentes y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c0128"/>
                </a:solidFill>
                <a:latin typeface="Times New Roman"/>
              </a:rPr>
              <a:t>Principios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l centro de la ciudad (o los centros locales) debe poseer buena accesibilid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10d2f"/>
                </a:solidFill>
                <a:latin typeface="Times New Roman"/>
                <a:ea typeface="Times New Roman"/>
              </a:rPr>
              <a:t>Las actividades que tienen lugar en el centro hacen que la principal forma de desplazamiento por él sea caminando. Luego, la actividad vehicular deberá subordinarse a la peatonal y la locomoción colectiva deberá tener prioridad por sobre los automóviles. Como consecuencia, no deben existir estacionamientos en el centro, sino que éstos deben ubicarse en su periferia y relacionados con terminales de servicios transporte público de acercamiento. En el centro deben existir terminales y áreas de intercambio entre pasajeros del transporte público ubicados en lugares de alta demanda de viajes, de modo de garantizar una buena accesibilidad por este mo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Las áreas residenciales deben ser protegidas y aisladas del tráfico de paso y/o a altas velocidades a través de ellas, a fin de preservar su calidad ambient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00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10d2f"/>
                </a:solidFill>
                <a:latin typeface="Times New Roman"/>
                <a:ea typeface="Times New Roman"/>
              </a:rPr>
              <a:t>Las actividades fundamentales en las calles que conforman la red local es el acceso a la propiedad, ya sea caminando o en automóvil, y la actividad social comunitaria. Luego, éstas deben ser privilegiadas con trazados viales para bajas velocidades, plazas, vías peatonales y ciclovías. Además, en las áreas residenciales debe existir buena accesibilidad peatonal desde y hacia los servicios de transporte público y éstos deben preferentemente circular por sus calles periféric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70164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Arial"/>
              </a:rPr>
              <a:t>Principios, Componentes y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c0128"/>
                </a:solidFill>
                <a:latin typeface="Times New Roman"/>
              </a:rPr>
              <a:t>Principios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La accesibilidad a las actividades urbanas por el modo auto debe ser convenientemente incorporada a la gest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10d2f"/>
                </a:solidFill>
                <a:latin typeface="Times New Roman"/>
                <a:ea typeface="Times New Roman"/>
              </a:rPr>
              <a:t>Los centros de servicios y educacionales deben proveer lugares de estacionamiento de corta estadía en la calzada, debidamente diseñados en función de la demanda y preferentemente segregados del tráfico de pas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10d2f"/>
                </a:solidFill>
                <a:latin typeface="Times New Roman"/>
                <a:ea typeface="Times New Roman"/>
              </a:rPr>
              <a:t>También los centros comerciales, recreacionales, terminales de transporte público, etc., situados en áreas residenciales deben disponer de estacionamientos de mediana estadía dentro de sus predios (Crow, 1989b).</a:t>
            </a:r>
            <a:r>
              <a:rPr b="0" lang="es-ES" sz="1600" spc="-1" strike="noStrike">
                <a:solidFill>
                  <a:srgbClr val="010d2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70164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Arial"/>
              </a:rPr>
              <a:t>Principios, Componentes y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Componentes y Acciones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Jerarquización v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Definición de las redes viales primarias, secundarias y locales en concordancia con sus funciones y con el sistema de actividades del entor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590920" y="3124080"/>
          <a:ext cx="4190760" cy="2743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124080"/>
                    <a:ext cx="4190760" cy="2743200"/>
                  </a:xfrm>
                  <a:prstGeom prst="rect">
                    <a:avLst/>
                  </a:prstGeom>
                  <a:ln w="57240">
                    <a:solidFill>
                      <a:srgbClr val="474747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70164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Arial"/>
              </a:rPr>
              <a:t>Principios, Componentes y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c0128"/>
                </a:solidFill>
                <a:latin typeface="Times New Roman"/>
              </a:rPr>
              <a:t>Componentes y Acciones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gulación de Ví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0d2f"/>
                </a:solidFill>
                <a:latin typeface="Times New Roman"/>
              </a:rPr>
              <a:t>Definición de sentidos de circulación (único, doble o reversib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0d2f"/>
                </a:solidFill>
                <a:latin typeface="Times New Roman"/>
              </a:rPr>
              <a:t>Restricción o prioridad de circulación por tipo de vehículo o por tasa de ocup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0d2f"/>
                </a:solidFill>
                <a:latin typeface="Times New Roman"/>
              </a:rPr>
              <a:t>Imposición de límites de velocidad, peso o tama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0d2f"/>
                </a:solidFill>
                <a:latin typeface="Times New Roman"/>
              </a:rPr>
              <a:t>Prohibición o autorización de maniobras de adelantamientos, virajes o deten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0d2f"/>
                </a:solidFill>
                <a:latin typeface="Times New Roman"/>
              </a:rPr>
              <a:t>Regulación de operaciones de carga y descarga, de paradas de buses, de estacion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0d2f"/>
                </a:solidFill>
                <a:latin typeface="Times New Roman"/>
              </a:rPr>
              <a:t>Señalización y demarcación informativa y prohibitiva (líneas centrales, asignación de pista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70164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Arial"/>
              </a:rPr>
              <a:t>Principios, Componentes y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c0128"/>
                </a:solidFill>
                <a:latin typeface="Times New Roman"/>
              </a:rPr>
              <a:t>Componentes y Acciones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Gestión de Intersec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0d2f"/>
                </a:solidFill>
                <a:latin typeface="Times New Roman"/>
              </a:rPr>
              <a:t>Definición de su forma de operación básica (señal prioridad, rotonda, semáfor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0d2f"/>
                </a:solidFill>
                <a:latin typeface="Times New Roman"/>
              </a:rPr>
              <a:t>Determinación del tipo de regla de prioridad (intrínseca, pare o ceda el pas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0d2f"/>
                </a:solidFill>
                <a:latin typeface="Times New Roman"/>
              </a:rPr>
              <a:t>Programación de semáforos aislados, en redes, peatonales o especi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0d2f"/>
                </a:solidFill>
                <a:latin typeface="Times New Roman"/>
              </a:rPr>
              <a:t>Canalización de movimientos de virajes, cruce, y para maniobras específ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e9b03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0d2f"/>
                </a:solidFill>
                <a:latin typeface="Times New Roman"/>
              </a:rPr>
              <a:t>Señalización y demarcación informativa, prohibitiva (asignación de pistas, líneas de detención, cruces peatonal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06T19:35:28Z</dcterms:created>
  <dc:creator>EVF-RFA</dc:creator>
  <dc:description/>
  <dc:language>en-US</dc:language>
  <cp:lastModifiedBy>.</cp:lastModifiedBy>
  <cp:lastPrinted>1997-08-22T15:19:52Z</cp:lastPrinted>
  <dcterms:modified xsi:type="dcterms:W3CDTF">2001-07-31T21:01:49Z</dcterms:modified>
  <cp:revision>315</cp:revision>
  <dc:subject/>
  <dc:title>Gestión de Tránsit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50594690</vt:r8>
  </property>
  <property fmtid="{D5CDD505-2E9C-101B-9397-08002B2CF9AE}" pid="3" name="_AuthorEmail">
    <vt:lpwstr>evalenza@ing.uchile.cl</vt:lpwstr>
  </property>
  <property fmtid="{D5CDD505-2E9C-101B-9397-08002B2CF9AE}" pid="4" name="_AuthorEmailDisplayName">
    <vt:lpwstr>Eduardo Valenzuela Freraut</vt:lpwstr>
  </property>
  <property fmtid="{D5CDD505-2E9C-101B-9397-08002B2CF9AE}" pid="5" name="_EmailSubject">
    <vt:lpwstr>clases </vt:lpwstr>
  </property>
</Properties>
</file>