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C40E-D14A-411A-9B19-09F9FDB6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0FA-6E01-4953-8DD3-315CD80D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C4C-3089-473D-861E-48EDBA5DF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10B0-DB1A-43F3-B2CA-52275DB8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CA5-9469-4969-A652-825E8EE2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400-0503-4519-BA2C-AC9F6145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80A-F99A-4D0A-A044-1968DE44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358A-48F5-4350-8BB7-46331505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0B7-A5DF-4F31-AFEC-277C733D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A9A-AB55-41AA-8EFE-286924F4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E45-46BC-4430-81FF-0348DB94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CD4-8FAB-41DD-9790-C5DF2383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4F38-A03B-4238-90AF-F69BB82861B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6800" y="83808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y Estimación d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981080"/>
            <a:ext cx="5943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ivos y métodos de med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Veh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s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de C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ámetros de Capacidad en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38280" y="1000080"/>
            <a:ext cx="5610240" cy="5400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53352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ORMULARIO MEDI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3300"/>
                </a:solidFill>
                <a:latin typeface="Arial"/>
                <a:ea typeface="Arial"/>
              </a:rPr>
              <a:t>FLUJO SATURACION Y TIEMPOS DESAPROVECH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4280" y="6916680"/>
            <a:ext cx="1098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63760" y="67788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64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6880" y="6778800"/>
            <a:ext cx="5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988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758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326680" y="694692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06480" y="694692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91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89160" y="664200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2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4808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0800" y="677880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Times New Roman"/>
              </a:rPr>
              <a:t>36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4948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66080" y="6923160"/>
            <a:ext cx="125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26600" y="692316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013040" y="6754680"/>
            <a:ext cx="172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42400" y="677880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838080" y="7315200"/>
            <a:ext cx="2210040" cy="6094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317600" y="8339040"/>
            <a:ext cx="2476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77080" y="84772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04080" y="821052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97520" y="8364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84560" y="809784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0040" y="822168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81120" y="8201160"/>
            <a:ext cx="207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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g. (verde promedi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3480" y="7391520"/>
            <a:ext cx="29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mpo desaprovechado (se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4640" y="671976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r-pist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2120" y="8201160"/>
            <a:ext cx="14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479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to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sección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ja precisión en tipo de vehículo (# ej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us de tres ejes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to con carro de arrastre y camión de tres e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ecesidad de clasificación manual a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distinguen mov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continuas de larga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bicación espiras (mangueras, piezoeléctricos), ubicación errónea implicará ses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ejes/h],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080" y="60948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Flujo Veh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905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intersecciones (identifica movimient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a precisión en tipo de vehículo (depende del formulario utiliz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propiados para mediciones periód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veh/h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ideraciones prác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otalizar cada 15 min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observador cada 400 veh/h máx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supervisor de campo cada 15 medidores (capacitación de personal y bitácora de camp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3800" y="53352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828800"/>
            <a:ext cx="64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Menores (VL, Camionetas, Jeep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del número de pasajeros incluyendo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xis Básicos y Taxis Cole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istro directo SIN incluir 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ehículos de Carga: rara vez, salvo estudi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porte Público Mayor (buses, taxibu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osibilidad espacio-temporal de contar todos los pasaj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ecesidad de considerar categor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 categorías sólo válidas para zona donde se obtuvieron y en año correspo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0400" y="380880"/>
            <a:ext cx="41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Tasa de Ocu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9076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1066680"/>
            <a:ext cx="6247800" cy="2286000"/>
            <a:chOff x="228600" y="1066680"/>
            <a:chExt cx="6247800" cy="2286000"/>
          </a:xfrm>
        </p:grpSpPr>
        <p:grpSp>
          <p:nvGrpSpPr>
            <p:cNvPr id="58" name=""/>
            <p:cNvGrpSpPr/>
            <p:nvPr/>
          </p:nvGrpSpPr>
          <p:grpSpPr>
            <a:xfrm>
              <a:off x="228600" y="1066680"/>
              <a:ext cx="1092600" cy="380880"/>
              <a:chOff x="228600" y="1066680"/>
              <a:chExt cx="1092600" cy="380880"/>
            </a:xfrm>
          </p:grpSpPr>
          <p:sp>
            <p:nvSpPr>
              <p:cNvPr id="59" name=""/>
              <p:cNvSpPr/>
              <p:nvPr/>
            </p:nvSpPr>
            <p:spPr>
              <a:xfrm>
                <a:off x="285120" y="1066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teg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600" y="1066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321560" y="1066680"/>
              <a:ext cx="3679560" cy="380880"/>
              <a:chOff x="1321560" y="1066680"/>
              <a:chExt cx="3679560" cy="380880"/>
            </a:xfrm>
          </p:grpSpPr>
          <p:sp>
            <p:nvSpPr>
              <p:cNvPr id="62" name=""/>
              <p:cNvSpPr/>
              <p:nvPr/>
            </p:nvSpPr>
            <p:spPr>
              <a:xfrm>
                <a:off x="1378440" y="1066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fini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21560" y="1066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5001480" y="1066680"/>
              <a:ext cx="690480" cy="380880"/>
              <a:chOff x="5001480" y="1066680"/>
              <a:chExt cx="69048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5058360" y="1066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001480" y="1066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692680" y="1066680"/>
              <a:ext cx="783720" cy="380880"/>
              <a:chOff x="5692680" y="1066680"/>
              <a:chExt cx="783720" cy="380880"/>
            </a:xfrm>
          </p:grpSpPr>
          <p:sp>
            <p:nvSpPr>
              <p:cNvPr id="68" name=""/>
              <p:cNvSpPr/>
              <p:nvPr/>
            </p:nvSpPr>
            <p:spPr>
              <a:xfrm>
                <a:off x="5749200" y="1066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692680" y="1066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228600" y="1447560"/>
              <a:ext cx="1092600" cy="380880"/>
              <a:chOff x="228600" y="1447560"/>
              <a:chExt cx="1092600" cy="380880"/>
            </a:xfrm>
          </p:grpSpPr>
          <p:sp>
            <p:nvSpPr>
              <p:cNvPr id="71" name=""/>
              <p:cNvSpPr/>
              <p:nvPr/>
            </p:nvSpPr>
            <p:spPr>
              <a:xfrm>
                <a:off x="285120" y="144756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28600" y="144756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321560" y="1447560"/>
              <a:ext cx="3679560" cy="380880"/>
              <a:chOff x="1321560" y="1447560"/>
              <a:chExt cx="3679560" cy="380880"/>
            </a:xfrm>
          </p:grpSpPr>
          <p:sp>
            <p:nvSpPr>
              <p:cNvPr id="74" name=""/>
              <p:cNvSpPr/>
              <p:nvPr/>
            </p:nvSpPr>
            <p:spPr>
              <a:xfrm>
                <a:off x="1378440" y="144756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ehículo completamente ocupado, con pasajeros colgando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321560" y="144756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5001480" y="1447560"/>
              <a:ext cx="690480" cy="380880"/>
              <a:chOff x="5001480" y="1447560"/>
              <a:chExt cx="690480" cy="380880"/>
            </a:xfrm>
          </p:grpSpPr>
          <p:sp>
            <p:nvSpPr>
              <p:cNvPr id="77" name=""/>
              <p:cNvSpPr/>
              <p:nvPr/>
            </p:nvSpPr>
            <p:spPr>
              <a:xfrm>
                <a:off x="5058360" y="144756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4,2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01480" y="144756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692680" y="1447560"/>
              <a:ext cx="783720" cy="380880"/>
              <a:chOff x="5692680" y="1447560"/>
              <a:chExt cx="783720" cy="380880"/>
            </a:xfrm>
          </p:grpSpPr>
          <p:sp>
            <p:nvSpPr>
              <p:cNvPr id="80" name=""/>
              <p:cNvSpPr/>
              <p:nvPr/>
            </p:nvSpPr>
            <p:spPr>
              <a:xfrm>
                <a:off x="5749200" y="144756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3,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92680" y="144756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28600" y="1828800"/>
              <a:ext cx="1092600" cy="380880"/>
              <a:chOff x="228600" y="1828800"/>
              <a:chExt cx="1092600" cy="380880"/>
            </a:xfrm>
          </p:grpSpPr>
          <p:sp>
            <p:nvSpPr>
              <p:cNvPr id="83" name=""/>
              <p:cNvSpPr/>
              <p:nvPr/>
            </p:nvSpPr>
            <p:spPr>
              <a:xfrm>
                <a:off x="285120" y="1828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28600" y="1828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321560" y="1828800"/>
              <a:ext cx="3679560" cy="380880"/>
              <a:chOff x="1321560" y="1828800"/>
              <a:chExt cx="3679560" cy="380880"/>
            </a:xfrm>
          </p:grpSpPr>
          <p:sp>
            <p:nvSpPr>
              <p:cNvPr id="86" name=""/>
              <p:cNvSpPr/>
              <p:nvPr/>
            </p:nvSpPr>
            <p:spPr>
              <a:xfrm>
                <a:off x="1378440" y="1828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321560" y="1828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001480" y="1828800"/>
              <a:ext cx="690480" cy="380880"/>
              <a:chOff x="5001480" y="1828800"/>
              <a:chExt cx="690480" cy="380880"/>
            </a:xfrm>
          </p:grpSpPr>
          <p:sp>
            <p:nvSpPr>
              <p:cNvPr id="89" name=""/>
              <p:cNvSpPr/>
              <p:nvPr/>
            </p:nvSpPr>
            <p:spPr>
              <a:xfrm>
                <a:off x="5058360" y="1828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4,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01480" y="1828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5692680" y="1828800"/>
              <a:ext cx="783720" cy="380880"/>
              <a:chOff x="5692680" y="1828800"/>
              <a:chExt cx="783720" cy="380880"/>
            </a:xfrm>
          </p:grpSpPr>
          <p:sp>
            <p:nvSpPr>
              <p:cNvPr id="92" name=""/>
              <p:cNvSpPr/>
              <p:nvPr/>
            </p:nvSpPr>
            <p:spPr>
              <a:xfrm>
                <a:off x="5749200" y="1828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6,7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692680" y="1828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28600" y="2209680"/>
              <a:ext cx="1092600" cy="380880"/>
              <a:chOff x="228600" y="2209680"/>
              <a:chExt cx="1092600" cy="380880"/>
            </a:xfrm>
          </p:grpSpPr>
          <p:sp>
            <p:nvSpPr>
              <p:cNvPr id="95" name=""/>
              <p:cNvSpPr/>
              <p:nvPr/>
            </p:nvSpPr>
            <p:spPr>
              <a:xfrm>
                <a:off x="285120" y="220968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220968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21560" y="2209680"/>
              <a:ext cx="3679560" cy="380880"/>
              <a:chOff x="1321560" y="2209680"/>
              <a:chExt cx="3679560" cy="380880"/>
            </a:xfrm>
          </p:grpSpPr>
          <p:sp>
            <p:nvSpPr>
              <p:cNvPr id="98" name=""/>
              <p:cNvSpPr/>
              <p:nvPr/>
            </p:nvSpPr>
            <p:spPr>
              <a:xfrm>
                <a:off x="1378440" y="220968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l pasillo con pasajeros de pi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21560" y="220968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5001480" y="2209680"/>
              <a:ext cx="690480" cy="380880"/>
              <a:chOff x="5001480" y="2209680"/>
              <a:chExt cx="690480" cy="380880"/>
            </a:xfrm>
          </p:grpSpPr>
          <p:sp>
            <p:nvSpPr>
              <p:cNvPr id="101" name=""/>
              <p:cNvSpPr/>
              <p:nvPr/>
            </p:nvSpPr>
            <p:spPr>
              <a:xfrm>
                <a:off x="5058360" y="220968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7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001480" y="220968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92680" y="2209680"/>
              <a:ext cx="783720" cy="380880"/>
              <a:chOff x="5692680" y="2209680"/>
              <a:chExt cx="783720" cy="380880"/>
            </a:xfrm>
          </p:grpSpPr>
          <p:sp>
            <p:nvSpPr>
              <p:cNvPr id="104" name=""/>
              <p:cNvSpPr/>
              <p:nvPr/>
            </p:nvSpPr>
            <p:spPr>
              <a:xfrm>
                <a:off x="5749200" y="220968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,6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692680" y="220968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8600" y="2590920"/>
              <a:ext cx="1092600" cy="380880"/>
              <a:chOff x="228600" y="2590920"/>
              <a:chExt cx="1092600" cy="380880"/>
            </a:xfrm>
          </p:grpSpPr>
          <p:sp>
            <p:nvSpPr>
              <p:cNvPr id="107" name=""/>
              <p:cNvSpPr/>
              <p:nvPr/>
            </p:nvSpPr>
            <p:spPr>
              <a:xfrm>
                <a:off x="285120" y="259092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8600" y="259092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321560" y="2590920"/>
              <a:ext cx="3679560" cy="380880"/>
              <a:chOff x="1321560" y="2590920"/>
              <a:chExt cx="3679560" cy="380880"/>
            </a:xfrm>
          </p:grpSpPr>
          <p:sp>
            <p:nvSpPr>
              <p:cNvPr id="110" name=""/>
              <p:cNvSpPr/>
              <p:nvPr/>
            </p:nvSpPr>
            <p:spPr>
              <a:xfrm>
                <a:off x="1378440" y="259092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á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21560" y="259092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5001480" y="2590920"/>
              <a:ext cx="690480" cy="380880"/>
              <a:chOff x="5001480" y="2590920"/>
              <a:chExt cx="690480" cy="380880"/>
            </a:xfrm>
          </p:grpSpPr>
          <p:sp>
            <p:nvSpPr>
              <p:cNvPr id="113" name=""/>
              <p:cNvSpPr/>
              <p:nvPr/>
            </p:nvSpPr>
            <p:spPr>
              <a:xfrm>
                <a:off x="5058360" y="259092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,3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1480" y="259092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692680" y="2590920"/>
              <a:ext cx="783720" cy="380880"/>
              <a:chOff x="5692680" y="2590920"/>
              <a:chExt cx="783720" cy="380880"/>
            </a:xfrm>
          </p:grpSpPr>
          <p:sp>
            <p:nvSpPr>
              <p:cNvPr id="116" name=""/>
              <p:cNvSpPr/>
              <p:nvPr/>
            </p:nvSpPr>
            <p:spPr>
              <a:xfrm>
                <a:off x="5749200" y="259092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,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92680" y="259092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28600" y="2971800"/>
              <a:ext cx="1092600" cy="380880"/>
              <a:chOff x="228600" y="2971800"/>
              <a:chExt cx="1092600" cy="380880"/>
            </a:xfrm>
          </p:grpSpPr>
          <p:sp>
            <p:nvSpPr>
              <p:cNvPr id="119" name=""/>
              <p:cNvSpPr/>
              <p:nvPr/>
            </p:nvSpPr>
            <p:spPr>
              <a:xfrm>
                <a:off x="285120" y="2971800"/>
                <a:ext cx="979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600" y="2971800"/>
                <a:ext cx="109260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321560" y="2971800"/>
              <a:ext cx="3679560" cy="380880"/>
              <a:chOff x="1321560" y="2971800"/>
              <a:chExt cx="367956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1378440" y="2971800"/>
                <a:ext cx="35658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enos de la mitad de los asientos ocupado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21560" y="2971800"/>
                <a:ext cx="367956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5001480" y="2971800"/>
              <a:ext cx="690480" cy="380880"/>
              <a:chOff x="5001480" y="2971800"/>
              <a:chExt cx="690480" cy="380880"/>
            </a:xfrm>
          </p:grpSpPr>
          <p:sp>
            <p:nvSpPr>
              <p:cNvPr id="125" name=""/>
              <p:cNvSpPr/>
              <p:nvPr/>
            </p:nvSpPr>
            <p:spPr>
              <a:xfrm>
                <a:off x="5058360" y="2971800"/>
                <a:ext cx="5763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9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01480" y="2971800"/>
                <a:ext cx="69048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5692680" y="2971800"/>
              <a:ext cx="783720" cy="380880"/>
              <a:chOff x="5692680" y="2971800"/>
              <a:chExt cx="783720" cy="380880"/>
            </a:xfrm>
          </p:grpSpPr>
          <p:sp>
            <p:nvSpPr>
              <p:cNvPr id="128" name=""/>
              <p:cNvSpPr/>
              <p:nvPr/>
            </p:nvSpPr>
            <p:spPr>
              <a:xfrm>
                <a:off x="5749200" y="2971800"/>
                <a:ext cx="6699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,4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92680" y="2971800"/>
                <a:ext cx="783720" cy="380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304920" y="6400800"/>
            <a:ext cx="60958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tgo, CV=0,2 lo que implica n=60 obs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glas sistemáticas del estilo: 1 cada 5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62320" y="3592440"/>
                <a:ext cx="142848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304920" y="4419720"/>
            <a:ext cx="609588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Z, nivel de significancia estadística asumiendo una función de distribución específica (normal: Z=1,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, coeficiente de variación de la variable a medir (desviación estándar / med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, error aceptado en la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160" y="3808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 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192640" y="5257800"/>
            <a:ext cx="1023480" cy="309600"/>
            <a:chOff x="5192640" y="5257800"/>
            <a:chExt cx="1023480" cy="309600"/>
          </a:xfrm>
        </p:grpSpPr>
        <p:sp>
          <p:nvSpPr>
            <p:cNvPr id="136" name=""/>
            <p:cNvSpPr/>
            <p:nvPr/>
          </p:nvSpPr>
          <p:spPr>
            <a:xfrm flipH="1">
              <a:off x="5192640" y="55292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43040" y="52578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5040" y="53341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54120" y="52578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891760" y="54914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891760" y="52578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532440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5324400" y="54864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059280" y="5029200"/>
            <a:ext cx="1023480" cy="309600"/>
            <a:chOff x="3059280" y="5029200"/>
            <a:chExt cx="1023480" cy="309600"/>
          </a:xfrm>
        </p:grpSpPr>
        <p:sp>
          <p:nvSpPr>
            <p:cNvPr id="146" name=""/>
            <p:cNvSpPr/>
            <p:nvPr/>
          </p:nvSpPr>
          <p:spPr>
            <a:xfrm flipH="1">
              <a:off x="3059280" y="530064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109680" y="502920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271680" y="510552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9104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20760" y="502920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8400" y="526284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758400" y="502920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3191040" y="50292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191040" y="525780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49240" y="5181480"/>
            <a:ext cx="1023480" cy="309600"/>
            <a:chOff x="849240" y="5181480"/>
            <a:chExt cx="1023480" cy="309600"/>
          </a:xfrm>
        </p:grpSpPr>
        <p:sp>
          <p:nvSpPr>
            <p:cNvPr id="156" name=""/>
            <p:cNvSpPr/>
            <p:nvPr/>
          </p:nvSpPr>
          <p:spPr>
            <a:xfrm flipH="1">
              <a:off x="849240" y="5452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99640" y="5181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1640" y="5257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100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10720" y="5181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48360" y="5415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548360" y="5181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981000" y="5181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981000" y="5410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52280" y="83808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loc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ónde: tramos de v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po me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tantánea (rad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ercial o de viaje (método patentes o vehículo flota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rrido o en movimiento (seguimie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dades: [km/h], [m/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8120" y="4038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8769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79132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160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1880" y="457200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6400800"/>
            <a:ext cx="3210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9680" y="6415200"/>
            <a:ext cx="28753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ugar, Período, tipo vehíc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Hora (hh:mm: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tente (xx-12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01992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29280" y="601992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192640" y="1752480"/>
            <a:ext cx="1023480" cy="309600"/>
            <a:chOff x="5192640" y="1752480"/>
            <a:chExt cx="1023480" cy="309600"/>
          </a:xfrm>
        </p:grpSpPr>
        <p:sp>
          <p:nvSpPr>
            <p:cNvPr id="177" name=""/>
            <p:cNvSpPr/>
            <p:nvPr/>
          </p:nvSpPr>
          <p:spPr>
            <a:xfrm flipH="1">
              <a:off x="5192640" y="20239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43040" y="17524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05040" y="18288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54120" y="17524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91760" y="19861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891760" y="17524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532440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5324400" y="19810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059280" y="1523880"/>
            <a:ext cx="1023480" cy="309600"/>
            <a:chOff x="3059280" y="1523880"/>
            <a:chExt cx="1023480" cy="309600"/>
          </a:xfrm>
        </p:grpSpPr>
        <p:sp>
          <p:nvSpPr>
            <p:cNvPr id="187" name=""/>
            <p:cNvSpPr/>
            <p:nvPr/>
          </p:nvSpPr>
          <p:spPr>
            <a:xfrm flipH="1">
              <a:off x="3059280" y="179532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09680" y="152388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71680" y="160020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9104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0760" y="152388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58400" y="175752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3758400" y="152388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91040" y="15238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191040" y="175248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849240" y="1676520"/>
            <a:ext cx="1023480" cy="309600"/>
            <a:chOff x="849240" y="1676520"/>
            <a:chExt cx="1023480" cy="309600"/>
          </a:xfrm>
        </p:grpSpPr>
        <p:sp>
          <p:nvSpPr>
            <p:cNvPr id="197" name=""/>
            <p:cNvSpPr/>
            <p:nvPr/>
          </p:nvSpPr>
          <p:spPr>
            <a:xfrm flipH="1">
              <a:off x="849240" y="1947960"/>
              <a:ext cx="80640" cy="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99640" y="1676520"/>
              <a:ext cx="973080" cy="3049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61640" y="1752840"/>
              <a:ext cx="486360" cy="152280"/>
            </a:xfrm>
            <a:prstGeom prst="rect">
              <a:avLst/>
            </a:prstGeom>
            <a:noFill/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8100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10720" y="1676520"/>
              <a:ext cx="0" cy="3049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48360" y="1910160"/>
              <a:ext cx="162360" cy="7596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548360" y="1676520"/>
              <a:ext cx="16236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981000" y="16765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81000" y="1905120"/>
              <a:ext cx="80640" cy="7632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-1800" y="609480"/>
            <a:ext cx="31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étodo de las Pa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3716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286000"/>
            <a:ext cx="62452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2160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1880" y="1066680"/>
            <a:ext cx="1440" cy="1828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2160" y="2743200"/>
            <a:ext cx="332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 n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to flujo veh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ncronización de reloj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5120" y="251460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29280" y="2514600"/>
            <a:ext cx="15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ngitud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1880" y="3962520"/>
            <a:ext cx="2483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areo de Pat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gi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47640" y="5715000"/>
                <a:ext cx="5518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tempor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'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'</m:t>
                        </m:r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571680" y="7189920"/>
                <a:ext cx="567684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elocidad espacial: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t</m:t>
                            </m:r>
                          </m:e>
                        </m:acc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72520" y="54100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¿Qué Veloc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000" y="457200"/>
            <a:ext cx="426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Medición del Flujo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106668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sólo a intersecciones semafor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proceso real se idealiza, definiéndose un diagrama binario que considera tre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2120" y="2133720"/>
            <a:ext cx="5409720" cy="3006360"/>
            <a:chOff x="762120" y="2133720"/>
            <a:chExt cx="5409720" cy="3006360"/>
          </a:xfrm>
        </p:grpSpPr>
        <p:sp>
          <p:nvSpPr>
            <p:cNvPr id="222" name=""/>
            <p:cNvSpPr/>
            <p:nvPr/>
          </p:nvSpPr>
          <p:spPr>
            <a:xfrm flipV="1">
              <a:off x="1720800" y="2356200"/>
              <a:ext cx="0" cy="20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20800" y="4360680"/>
              <a:ext cx="4040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09680" y="2133720"/>
              <a:ext cx="2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98240" y="4138200"/>
              <a:ext cx="27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05520" y="2857320"/>
              <a:ext cx="1711800" cy="0"/>
            </a:xfrm>
            <a:prstGeom prst="line">
              <a:avLst/>
            </a:prstGeom>
            <a:ln cap="rnd" w="22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515600" y="2689920"/>
              <a:ext cx="1278000" cy="1669320"/>
              <a:chOff x="1515600" y="2689920"/>
              <a:chExt cx="1278000" cy="1669320"/>
            </a:xfrm>
          </p:grpSpPr>
          <p:sp>
            <p:nvSpPr>
              <p:cNvPr id="228" name=""/>
              <p:cNvSpPr/>
              <p:nvPr/>
            </p:nvSpPr>
            <p:spPr>
              <a:xfrm flipV="1">
                <a:off x="1515600" y="2689560"/>
                <a:ext cx="68400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 rot="10517400">
                <a:off x="2193120" y="2853360"/>
                <a:ext cx="546480" cy="1335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95400" y="2689920"/>
              <a:ext cx="1277280" cy="1669320"/>
              <a:chOff x="3695400" y="2689920"/>
              <a:chExt cx="1277280" cy="1669320"/>
            </a:xfrm>
          </p:grpSpPr>
          <p:sp>
            <p:nvSpPr>
              <p:cNvPr id="231" name=""/>
              <p:cNvSpPr/>
              <p:nvPr/>
            </p:nvSpPr>
            <p:spPr>
              <a:xfrm flipH="1" flipV="1">
                <a:off x="4289400" y="2689560"/>
                <a:ext cx="683280" cy="166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 rot="11082600">
                <a:off x="3749400" y="2853720"/>
                <a:ext cx="546480" cy="1335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 rot="16075200">
              <a:off x="2046240" y="4226040"/>
              <a:ext cx="167040" cy="5475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4040 h 547560"/>
                <a:gd name="textAreaBottom" fmla="*/ 533520 h 5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6075200">
              <a:off x="4205160" y="4260240"/>
              <a:ext cx="167040" cy="479160"/>
            </a:xfrm>
            <a:custGeom>
              <a:avLst/>
              <a:gdLst>
                <a:gd name="textAreaLeft" fmla="*/ 106920 w 167040"/>
                <a:gd name="textAreaRight" fmla="*/ 167400 w 167040"/>
                <a:gd name="textAreaTop" fmla="*/ 12240 h 479160"/>
                <a:gd name="textAreaBottom" fmla="*/ 466920 h 47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6191000">
              <a:off x="3124440" y="3695040"/>
              <a:ext cx="201600" cy="1642320"/>
            </a:xfrm>
            <a:custGeom>
              <a:avLst/>
              <a:gdLst>
                <a:gd name="textAreaLeft" fmla="*/ 128880 w 201600"/>
                <a:gd name="textAreaRight" fmla="*/ 201960 w 201600"/>
                <a:gd name="textAreaTop" fmla="*/ 42840 h 1642320"/>
                <a:gd name="textAreaBottom" fmla="*/ 1599480 h 164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23120" y="4692600"/>
              <a:ext cx="41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21840" y="4692600"/>
              <a:ext cx="41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186080" y="46926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0552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49280" y="2913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583640" y="2857320"/>
              <a:ext cx="753120" cy="1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7320" y="2635560"/>
              <a:ext cx="54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26000" y="4917600"/>
              <a:ext cx="2602080" cy="222480"/>
            </a:xfrm>
            <a:prstGeom prst="rect">
              <a:avLst/>
            </a:prstGeom>
            <a:solidFill>
              <a:srgbClr val="21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49280" y="4917600"/>
              <a:ext cx="342000" cy="222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91640" y="4917600"/>
              <a:ext cx="130104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2120" y="4912920"/>
              <a:ext cx="1163880" cy="222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228600" y="556272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servar vehículos por pista, durante tres interva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primeros 10 s o 6 a 7 vehículos (transición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o del período de verde </a:t>
            </a: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SATU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marillo más el ro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ólo Vehículos que estuvieron en c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9907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Times New Roman"/>
              </a:rPr>
              <a:t>Regist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elativo del ciclo del semáf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primer intervalo (si tiempo &lt; 10 s o &lt; 6 ó 7 vehículos, no considerar observ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hículos observados en último intervalo (sólo si tiempo de saturación=tiempo de ver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saturado (intervalos 1 y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uración del período de verde (si es fijo, anotarlo 1 sola ve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362320" y="4267080"/>
                <a:ext cx="171432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304920" y="5181480"/>
            <a:ext cx="5867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: flujo de saturación (veh/hr-pi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v: Número total de vehículos que cruza en intervalo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s: duración total de la s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: número de ciclos observ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6320" y="75600"/>
            <a:ext cx="649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versidad de Chile - Facultad de Ciencias Físicas y Matemáticas - Departamento de Ingeniería Civ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6T21:36:40Z</dcterms:created>
  <dc:creator>EVF-RFA</dc:creator>
  <dc:description/>
  <dc:language>en-US</dc:language>
  <cp:lastModifiedBy>.</cp:lastModifiedBy>
  <dcterms:modified xsi:type="dcterms:W3CDTF">2001-07-31T21:02:18Z</dcterms:modified>
  <cp:revision>20</cp:revision>
  <dc:subject/>
  <dc:title>Gestión de Tránsi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41951184</vt:r8>
  </property>
  <property fmtid="{D5CDD505-2E9C-101B-9397-08002B2CF9AE}" pid="3" name="_AuthorEmail">
    <vt:lpwstr>evalenza@ing.uchile.cl</vt:lpwstr>
  </property>
  <property fmtid="{D5CDD505-2E9C-101B-9397-08002B2CF9AE}" pid="4" name="_AuthorEmailDisplayName">
    <vt:lpwstr>Eduardo Valenzuela Freraut</vt:lpwstr>
  </property>
  <property fmtid="{D5CDD505-2E9C-101B-9397-08002B2CF9AE}" pid="5" name="_EmailSubject">
    <vt:lpwstr>clase CI53G</vt:lpwstr>
  </property>
</Properties>
</file>