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02B-B599-4A1C-A050-0E87DAA9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F16-C2E0-4B53-8E2C-873A6691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F6B-A529-4E1D-A4DB-D0D21152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BA1B-F0DF-4006-84B8-FB14730F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686-4475-43E1-AB96-0CD667EC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13A-B0FB-45E9-8E09-9229289A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EFE6-86A0-4EBF-9000-0AB236C6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93F-82C6-4873-9158-33BBF1E7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627-CD06-44DB-A1C6-791259E2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5FB-9F90-414B-B2F8-CD5CC3CB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E06-A6AF-4037-8082-D0328BE6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C8C-2679-4773-9BEC-119B8646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F3FF-B8C8-4EFD-B78F-455EFE49910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6800" y="838080"/>
            <a:ext cx="46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y Estimación d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81080"/>
            <a:ext cx="5943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tivos y métodos de 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ujos Vehi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s de 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ngitud de 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ámetros de Capacidad en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38280" y="1000080"/>
            <a:ext cx="5610240" cy="5400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33520" y="533520"/>
            <a:ext cx="563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_tradnl" sz="1200" spc="-1" strike="noStrike">
                <a:solidFill>
                  <a:srgbClr val="ff3300"/>
                </a:solidFill>
                <a:latin typeface="Arial"/>
                <a:ea typeface="Arial"/>
              </a:rPr>
              <a:t>FORMULARIO MEDI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3300"/>
                </a:solidFill>
                <a:latin typeface="Arial"/>
                <a:ea typeface="Arial"/>
              </a:rPr>
              <a:t>FLUJO SATURACION Y TIEMPOS DESAPROVECH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54280" y="6916680"/>
            <a:ext cx="1098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63760" y="677880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64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06880" y="677880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98880" y="6778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75880" y="694692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26680" y="694692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6480" y="694692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91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89160" y="664200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29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48080" y="6778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0800" y="677880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36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49480" y="6754680"/>
            <a:ext cx="172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66080" y="6923160"/>
            <a:ext cx="12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26600" y="692316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13040" y="6754680"/>
            <a:ext cx="172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2400" y="6778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838080" y="7315200"/>
            <a:ext cx="2210040" cy="609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317600" y="8339040"/>
            <a:ext cx="247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77080" y="84772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04080" y="8210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97520" y="8364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84560" y="80978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40040" y="82216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81120" y="8201160"/>
            <a:ext cx="207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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g. (verde promedi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83480" y="739152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empo desaprovechado (se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34640" y="671976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Veh/hr-pist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2120" y="8201160"/>
            <a:ext cx="14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080" y="60948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Flujo Veh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47920"/>
            <a:ext cx="6400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to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ónde: sección de v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ja precisión en tipo de vehículo (# ej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us de tres ejes y camión de tres e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uto con carro de arrastre y camión de tres e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ecesidad de clasificación manual a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distinguen mov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propiados para mediciones continuas de larga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bicación espiras (mangueras, piezoeléctricos), ubicación errónea implicará ses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dades: [ejes/h], [veh/h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3080" y="60948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Flujo Veh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90512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ónde: intersecciones (identifica movimie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lta precisión en tipo de vehículo (depende del formulario utiliz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propiados para mediciones periód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dades: [veh/h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ideraciones prác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talizar cada 15 min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observador cada 400 veh/h máx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supervisor de campo cada 15 medidores (capacitación de personal y bitácora de camp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3800" y="53352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Tasa de 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828800"/>
            <a:ext cx="6400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s Menores (VL, Camionetas, Jeep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istro directo del número de pasajeros incluyendo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xis Básicos y Taxis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istro directo SIN incluir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s de Carga: rara vez, salvo estudi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nsporte Público Mayor (buses, taxibu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posibilidad espacio-temporal de contar todos los pasaj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cesidad de considerar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blemas: categorías sólo válidas para zona donde se obtuvieron y en año correspo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9076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0400" y="38088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Tasa de 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9076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8600" y="1066680"/>
            <a:ext cx="6247800" cy="2286000"/>
            <a:chOff x="228600" y="1066680"/>
            <a:chExt cx="6247800" cy="2286000"/>
          </a:xfrm>
        </p:grpSpPr>
        <p:grpSp>
          <p:nvGrpSpPr>
            <p:cNvPr id="58" name=""/>
            <p:cNvGrpSpPr/>
            <p:nvPr/>
          </p:nvGrpSpPr>
          <p:grpSpPr>
            <a:xfrm>
              <a:off x="228600" y="1066680"/>
              <a:ext cx="1092600" cy="380880"/>
              <a:chOff x="228600" y="1066680"/>
              <a:chExt cx="1092600" cy="380880"/>
            </a:xfrm>
          </p:grpSpPr>
          <p:sp>
            <p:nvSpPr>
              <p:cNvPr id="59" name=""/>
              <p:cNvSpPr/>
              <p:nvPr/>
            </p:nvSpPr>
            <p:spPr>
              <a:xfrm>
                <a:off x="285120" y="106668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tegorí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600" y="106668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1321560" y="1066680"/>
              <a:ext cx="3679560" cy="380880"/>
              <a:chOff x="1321560" y="1066680"/>
              <a:chExt cx="3679560" cy="380880"/>
            </a:xfrm>
          </p:grpSpPr>
          <p:sp>
            <p:nvSpPr>
              <p:cNvPr id="62" name=""/>
              <p:cNvSpPr/>
              <p:nvPr/>
            </p:nvSpPr>
            <p:spPr>
              <a:xfrm>
                <a:off x="1378440" y="106668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nició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321560" y="106668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001480" y="1066680"/>
              <a:ext cx="690480" cy="380880"/>
              <a:chOff x="5001480" y="1066680"/>
              <a:chExt cx="690480" cy="380880"/>
            </a:xfrm>
          </p:grpSpPr>
          <p:sp>
            <p:nvSpPr>
              <p:cNvPr id="65" name=""/>
              <p:cNvSpPr/>
              <p:nvPr/>
            </p:nvSpPr>
            <p:spPr>
              <a:xfrm>
                <a:off x="5058360" y="106668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x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001480" y="106668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5692680" y="1066680"/>
              <a:ext cx="783720" cy="380880"/>
              <a:chOff x="5692680" y="1066680"/>
              <a:chExt cx="783720" cy="380880"/>
            </a:xfrm>
          </p:grpSpPr>
          <p:sp>
            <p:nvSpPr>
              <p:cNvPr id="68" name=""/>
              <p:cNvSpPr/>
              <p:nvPr/>
            </p:nvSpPr>
            <p:spPr>
              <a:xfrm>
                <a:off x="5749200" y="106668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692680" y="106668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228600" y="1447560"/>
              <a:ext cx="1092600" cy="380880"/>
              <a:chOff x="228600" y="1447560"/>
              <a:chExt cx="10926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85120" y="144756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8600" y="144756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321560" y="1447560"/>
              <a:ext cx="3679560" cy="380880"/>
              <a:chOff x="1321560" y="1447560"/>
              <a:chExt cx="3679560" cy="380880"/>
            </a:xfrm>
          </p:grpSpPr>
          <p:sp>
            <p:nvSpPr>
              <p:cNvPr id="74" name=""/>
              <p:cNvSpPr/>
              <p:nvPr/>
            </p:nvSpPr>
            <p:spPr>
              <a:xfrm>
                <a:off x="1378440" y="144756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hículo completamente ocupado, con pasajeros colgand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21560" y="144756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5001480" y="1447560"/>
              <a:ext cx="690480" cy="380880"/>
              <a:chOff x="5001480" y="1447560"/>
              <a:chExt cx="690480" cy="380880"/>
            </a:xfrm>
          </p:grpSpPr>
          <p:sp>
            <p:nvSpPr>
              <p:cNvPr id="77" name=""/>
              <p:cNvSpPr/>
              <p:nvPr/>
            </p:nvSpPr>
            <p:spPr>
              <a:xfrm>
                <a:off x="5058360" y="144756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4,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01480" y="144756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692680" y="1447560"/>
              <a:ext cx="783720" cy="380880"/>
              <a:chOff x="5692680" y="1447560"/>
              <a:chExt cx="783720" cy="380880"/>
            </a:xfrm>
          </p:grpSpPr>
          <p:sp>
            <p:nvSpPr>
              <p:cNvPr id="80" name=""/>
              <p:cNvSpPr/>
              <p:nvPr/>
            </p:nvSpPr>
            <p:spPr>
              <a:xfrm>
                <a:off x="5749200" y="144756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3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692680" y="144756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28600" y="1828800"/>
              <a:ext cx="1092600" cy="380880"/>
              <a:chOff x="228600" y="1828800"/>
              <a:chExt cx="1092600" cy="380880"/>
            </a:xfrm>
          </p:grpSpPr>
          <p:sp>
            <p:nvSpPr>
              <p:cNvPr id="83" name=""/>
              <p:cNvSpPr/>
              <p:nvPr/>
            </p:nvSpPr>
            <p:spPr>
              <a:xfrm>
                <a:off x="285120" y="182880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28600" y="182880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321560" y="1828800"/>
              <a:ext cx="3679560" cy="380880"/>
              <a:chOff x="1321560" y="1828800"/>
              <a:chExt cx="3679560" cy="380880"/>
            </a:xfrm>
          </p:grpSpPr>
          <p:sp>
            <p:nvSpPr>
              <p:cNvPr id="86" name=""/>
              <p:cNvSpPr/>
              <p:nvPr/>
            </p:nvSpPr>
            <p:spPr>
              <a:xfrm>
                <a:off x="1378440" y="182880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ás de la mitad del pasillo con pasajeros de pi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321560" y="182880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001480" y="1828800"/>
              <a:ext cx="690480" cy="380880"/>
              <a:chOff x="5001480" y="1828800"/>
              <a:chExt cx="690480" cy="380880"/>
            </a:xfrm>
          </p:grpSpPr>
          <p:sp>
            <p:nvSpPr>
              <p:cNvPr id="89" name=""/>
              <p:cNvSpPr/>
              <p:nvPr/>
            </p:nvSpPr>
            <p:spPr>
              <a:xfrm>
                <a:off x="5058360" y="182880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4,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01480" y="182880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692680" y="1828800"/>
              <a:ext cx="783720" cy="380880"/>
              <a:chOff x="5692680" y="1828800"/>
              <a:chExt cx="783720" cy="380880"/>
            </a:xfrm>
          </p:grpSpPr>
          <p:sp>
            <p:nvSpPr>
              <p:cNvPr id="92" name=""/>
              <p:cNvSpPr/>
              <p:nvPr/>
            </p:nvSpPr>
            <p:spPr>
              <a:xfrm>
                <a:off x="5749200" y="182880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6,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92680" y="182880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28600" y="2209680"/>
              <a:ext cx="1092600" cy="380880"/>
              <a:chOff x="228600" y="2209680"/>
              <a:chExt cx="1092600" cy="380880"/>
            </a:xfrm>
          </p:grpSpPr>
          <p:sp>
            <p:nvSpPr>
              <p:cNvPr id="95" name=""/>
              <p:cNvSpPr/>
              <p:nvPr/>
            </p:nvSpPr>
            <p:spPr>
              <a:xfrm>
                <a:off x="285120" y="220968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8600" y="220968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21560" y="2209680"/>
              <a:ext cx="3679560" cy="380880"/>
              <a:chOff x="1321560" y="2209680"/>
              <a:chExt cx="3679560" cy="380880"/>
            </a:xfrm>
          </p:grpSpPr>
          <p:sp>
            <p:nvSpPr>
              <p:cNvPr id="98" name=""/>
              <p:cNvSpPr/>
              <p:nvPr/>
            </p:nvSpPr>
            <p:spPr>
              <a:xfrm>
                <a:off x="1378440" y="220968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nos de la mitad del pasillo con pasajeros de pi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21560" y="220968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5001480" y="2209680"/>
              <a:ext cx="690480" cy="380880"/>
              <a:chOff x="5001480" y="2209680"/>
              <a:chExt cx="690480" cy="380880"/>
            </a:xfrm>
          </p:grpSpPr>
          <p:sp>
            <p:nvSpPr>
              <p:cNvPr id="101" name=""/>
              <p:cNvSpPr/>
              <p:nvPr/>
            </p:nvSpPr>
            <p:spPr>
              <a:xfrm>
                <a:off x="5058360" y="220968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7,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001480" y="220968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92680" y="2209680"/>
              <a:ext cx="783720" cy="380880"/>
              <a:chOff x="5692680" y="2209680"/>
              <a:chExt cx="783720" cy="380880"/>
            </a:xfrm>
          </p:grpSpPr>
          <p:sp>
            <p:nvSpPr>
              <p:cNvPr id="104" name=""/>
              <p:cNvSpPr/>
              <p:nvPr/>
            </p:nvSpPr>
            <p:spPr>
              <a:xfrm>
                <a:off x="5749200" y="220968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1,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692680" y="220968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8600" y="2590920"/>
              <a:ext cx="1092600" cy="380880"/>
              <a:chOff x="228600" y="2590920"/>
              <a:chExt cx="1092600" cy="380880"/>
            </a:xfrm>
          </p:grpSpPr>
          <p:sp>
            <p:nvSpPr>
              <p:cNvPr id="107" name=""/>
              <p:cNvSpPr/>
              <p:nvPr/>
            </p:nvSpPr>
            <p:spPr>
              <a:xfrm>
                <a:off x="285120" y="259092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8600" y="259092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321560" y="2590920"/>
              <a:ext cx="3679560" cy="380880"/>
              <a:chOff x="1321560" y="2590920"/>
              <a:chExt cx="3679560" cy="380880"/>
            </a:xfrm>
          </p:grpSpPr>
          <p:sp>
            <p:nvSpPr>
              <p:cNvPr id="110" name=""/>
              <p:cNvSpPr/>
              <p:nvPr/>
            </p:nvSpPr>
            <p:spPr>
              <a:xfrm>
                <a:off x="1378440" y="259092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ás de la mitad de los asientos ocupad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21560" y="259092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5001480" y="2590920"/>
              <a:ext cx="690480" cy="380880"/>
              <a:chOff x="5001480" y="2590920"/>
              <a:chExt cx="69048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5058360" y="259092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,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01480" y="259092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692680" y="2590920"/>
              <a:ext cx="783720" cy="380880"/>
              <a:chOff x="5692680" y="2590920"/>
              <a:chExt cx="783720" cy="380880"/>
            </a:xfrm>
          </p:grpSpPr>
          <p:sp>
            <p:nvSpPr>
              <p:cNvPr id="116" name=""/>
              <p:cNvSpPr/>
              <p:nvPr/>
            </p:nvSpPr>
            <p:spPr>
              <a:xfrm>
                <a:off x="5749200" y="259092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,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92680" y="259092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28600" y="2971800"/>
              <a:ext cx="1092600" cy="380880"/>
              <a:chOff x="228600" y="2971800"/>
              <a:chExt cx="1092600" cy="380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85120" y="297180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600" y="297180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321560" y="2971800"/>
              <a:ext cx="3679560" cy="380880"/>
              <a:chOff x="1321560" y="2971800"/>
              <a:chExt cx="3679560" cy="380880"/>
            </a:xfrm>
          </p:grpSpPr>
          <p:sp>
            <p:nvSpPr>
              <p:cNvPr id="122" name=""/>
              <p:cNvSpPr/>
              <p:nvPr/>
            </p:nvSpPr>
            <p:spPr>
              <a:xfrm>
                <a:off x="1378440" y="297180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nos de la mitad de los asientos ocupad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321560" y="297180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001480" y="2971800"/>
              <a:ext cx="690480" cy="380880"/>
              <a:chOff x="5001480" y="2971800"/>
              <a:chExt cx="690480" cy="380880"/>
            </a:xfrm>
          </p:grpSpPr>
          <p:sp>
            <p:nvSpPr>
              <p:cNvPr id="125" name=""/>
              <p:cNvSpPr/>
              <p:nvPr/>
            </p:nvSpPr>
            <p:spPr>
              <a:xfrm>
                <a:off x="5058360" y="297180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,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01480" y="297180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5692680" y="2971800"/>
              <a:ext cx="783720" cy="380880"/>
              <a:chOff x="5692680" y="2971800"/>
              <a:chExt cx="783720" cy="380880"/>
            </a:xfrm>
          </p:grpSpPr>
          <p:sp>
            <p:nvSpPr>
              <p:cNvPr id="128" name=""/>
              <p:cNvSpPr/>
              <p:nvPr/>
            </p:nvSpPr>
            <p:spPr>
              <a:xfrm>
                <a:off x="5749200" y="297180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,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92680" y="297180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304920" y="6400800"/>
            <a:ext cx="6095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Stgo, CV=0,2 lo que implica n=60 obs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s sistemáticas del estilo: 1 cada 5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362320" y="3592440"/>
                <a:ext cx="14284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04920" y="4419720"/>
            <a:ext cx="609588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Z, nivel de significancia estadística asumiendo una función de distribución específica (normal: Z=1,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, coeficiente de variación de la variable a medir (desviación estándar / med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, error aceptado en la m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4160" y="3808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192640" y="5257800"/>
            <a:ext cx="1023480" cy="309600"/>
            <a:chOff x="5192640" y="5257800"/>
            <a:chExt cx="1023480" cy="309600"/>
          </a:xfrm>
        </p:grpSpPr>
        <p:sp>
          <p:nvSpPr>
            <p:cNvPr id="136" name=""/>
            <p:cNvSpPr/>
            <p:nvPr/>
          </p:nvSpPr>
          <p:spPr>
            <a:xfrm flipH="1">
              <a:off x="5192640" y="552924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43040" y="525780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5040" y="533412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24400" y="52578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54120" y="52578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91760" y="549144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891760" y="525780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5324400" y="52578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5324400" y="54864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059280" y="5029200"/>
            <a:ext cx="1023480" cy="309600"/>
            <a:chOff x="3059280" y="5029200"/>
            <a:chExt cx="1023480" cy="309600"/>
          </a:xfrm>
        </p:grpSpPr>
        <p:sp>
          <p:nvSpPr>
            <p:cNvPr id="146" name=""/>
            <p:cNvSpPr/>
            <p:nvPr/>
          </p:nvSpPr>
          <p:spPr>
            <a:xfrm flipH="1">
              <a:off x="3059280" y="530064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09680" y="502920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71680" y="510552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91040" y="50292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20760" y="50292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58400" y="526284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758400" y="502920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3191040" y="50292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191040" y="52578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49240" y="5181480"/>
            <a:ext cx="1023480" cy="309600"/>
            <a:chOff x="849240" y="5181480"/>
            <a:chExt cx="1023480" cy="309600"/>
          </a:xfrm>
        </p:grpSpPr>
        <p:sp>
          <p:nvSpPr>
            <p:cNvPr id="156" name=""/>
            <p:cNvSpPr/>
            <p:nvPr/>
          </p:nvSpPr>
          <p:spPr>
            <a:xfrm flipH="1">
              <a:off x="849240" y="545292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99640" y="518148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61640" y="525780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81000" y="5181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10720" y="5181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48360" y="541512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548360" y="518148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981000" y="51814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981000" y="54100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280" y="838080"/>
            <a:ext cx="6400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ónde: tramos de v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po me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stantánea (rad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ercial o de viaje (método patentes o vehículo flota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orrido o en movimiento (segui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dades: [km/h], [m/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8120" y="4038480"/>
            <a:ext cx="31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étodo de las Pa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487692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579132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1600" y="457200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1880" y="457200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6400800"/>
            <a:ext cx="3210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ugar, Período, tipo vehícu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ora (h:mm: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tente (xx-12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29680" y="6415200"/>
            <a:ext cx="28753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ugar, Período, tipo vehíc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ora (hh:mm: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tente (xx-12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601992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29280" y="60199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ngitu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192640" y="1752480"/>
            <a:ext cx="1023480" cy="309600"/>
            <a:chOff x="5192640" y="1752480"/>
            <a:chExt cx="1023480" cy="309600"/>
          </a:xfrm>
        </p:grpSpPr>
        <p:sp>
          <p:nvSpPr>
            <p:cNvPr id="177" name=""/>
            <p:cNvSpPr/>
            <p:nvPr/>
          </p:nvSpPr>
          <p:spPr>
            <a:xfrm flipH="1">
              <a:off x="5192640" y="202392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43040" y="175248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05040" y="182880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24400" y="1752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54120" y="1752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91760" y="198612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891760" y="175248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5324400" y="17524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324400" y="19810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059280" y="1523880"/>
            <a:ext cx="1023480" cy="309600"/>
            <a:chOff x="3059280" y="1523880"/>
            <a:chExt cx="1023480" cy="309600"/>
          </a:xfrm>
        </p:grpSpPr>
        <p:sp>
          <p:nvSpPr>
            <p:cNvPr id="187" name=""/>
            <p:cNvSpPr/>
            <p:nvPr/>
          </p:nvSpPr>
          <p:spPr>
            <a:xfrm flipH="1">
              <a:off x="3059280" y="179532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09680" y="152388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71680" y="160020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91040" y="15238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20760" y="15238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58400" y="175752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758400" y="152388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3191040" y="15238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191040" y="17524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849240" y="1676520"/>
            <a:ext cx="1023480" cy="309600"/>
            <a:chOff x="849240" y="1676520"/>
            <a:chExt cx="1023480" cy="309600"/>
          </a:xfrm>
        </p:grpSpPr>
        <p:sp>
          <p:nvSpPr>
            <p:cNvPr id="197" name=""/>
            <p:cNvSpPr/>
            <p:nvPr/>
          </p:nvSpPr>
          <p:spPr>
            <a:xfrm flipH="1">
              <a:off x="849240" y="194796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99640" y="167652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61640" y="175284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81000" y="167652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10720" y="167652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48360" y="191016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548360" y="167652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981000" y="167652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81000" y="190512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-1800" y="609480"/>
            <a:ext cx="31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étodo de las Pa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37160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28600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1600" y="106668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1880" y="106668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2160" y="2743200"/>
            <a:ext cx="332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n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to flujo veh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ncronización de relo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251460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29280" y="251460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ngitu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1880" y="3962520"/>
            <a:ext cx="248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eo de Pa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g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lculo de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lculo de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47640" y="5715000"/>
                <a:ext cx="55180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elocidad temporal: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'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'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71680" y="7189920"/>
                <a:ext cx="567684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elocidad espacial: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272520" y="54100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¿Qué Veloc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000" y="457200"/>
            <a:ext cx="42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l Flujo de S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0666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plicable sólo a intersecciones semafor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roceso real se idealiza, definiéndose un diagrama binario que considera tre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2120" y="2133720"/>
            <a:ext cx="5409720" cy="3006360"/>
            <a:chOff x="762120" y="2133720"/>
            <a:chExt cx="5409720" cy="3006360"/>
          </a:xfrm>
        </p:grpSpPr>
        <p:sp>
          <p:nvSpPr>
            <p:cNvPr id="222" name=""/>
            <p:cNvSpPr/>
            <p:nvPr/>
          </p:nvSpPr>
          <p:spPr>
            <a:xfrm flipV="1">
              <a:off x="1720800" y="2356200"/>
              <a:ext cx="0" cy="200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20800" y="4360680"/>
              <a:ext cx="404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09680" y="2133720"/>
              <a:ext cx="27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98240" y="4138200"/>
              <a:ext cx="27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05520" y="2857320"/>
              <a:ext cx="1711800" cy="0"/>
            </a:xfrm>
            <a:prstGeom prst="line">
              <a:avLst/>
            </a:prstGeom>
            <a:ln cap="rnd" w="22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515600" y="2689920"/>
              <a:ext cx="1278000" cy="1669320"/>
              <a:chOff x="1515600" y="2689920"/>
              <a:chExt cx="1278000" cy="1669320"/>
            </a:xfrm>
          </p:grpSpPr>
          <p:sp>
            <p:nvSpPr>
              <p:cNvPr id="228" name=""/>
              <p:cNvSpPr/>
              <p:nvPr/>
            </p:nvSpPr>
            <p:spPr>
              <a:xfrm flipV="1">
                <a:off x="1515600" y="2689560"/>
                <a:ext cx="684000" cy="166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 rot="10517400">
                <a:off x="2193120" y="2853360"/>
                <a:ext cx="546480" cy="133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695400" y="2689920"/>
              <a:ext cx="1277280" cy="1669320"/>
              <a:chOff x="3695400" y="2689920"/>
              <a:chExt cx="1277280" cy="1669320"/>
            </a:xfrm>
          </p:grpSpPr>
          <p:sp>
            <p:nvSpPr>
              <p:cNvPr id="231" name=""/>
              <p:cNvSpPr/>
              <p:nvPr/>
            </p:nvSpPr>
            <p:spPr>
              <a:xfrm flipH="1" flipV="1">
                <a:off x="4289400" y="2689560"/>
                <a:ext cx="683280" cy="166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 rot="11082600">
                <a:off x="3749400" y="2853720"/>
                <a:ext cx="546480" cy="1335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 rot="16075200">
              <a:off x="2046240" y="4226040"/>
              <a:ext cx="167040" cy="547560"/>
            </a:xfrm>
            <a:custGeom>
              <a:avLst/>
              <a:gdLst>
                <a:gd name="textAreaLeft" fmla="*/ 106920 w 167040"/>
                <a:gd name="textAreaRight" fmla="*/ 167400 w 167040"/>
                <a:gd name="textAreaTop" fmla="*/ 14040 h 547560"/>
                <a:gd name="textAreaBottom" fmla="*/ 533520 h 5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6075200">
              <a:off x="4205160" y="4260240"/>
              <a:ext cx="167040" cy="479160"/>
            </a:xfrm>
            <a:custGeom>
              <a:avLst/>
              <a:gdLst>
                <a:gd name="textAreaLeft" fmla="*/ 106920 w 167040"/>
                <a:gd name="textAreaRight" fmla="*/ 167400 w 167040"/>
                <a:gd name="textAreaTop" fmla="*/ 12240 h 479160"/>
                <a:gd name="textAreaBottom" fmla="*/ 466920 h 47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6191000">
              <a:off x="3124440" y="3695040"/>
              <a:ext cx="201600" cy="1642320"/>
            </a:xfrm>
            <a:custGeom>
              <a:avLst/>
              <a:gdLst>
                <a:gd name="textAreaLeft" fmla="*/ 128880 w 201600"/>
                <a:gd name="textAreaRight" fmla="*/ 201960 w 201600"/>
                <a:gd name="textAreaTop" fmla="*/ 42840 h 1642320"/>
                <a:gd name="textAreaBottom" fmla="*/ 1599480 h 164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23120" y="4692600"/>
              <a:ext cx="41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21840" y="4692600"/>
              <a:ext cx="41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86080" y="469260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05520" y="291312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49280" y="291312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1583640" y="2857320"/>
              <a:ext cx="753120" cy="1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67320" y="2635560"/>
              <a:ext cx="54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26000" y="4917600"/>
              <a:ext cx="2602080" cy="222480"/>
            </a:xfrm>
            <a:prstGeom prst="rect">
              <a:avLst/>
            </a:prstGeom>
            <a:solidFill>
              <a:srgbClr val="21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49280" y="4917600"/>
              <a:ext cx="342000" cy="222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91640" y="4917600"/>
              <a:ext cx="1301040" cy="222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2120" y="4912920"/>
              <a:ext cx="1163880" cy="222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28600" y="556272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bservar vehículos por pista, durante tres interval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primeros 10 s o 6 a 7 vehículos (transición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sto del período de verde </a:t>
            </a: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SATU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marillo más el ro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ólo Vehículos que estuvieron en c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2280" y="990720"/>
            <a:ext cx="6400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Regist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rrelativo del ciclo del semáf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hículos observados en primer intervalo (si tiempo &lt; 10 s o &lt; 6 ó 7 vehículos, no considerar observ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hículos observados en intervalo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hículos observados en último intervalo (sólo si tiempo de saturación=tiempo de ver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uración del período saturado (intervalos 1 y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uración del período de verde (si es fijo, anotarlo 1 sola ve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362320" y="4267080"/>
                <a:ext cx="171432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X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304920" y="5181480"/>
            <a:ext cx="58672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 : flujo de saturación (veh/hr-pis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Xv: Número total de vehículos que cruza en intervalo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s: duración total de la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: número de ciclos observ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6T21:36:40Z</dcterms:created>
  <dc:creator>EVF-RFA</dc:creator>
  <dc:description/>
  <dc:language>en-US</dc:language>
  <cp:lastModifiedBy>.</cp:lastModifiedBy>
  <dcterms:modified xsi:type="dcterms:W3CDTF">2001-07-31T21:02:18Z</dcterms:modified>
  <cp:revision>20</cp:revision>
  <dc:subject/>
  <dc:title>Gestión de Tránsi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41951184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clase CI53G</vt:lpwstr>
  </property>
</Properties>
</file>