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040-DF59-4BF1-BE82-EA92843D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5E6-0C6A-43AA-9413-2C284E90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B35-31DF-4350-B865-23B156C6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2BF-2CE1-460E-A1A3-304FD41D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E02-90A4-4CED-BC91-9EDB61D3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07D-7081-4BCD-8FC2-60662CC1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71A-7F5C-4DE1-9F62-970B503D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D19-82AE-4D9B-8386-C70EB0F2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46E-9D71-467D-BAF7-4D64AF5A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BF1-488B-4722-BDB7-7B3F80D8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AFB-9B75-410E-9905-47750610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39F-F8D7-4326-94F8-50A8CFCB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0AAD-60EF-4285-BC27-5F4846A0328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800" y="83808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y Estimación d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81080"/>
            <a:ext cx="5943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ivos y métodos de 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s Veh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s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de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ámetros de Capacidad en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38280" y="1000080"/>
            <a:ext cx="5610240" cy="5400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3520" y="53352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_tradnl" sz="1200" spc="-1" strike="noStrike">
                <a:solidFill>
                  <a:srgbClr val="ff3300"/>
                </a:solidFill>
                <a:latin typeface="Arial"/>
                <a:ea typeface="Arial"/>
              </a:rPr>
              <a:t>FORMULARIO MEDI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3300"/>
                </a:solidFill>
                <a:latin typeface="Arial"/>
                <a:ea typeface="Arial"/>
              </a:rPr>
              <a:t>FLUJO SATURACION Y TIEMPOS DESAPROVECH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4280" y="6916680"/>
            <a:ext cx="109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63760" y="67788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6880" y="67788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9888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75880" y="694692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26680" y="694692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6480" y="694692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91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89160" y="66420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29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4808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0800" y="677880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36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49480" y="6754680"/>
            <a:ext cx="17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66080" y="6923160"/>
            <a:ext cx="12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26600" y="692316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13040" y="6754680"/>
            <a:ext cx="17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240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838080" y="7315200"/>
            <a:ext cx="2210040" cy="609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317600" y="8339040"/>
            <a:ext cx="247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77080" y="84772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04080" y="8210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97520" y="8364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84560" y="80978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0040" y="82216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81120" y="8201160"/>
            <a:ext cx="20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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g. (verde promed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3480" y="739152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mpo desaprovechado (s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4640" y="6719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r-pist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2120" y="8201160"/>
            <a:ext cx="1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080" y="6094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Flujo 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479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to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sección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ja precisión en tipo de vehículo (# ej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us de tres ejes y camión de tres e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to con carro de arrastre y camión de tres e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ecesidad de clasificación manual a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distinguen mov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ropiados para mediciones continuas de larga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bicación espiras (mangueras, piezoeléctricos), ubicación errónea implicará s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ejes/h], [veh/h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080" y="6094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Flujo 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intersecciones (identifica mov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ta precisión en tipo de vehículo (depende del formulario utiliz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ropiados para mediciones perió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veh/h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ciones prác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talizar cada 15 min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observador cada 400 veh/h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supervisor de campo cada 15 medidores (capacitación de personal y bitácora de camp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800" y="53352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Tasa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828800"/>
            <a:ext cx="6400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Menores (VL, Camionetas, Jeep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del número de pasajeros incluyendo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xis Básicos y Taxis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SIN incluir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de Carga: rara vez, salvo estudi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porte Público Mayor (buses, taxibu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osibilidad espacio-temporal de contar todos los pasaj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 de considerar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 categorías sólo válidas para zona donde se obtuvieron y en año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9076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0400" y="38088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Tasa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9076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1066680"/>
            <a:ext cx="6247800" cy="2286000"/>
            <a:chOff x="228600" y="1066680"/>
            <a:chExt cx="6247800" cy="2286000"/>
          </a:xfrm>
        </p:grpSpPr>
        <p:grpSp>
          <p:nvGrpSpPr>
            <p:cNvPr id="58" name=""/>
            <p:cNvGrpSpPr/>
            <p:nvPr/>
          </p:nvGrpSpPr>
          <p:grpSpPr>
            <a:xfrm>
              <a:off x="228600" y="1066680"/>
              <a:ext cx="1092600" cy="380880"/>
              <a:chOff x="228600" y="1066680"/>
              <a:chExt cx="1092600" cy="380880"/>
            </a:xfrm>
          </p:grpSpPr>
          <p:sp>
            <p:nvSpPr>
              <p:cNvPr id="59" name=""/>
              <p:cNvSpPr/>
              <p:nvPr/>
            </p:nvSpPr>
            <p:spPr>
              <a:xfrm>
                <a:off x="285120" y="106668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tegorí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600" y="106668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321560" y="1066680"/>
              <a:ext cx="3679560" cy="380880"/>
              <a:chOff x="1321560" y="1066680"/>
              <a:chExt cx="3679560" cy="380880"/>
            </a:xfrm>
          </p:grpSpPr>
          <p:sp>
            <p:nvSpPr>
              <p:cNvPr id="62" name=""/>
              <p:cNvSpPr/>
              <p:nvPr/>
            </p:nvSpPr>
            <p:spPr>
              <a:xfrm>
                <a:off x="1378440" y="106668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nició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21560" y="106668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001480" y="1066680"/>
              <a:ext cx="690480" cy="380880"/>
              <a:chOff x="5001480" y="1066680"/>
              <a:chExt cx="690480" cy="380880"/>
            </a:xfrm>
          </p:grpSpPr>
          <p:sp>
            <p:nvSpPr>
              <p:cNvPr id="65" name=""/>
              <p:cNvSpPr/>
              <p:nvPr/>
            </p:nvSpPr>
            <p:spPr>
              <a:xfrm>
                <a:off x="5058360" y="1066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x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01480" y="1066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692680" y="1066680"/>
              <a:ext cx="783720" cy="380880"/>
              <a:chOff x="5692680" y="1066680"/>
              <a:chExt cx="783720" cy="380880"/>
            </a:xfrm>
          </p:grpSpPr>
          <p:sp>
            <p:nvSpPr>
              <p:cNvPr id="68" name=""/>
              <p:cNvSpPr/>
              <p:nvPr/>
            </p:nvSpPr>
            <p:spPr>
              <a:xfrm>
                <a:off x="5749200" y="1066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92680" y="1066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228600" y="1447560"/>
              <a:ext cx="1092600" cy="380880"/>
              <a:chOff x="228600" y="1447560"/>
              <a:chExt cx="10926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85120" y="144756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" y="144756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321560" y="1447560"/>
              <a:ext cx="3679560" cy="380880"/>
              <a:chOff x="1321560" y="1447560"/>
              <a:chExt cx="3679560" cy="380880"/>
            </a:xfrm>
          </p:grpSpPr>
          <p:sp>
            <p:nvSpPr>
              <p:cNvPr id="74" name=""/>
              <p:cNvSpPr/>
              <p:nvPr/>
            </p:nvSpPr>
            <p:spPr>
              <a:xfrm>
                <a:off x="1378440" y="144756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hículo completamente ocupado, con pasajeros colgand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21560" y="144756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5001480" y="1447560"/>
              <a:ext cx="690480" cy="380880"/>
              <a:chOff x="5001480" y="1447560"/>
              <a:chExt cx="690480" cy="380880"/>
            </a:xfrm>
          </p:grpSpPr>
          <p:sp>
            <p:nvSpPr>
              <p:cNvPr id="77" name=""/>
              <p:cNvSpPr/>
              <p:nvPr/>
            </p:nvSpPr>
            <p:spPr>
              <a:xfrm>
                <a:off x="5058360" y="144756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4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01480" y="144756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692680" y="1447560"/>
              <a:ext cx="783720" cy="380880"/>
              <a:chOff x="5692680" y="1447560"/>
              <a:chExt cx="783720" cy="380880"/>
            </a:xfrm>
          </p:grpSpPr>
          <p:sp>
            <p:nvSpPr>
              <p:cNvPr id="80" name=""/>
              <p:cNvSpPr/>
              <p:nvPr/>
            </p:nvSpPr>
            <p:spPr>
              <a:xfrm>
                <a:off x="5749200" y="144756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3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92680" y="144756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28600" y="1828800"/>
              <a:ext cx="1092600" cy="380880"/>
              <a:chOff x="228600" y="1828800"/>
              <a:chExt cx="1092600" cy="380880"/>
            </a:xfrm>
          </p:grpSpPr>
          <p:sp>
            <p:nvSpPr>
              <p:cNvPr id="83" name=""/>
              <p:cNvSpPr/>
              <p:nvPr/>
            </p:nvSpPr>
            <p:spPr>
              <a:xfrm>
                <a:off x="285120" y="182880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8600" y="182880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321560" y="1828800"/>
              <a:ext cx="3679560" cy="380880"/>
              <a:chOff x="1321560" y="1828800"/>
              <a:chExt cx="3679560" cy="380880"/>
            </a:xfrm>
          </p:grpSpPr>
          <p:sp>
            <p:nvSpPr>
              <p:cNvPr id="86" name=""/>
              <p:cNvSpPr/>
              <p:nvPr/>
            </p:nvSpPr>
            <p:spPr>
              <a:xfrm>
                <a:off x="1378440" y="182880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21560" y="182880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001480" y="1828800"/>
              <a:ext cx="690480" cy="380880"/>
              <a:chOff x="5001480" y="1828800"/>
              <a:chExt cx="690480" cy="380880"/>
            </a:xfrm>
          </p:grpSpPr>
          <p:sp>
            <p:nvSpPr>
              <p:cNvPr id="89" name=""/>
              <p:cNvSpPr/>
              <p:nvPr/>
            </p:nvSpPr>
            <p:spPr>
              <a:xfrm>
                <a:off x="5058360" y="1828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4,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01480" y="1828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692680" y="1828800"/>
              <a:ext cx="783720" cy="380880"/>
              <a:chOff x="5692680" y="1828800"/>
              <a:chExt cx="78372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5749200" y="1828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6,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92680" y="1828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28600" y="2209680"/>
              <a:ext cx="1092600" cy="380880"/>
              <a:chOff x="228600" y="2209680"/>
              <a:chExt cx="1092600" cy="380880"/>
            </a:xfrm>
          </p:grpSpPr>
          <p:sp>
            <p:nvSpPr>
              <p:cNvPr id="95" name=""/>
              <p:cNvSpPr/>
              <p:nvPr/>
            </p:nvSpPr>
            <p:spPr>
              <a:xfrm>
                <a:off x="285120" y="220968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" y="220968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21560" y="2209680"/>
              <a:ext cx="3679560" cy="380880"/>
              <a:chOff x="1321560" y="2209680"/>
              <a:chExt cx="3679560" cy="380880"/>
            </a:xfrm>
          </p:grpSpPr>
          <p:sp>
            <p:nvSpPr>
              <p:cNvPr id="98" name=""/>
              <p:cNvSpPr/>
              <p:nvPr/>
            </p:nvSpPr>
            <p:spPr>
              <a:xfrm>
                <a:off x="1378440" y="220968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21560" y="220968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001480" y="2209680"/>
              <a:ext cx="690480" cy="380880"/>
              <a:chOff x="5001480" y="2209680"/>
              <a:chExt cx="690480" cy="380880"/>
            </a:xfrm>
          </p:grpSpPr>
          <p:sp>
            <p:nvSpPr>
              <p:cNvPr id="101" name=""/>
              <p:cNvSpPr/>
              <p:nvPr/>
            </p:nvSpPr>
            <p:spPr>
              <a:xfrm>
                <a:off x="5058360" y="2209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01480" y="2209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92680" y="2209680"/>
              <a:ext cx="783720" cy="380880"/>
              <a:chOff x="5692680" y="2209680"/>
              <a:chExt cx="783720" cy="380880"/>
            </a:xfrm>
          </p:grpSpPr>
          <p:sp>
            <p:nvSpPr>
              <p:cNvPr id="104" name=""/>
              <p:cNvSpPr/>
              <p:nvPr/>
            </p:nvSpPr>
            <p:spPr>
              <a:xfrm>
                <a:off x="5749200" y="2209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1,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92680" y="2209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2590920"/>
              <a:ext cx="1092600" cy="380880"/>
              <a:chOff x="228600" y="2590920"/>
              <a:chExt cx="1092600" cy="380880"/>
            </a:xfrm>
          </p:grpSpPr>
          <p:sp>
            <p:nvSpPr>
              <p:cNvPr id="107" name=""/>
              <p:cNvSpPr/>
              <p:nvPr/>
            </p:nvSpPr>
            <p:spPr>
              <a:xfrm>
                <a:off x="285120" y="259092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8600" y="259092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321560" y="2590920"/>
              <a:ext cx="3679560" cy="380880"/>
              <a:chOff x="1321560" y="2590920"/>
              <a:chExt cx="3679560" cy="380880"/>
            </a:xfrm>
          </p:grpSpPr>
          <p:sp>
            <p:nvSpPr>
              <p:cNvPr id="110" name=""/>
              <p:cNvSpPr/>
              <p:nvPr/>
            </p:nvSpPr>
            <p:spPr>
              <a:xfrm>
                <a:off x="1378440" y="259092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21560" y="259092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001480" y="2590920"/>
              <a:ext cx="690480" cy="380880"/>
              <a:chOff x="5001480" y="2590920"/>
              <a:chExt cx="69048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5058360" y="259092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1480" y="259092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692680" y="2590920"/>
              <a:ext cx="783720" cy="380880"/>
              <a:chOff x="5692680" y="2590920"/>
              <a:chExt cx="783720" cy="380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749200" y="259092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92680" y="259092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8600" y="2971800"/>
              <a:ext cx="1092600" cy="380880"/>
              <a:chOff x="228600" y="2971800"/>
              <a:chExt cx="1092600" cy="380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85120" y="297180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297180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321560" y="2971800"/>
              <a:ext cx="3679560" cy="380880"/>
              <a:chOff x="1321560" y="2971800"/>
              <a:chExt cx="3679560" cy="380880"/>
            </a:xfrm>
          </p:grpSpPr>
          <p:sp>
            <p:nvSpPr>
              <p:cNvPr id="122" name=""/>
              <p:cNvSpPr/>
              <p:nvPr/>
            </p:nvSpPr>
            <p:spPr>
              <a:xfrm>
                <a:off x="1378440" y="297180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21560" y="297180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001480" y="2971800"/>
              <a:ext cx="690480" cy="380880"/>
              <a:chOff x="5001480" y="2971800"/>
              <a:chExt cx="690480" cy="380880"/>
            </a:xfrm>
          </p:grpSpPr>
          <p:sp>
            <p:nvSpPr>
              <p:cNvPr id="125" name=""/>
              <p:cNvSpPr/>
              <p:nvPr/>
            </p:nvSpPr>
            <p:spPr>
              <a:xfrm>
                <a:off x="5058360" y="2971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01480" y="2971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692680" y="2971800"/>
              <a:ext cx="783720" cy="380880"/>
              <a:chOff x="5692680" y="2971800"/>
              <a:chExt cx="783720" cy="380880"/>
            </a:xfrm>
          </p:grpSpPr>
          <p:sp>
            <p:nvSpPr>
              <p:cNvPr id="128" name=""/>
              <p:cNvSpPr/>
              <p:nvPr/>
            </p:nvSpPr>
            <p:spPr>
              <a:xfrm>
                <a:off x="5749200" y="2971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92680" y="2971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304920" y="6400800"/>
            <a:ext cx="6095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Stgo, CV=0,2 lo que implica n=60 obs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s sistemáticas del estilo: 1 cada 5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62320" y="3592440"/>
                <a:ext cx="14284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04920" y="4419720"/>
            <a:ext cx="609588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, nivel de significancia estadística asumiendo una función de distribución específica (normal: Z=1,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, coeficiente de variación de la variable a medir (desviación estándar /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, error aceptado en la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160" y="3808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192640" y="5257800"/>
            <a:ext cx="1023480" cy="309600"/>
            <a:chOff x="5192640" y="5257800"/>
            <a:chExt cx="1023480" cy="309600"/>
          </a:xfrm>
        </p:grpSpPr>
        <p:sp>
          <p:nvSpPr>
            <p:cNvPr id="136" name=""/>
            <p:cNvSpPr/>
            <p:nvPr/>
          </p:nvSpPr>
          <p:spPr>
            <a:xfrm flipH="1">
              <a:off x="5192640" y="552924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43040" y="525780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5040" y="533412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52578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54120" y="52578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91760" y="549144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91760" y="525780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5324400" y="52578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324400" y="54864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059280" y="5029200"/>
            <a:ext cx="1023480" cy="309600"/>
            <a:chOff x="3059280" y="5029200"/>
            <a:chExt cx="1023480" cy="309600"/>
          </a:xfrm>
        </p:grpSpPr>
        <p:sp>
          <p:nvSpPr>
            <p:cNvPr id="146" name=""/>
            <p:cNvSpPr/>
            <p:nvPr/>
          </p:nvSpPr>
          <p:spPr>
            <a:xfrm flipH="1">
              <a:off x="3059280" y="530064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09680" y="502920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1680" y="510552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91040" y="50292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20760" y="50292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58400" y="526284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758400" y="502920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191040" y="50292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191040" y="52578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49240" y="5181480"/>
            <a:ext cx="1023480" cy="309600"/>
            <a:chOff x="849240" y="5181480"/>
            <a:chExt cx="1023480" cy="309600"/>
          </a:xfrm>
        </p:grpSpPr>
        <p:sp>
          <p:nvSpPr>
            <p:cNvPr id="156" name=""/>
            <p:cNvSpPr/>
            <p:nvPr/>
          </p:nvSpPr>
          <p:spPr>
            <a:xfrm flipH="1">
              <a:off x="849240" y="54529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9640" y="51814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1640" y="52578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1000" y="5181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10720" y="5181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8360" y="54151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548360" y="51814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981000" y="5181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981000" y="54100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280" y="838080"/>
            <a:ext cx="6400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tramos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o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stantánea (rad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ercial o de viaje (método patentes o vehículo flota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rrido o en movimiento (segui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km/h], [m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8120" y="4038480"/>
            <a:ext cx="31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todo de las Pa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87692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79132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1600" y="457200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1880" y="457200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6400800"/>
            <a:ext cx="3210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, Período, tipo vehícu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ra (h:mm: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tente (xx-12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9680" y="6415200"/>
            <a:ext cx="2875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, Período, tipo vehíc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ra (hh:mm: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tente (xx-12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01992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29280" y="60199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192640" y="1752480"/>
            <a:ext cx="1023480" cy="309600"/>
            <a:chOff x="5192640" y="1752480"/>
            <a:chExt cx="1023480" cy="309600"/>
          </a:xfrm>
        </p:grpSpPr>
        <p:sp>
          <p:nvSpPr>
            <p:cNvPr id="177" name=""/>
            <p:cNvSpPr/>
            <p:nvPr/>
          </p:nvSpPr>
          <p:spPr>
            <a:xfrm flipH="1">
              <a:off x="5192640" y="20239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43040" y="17524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05040" y="18288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1752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54120" y="1752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91760" y="19861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891760" y="17524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5324400" y="1752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324400" y="19810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059280" y="1523880"/>
            <a:ext cx="1023480" cy="309600"/>
            <a:chOff x="3059280" y="1523880"/>
            <a:chExt cx="1023480" cy="309600"/>
          </a:xfrm>
        </p:grpSpPr>
        <p:sp>
          <p:nvSpPr>
            <p:cNvPr id="187" name=""/>
            <p:cNvSpPr/>
            <p:nvPr/>
          </p:nvSpPr>
          <p:spPr>
            <a:xfrm flipH="1">
              <a:off x="3059280" y="17953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09680" y="15238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1680" y="16002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91040" y="15238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0760" y="15238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58400" y="17575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758400" y="15238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91040" y="15238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191040" y="1752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849240" y="1676520"/>
            <a:ext cx="1023480" cy="309600"/>
            <a:chOff x="849240" y="1676520"/>
            <a:chExt cx="1023480" cy="309600"/>
          </a:xfrm>
        </p:grpSpPr>
        <p:sp>
          <p:nvSpPr>
            <p:cNvPr id="197" name=""/>
            <p:cNvSpPr/>
            <p:nvPr/>
          </p:nvSpPr>
          <p:spPr>
            <a:xfrm flipH="1">
              <a:off x="849240" y="194796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9640" y="167652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1640" y="175284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81000" y="167652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0720" y="167652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48360" y="191016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548360" y="167652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981000" y="167652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81000" y="190512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-1800" y="609480"/>
            <a:ext cx="31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todo de las Pa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3716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2860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1600" y="106668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1880" y="106668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2160" y="2743200"/>
            <a:ext cx="332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n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o flujo veh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ncronización de relo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25146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29280" y="25146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1880" y="3962520"/>
            <a:ext cx="24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eo de Pa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g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47640" y="5715000"/>
                <a:ext cx="5518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locidad temporal: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'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'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71680" y="7189920"/>
                <a:ext cx="56768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locidad espacial: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72520" y="54100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¿Qué Veloc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000" y="45720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l Flujo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plicable sólo a intersecciones semafor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ceso real se idealiza, definiéndose un diagrama binario que considera tre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2120" y="2133720"/>
            <a:ext cx="5409720" cy="3006360"/>
            <a:chOff x="762120" y="2133720"/>
            <a:chExt cx="5409720" cy="3006360"/>
          </a:xfrm>
        </p:grpSpPr>
        <p:sp>
          <p:nvSpPr>
            <p:cNvPr id="222" name=""/>
            <p:cNvSpPr/>
            <p:nvPr/>
          </p:nvSpPr>
          <p:spPr>
            <a:xfrm flipV="1">
              <a:off x="1720800" y="2356200"/>
              <a:ext cx="0" cy="20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20800" y="4360680"/>
              <a:ext cx="40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09680" y="2133720"/>
              <a:ext cx="27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98240" y="413820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05520" y="2857320"/>
              <a:ext cx="1711800" cy="0"/>
            </a:xfrm>
            <a:prstGeom prst="line">
              <a:avLst/>
            </a:prstGeom>
            <a:ln cap="rnd" w="22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515600" y="2689920"/>
              <a:ext cx="1278000" cy="1669320"/>
              <a:chOff x="1515600" y="2689920"/>
              <a:chExt cx="1278000" cy="1669320"/>
            </a:xfrm>
          </p:grpSpPr>
          <p:sp>
            <p:nvSpPr>
              <p:cNvPr id="228" name=""/>
              <p:cNvSpPr/>
              <p:nvPr/>
            </p:nvSpPr>
            <p:spPr>
              <a:xfrm flipV="1">
                <a:off x="1515600" y="2689560"/>
                <a:ext cx="684000" cy="166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 rot="10517400">
                <a:off x="2193120" y="2853360"/>
                <a:ext cx="546480" cy="133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695400" y="2689920"/>
              <a:ext cx="1277280" cy="1669320"/>
              <a:chOff x="3695400" y="2689920"/>
              <a:chExt cx="1277280" cy="1669320"/>
            </a:xfrm>
          </p:grpSpPr>
          <p:sp>
            <p:nvSpPr>
              <p:cNvPr id="231" name=""/>
              <p:cNvSpPr/>
              <p:nvPr/>
            </p:nvSpPr>
            <p:spPr>
              <a:xfrm flipH="1" flipV="1">
                <a:off x="4289400" y="2689560"/>
                <a:ext cx="683280" cy="166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 rot="11082600">
                <a:off x="3749400" y="2853720"/>
                <a:ext cx="546480" cy="133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rot="16075200">
              <a:off x="2046240" y="4226040"/>
              <a:ext cx="167040" cy="547560"/>
            </a:xfrm>
            <a:custGeom>
              <a:avLst/>
              <a:gdLst>
                <a:gd name="textAreaLeft" fmla="*/ 106920 w 167040"/>
                <a:gd name="textAreaRight" fmla="*/ 167400 w 167040"/>
                <a:gd name="textAreaTop" fmla="*/ 14040 h 547560"/>
                <a:gd name="textAreaBottom" fmla="*/ 533520 h 5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075200">
              <a:off x="4205160" y="4260240"/>
              <a:ext cx="167040" cy="479160"/>
            </a:xfrm>
            <a:custGeom>
              <a:avLst/>
              <a:gdLst>
                <a:gd name="textAreaLeft" fmla="*/ 106920 w 167040"/>
                <a:gd name="textAreaRight" fmla="*/ 167400 w 167040"/>
                <a:gd name="textAreaTop" fmla="*/ 12240 h 479160"/>
                <a:gd name="textAreaBottom" fmla="*/ 466920 h 47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191000">
              <a:off x="3124440" y="3695040"/>
              <a:ext cx="201600" cy="1642320"/>
            </a:xfrm>
            <a:custGeom>
              <a:avLst/>
              <a:gdLst>
                <a:gd name="textAreaLeft" fmla="*/ 128880 w 201600"/>
                <a:gd name="textAreaRight" fmla="*/ 201960 w 201600"/>
                <a:gd name="textAreaTop" fmla="*/ 42840 h 1642320"/>
                <a:gd name="textAreaBottom" fmla="*/ 1599480 h 164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23120" y="4692600"/>
              <a:ext cx="41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1840" y="4692600"/>
              <a:ext cx="41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86080" y="46926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05520" y="2913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49280" y="2913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583640" y="2857320"/>
              <a:ext cx="75312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7320" y="2635560"/>
              <a:ext cx="54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26000" y="4917600"/>
              <a:ext cx="2602080" cy="222480"/>
            </a:xfrm>
            <a:prstGeom prst="rect">
              <a:avLst/>
            </a:prstGeom>
            <a:solidFill>
              <a:srgbClr val="21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49280" y="4917600"/>
              <a:ext cx="342000" cy="222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91640" y="4917600"/>
              <a:ext cx="130104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120" y="4912920"/>
              <a:ext cx="116388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28600" y="556272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servar vehículos por pista, durante tres interva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primeros 10 s o 6 a 7 vehículos (transición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o del período de verde </a:t>
            </a: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SATU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arillo más el ro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ólo Vehículos que estuvieron en 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990720"/>
            <a:ext cx="640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Regist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rrelativo del ciclo del semáf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primer intervalo (si tiempo &lt; 10 s o &lt; 6 ó 7 vehículos, no considerar observ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intervalo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último intervalo (sólo si tiempo de saturación=tiempo de ver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ción del período saturado (intervalos 1 y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ción del período de verde (si es fijo, anotarlo 1 sola ve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362320" y="4267080"/>
                <a:ext cx="17143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X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5181480"/>
            <a:ext cx="5867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 : flujo de saturación (veh/hr-pis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v: Número total de vehículos que cruza en intervalo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s: duración total de la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: número de ciclos observ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6T21:36:40Z</dcterms:created>
  <dc:creator>EVF-RFA</dc:creator>
  <dc:description/>
  <dc:language>en-US</dc:language>
  <cp:lastModifiedBy>.</cp:lastModifiedBy>
  <dcterms:modified xsi:type="dcterms:W3CDTF">2001-07-31T21:02:18Z</dcterms:modified>
  <cp:revision>20</cp:revision>
  <dc:subject/>
  <dc:title>Gestión de Tránsi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41951184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 CI53G</vt:lpwstr>
  </property>
</Properties>
</file>