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F38-90D0-4DE6-BF2B-E415C77D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668-EC1B-4C51-9B2D-0C986FA0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C31-CA0B-42B1-AE62-F645875C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45E-124A-4487-AC11-D9C49E80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D3C5-D38B-46FD-891F-16A224F3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5F97-8D23-4D16-9A93-4648D96B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9C14-02B3-48B1-9437-01196B3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554D-C2F6-4328-9A98-4315DB0F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C04-7A92-44BC-B8DF-CC9D2059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CB8C-3F9D-463A-946D-97702ED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B4EC-4418-46EB-9B15-60068142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CD7-22B5-42E7-9F2A-637D4A44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D96D-5EBF-418B-8777-EC0DF3A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F7A3-FE42-4E55-8B50-3E373D05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F2C2-6814-4C6F-A128-F577F110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F115-CD58-4890-881B-FF1A1160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017-9CF6-4117-815E-FAFCE64C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633-A17C-464A-989E-B8332E90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E12-74F9-4BDD-9781-A729FF9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B88-5638-4903-ABE8-4A0F3CA0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2F7-DA8A-4016-B9CB-C21EED21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1BA-06A0-42F9-9F31-FC00EFF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FAE-4E9C-4CB6-A7F0-B4F958B2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A47-D28A-4B5C-B143-72A0504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52A4-5F71-4963-84E0-B10FEAF1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461E-597B-4121-8346-E17A5E8E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tedra: Francisco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: Agustín Ca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uxiliar: Angelo Guev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Organ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tedra: 2 sesiones por semana, 70% de la nota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es: 2 sesiones por semana, 30% nota final, requisito de aprob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Fechas de Contro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er Control : Mi 16 de Abril, sem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gundo Control: Mi 14 Mayo, sem.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cer Control : Vi 13 Junio, sem.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Programa del cur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1. Introduc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2.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3. Función 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4. Modelamiento espacio y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5. Uso del suelo y generación de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6. Distribución de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7. Elección m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Cap. 8. Equilibrio en r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3:04:40Z</dcterms:created>
  <dc:creator>F M</dc:creator>
  <dc:description/>
  <dc:language>en-US</dc:language>
  <cp:lastModifiedBy>F M</cp:lastModifiedBy>
  <dcterms:modified xsi:type="dcterms:W3CDTF">2003-03-31T12:47:11Z</dcterms:modified>
  <cp:revision>11</cp:revision>
  <dc:subject/>
  <dc:title>CI 43A  Análisis de Sistemas de Transporte</dc:title>
</cp:coreProperties>
</file>