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011-79C3-4EBC-9873-775C64E7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ECA-AC64-4A23-B36D-6687D8C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316-2627-446D-A0A1-75AFE60A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B7C-2012-4D71-A436-29B2C944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9FE-638C-4E4A-AF41-037878D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2D70-6BF3-4D61-AED1-4110EA6C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5206-7BF6-4CD9-A974-8F538FC5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08A5-55E5-4C67-ABEB-8881BB4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76F3-4F2C-46E7-878D-2877782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20B-1A54-4E8B-B095-9746949C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7B2-47DE-47ED-B875-F06D571C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B6F-23FE-465C-8305-0460DB4A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EFD-474A-4A03-B168-273349B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267-79DB-446B-BB9E-5F68373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74E9-93D6-4363-A606-E9E5EF37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60AE-B3C7-42BB-83F6-600E987A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F9C9-C270-4992-8F91-55666591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5B3-55A0-4941-85C6-35EA136F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6BA-554B-46F3-9F9B-1A1EEBBF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B4F-2EF1-4A78-A848-CFE518E1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552-D6B7-4894-8CF5-555FC88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4F4-532F-464A-B303-709E4AC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2C5-BA99-4A26-883C-9EABFA2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0F3-67B7-4054-8F24-646E859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2398-346B-4C2D-96DB-135DCCF44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54E8-7D7F-428F-9E21-631C99CF2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tedra: Francisco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: Agustín Ca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uxiliar: Angelo Guev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Organ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tedra: 2 sesiones por semana, 70% de la nota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es: 2 sesiones por semana, 30% nota final, requisito de aprob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Fechas de Contro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er Control : Mi 16 de Abril, sem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gundo Control: Mi 14 Mayo, sem.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cer Control : Vi 13 Junio, sem.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Programa del cur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1. Introduc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2.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3. Función 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4. Modelamiento espacio y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5. Uso del suelo y generación de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6. Distribución de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7. Elección m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8. Equilibrio en r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3:04:40Z</dcterms:created>
  <dc:creator>F M</dc:creator>
  <dc:description/>
  <dc:language>en-US</dc:language>
  <cp:lastModifiedBy>F M</cp:lastModifiedBy>
  <dcterms:modified xsi:type="dcterms:W3CDTF">2003-03-31T12:47:11Z</dcterms:modified>
  <cp:revision>11</cp:revision>
  <dc:subject/>
  <dc:title>CI 43A  Análisis de Sistemas de Transporte</dc:title>
</cp:coreProperties>
</file>