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5ED-89F1-4C24-B2DE-B109F7AC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13D-D675-4555-A5E0-86F45157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687-0654-4B9A-B8A3-0A74B081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415-9E1F-4A66-B2B0-239820FA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F485-0AFE-4749-B37E-E1185F6B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C226-5A9A-40FB-BA6A-B4933E76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9379-6972-4805-ABE4-98B9E3B4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10A0-E91D-43AE-A2BF-C7E5F9F0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CBBA-4C1A-4CB7-8605-606D1381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8A04-E7D2-43F4-9701-631E4514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69F3-E106-4B9F-B38B-41B37270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B4F-BF33-41D9-993D-014B8C17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DBAD-123E-448F-9021-72F4AE5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B906-AFA0-424A-8308-4A4DB0AF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8EE5-F8BB-4AB1-A530-02F776D2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A429-5859-453C-B0DC-C8427D00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EE4E-091E-4364-BEBB-D514BA46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8AB-E761-4608-A409-8177A30B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13F-F054-4DFA-8CAF-74604E05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834-3955-4371-887B-2B39CF6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567-1539-4798-A6FA-DA14DD4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5DC-77D2-4B1E-A57E-F1C1E702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5AD-5CC1-4E2B-B399-EA68C22C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1C3-0EA5-4CBE-B706-6780134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D42-C20F-46B3-B5E1-D351419DB47F}" type="slidenum">
              <a:rPr b="0" lang="en-US" sz="1400" spc="-1" strike="noStrike">
                <a:solidFill>
                  <a:srgbClr val="0099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F513-6A35-450A-8225-4974816D6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entury Schoolbook"/>
              </a:rPr>
              <a:t>Capítulo 8</a:t>
            </a:r>
            <a:endParaRPr b="0" lang="en-US" sz="3600" spc="-1" strike="noStrike">
              <a:solidFill>
                <a:srgbClr val="0099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entury Schoolbook"/>
              </a:rPr>
              <a:t>Equilibrio en Redes </a:t>
            </a:r>
            <a:endParaRPr b="0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C97-C9EA-41AD-8FD8-675B2C1EEB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Ejemplo red simple:  óptimo sistema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Times New Roman"/>
              </a:rPr>
              <a:t>El </a:t>
            </a:r>
            <a:r>
              <a:rPr b="0" i="1" lang="es-ES_tradnl" sz="2000" spc="-1" strike="noStrike">
                <a:solidFill>
                  <a:srgbClr val="006699"/>
                </a:solidFill>
                <a:latin typeface="Times New Roman"/>
              </a:rPr>
              <a:t>OS</a:t>
            </a:r>
            <a:r>
              <a:rPr b="0" lang="es-ES_tradnl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6699"/>
                </a:solidFill>
                <a:latin typeface="Times New Roman"/>
              </a:rPr>
              <a:t>NO ES EQUILIBRIO</a:t>
            </a:r>
            <a:br>
              <a:rPr sz="2000"/>
            </a:br>
            <a:r>
              <a:rPr b="0" lang="es-ES_tradnl" sz="2000" spc="-1" strike="noStrike">
                <a:solidFill>
                  <a:srgbClr val="006699"/>
                </a:solidFill>
                <a:latin typeface="Times New Roman"/>
              </a:rPr>
              <a:t>Diferencia </a:t>
            </a:r>
            <a:r>
              <a:rPr b="0" i="1" lang="es-ES_tradnl" sz="2000" spc="-1" strike="noStrike">
                <a:solidFill>
                  <a:srgbClr val="006699"/>
                </a:solidFill>
                <a:latin typeface="Times New Roman"/>
              </a:rPr>
              <a:t>OS-EU</a:t>
            </a:r>
            <a:r>
              <a:rPr b="0" lang="es-ES_tradnl" sz="2000" spc="-1" strike="noStrike">
                <a:solidFill>
                  <a:srgbClr val="006699"/>
                </a:solidFill>
                <a:latin typeface="Times New Roman"/>
              </a:rPr>
              <a:t>:  fenómeno de congestión (externalidad).  Usuarios   no   perciben  tiempo total (social), sino el propio (privado)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0240" y="1905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4320" y="1981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5400000">
            <a:off x="2802960" y="531720"/>
            <a:ext cx="1523880" cy="32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43" y="381"/>
                </a:moveTo>
                <a:arcTo wR="10800" hR="10800" stAng="-4484407" swAng="9748166"/>
                <a:lnTo>
                  <a:pt x="10800" y="10800"/>
                </a:lnTo>
                <a:close/>
              </a:path>
              <a:path fill="none" w="21600" h="21600">
                <a:moveTo>
                  <a:pt x="13643" y="381"/>
                </a:moveTo>
                <a:arcTo wR="10800" hR="10800" stAng="-4484407" swAng="9748166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rot="16200000">
            <a:off x="2806560" y="534240"/>
            <a:ext cx="15231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2" y="82"/>
                </a:moveTo>
                <a:arcTo wR="10800" hR="10800" stAng="-4975023" swAng="9775659"/>
                <a:lnTo>
                  <a:pt x="10800" y="10800"/>
                </a:lnTo>
                <a:close/>
              </a:path>
              <a:path fill="none" w="21600" h="21600">
                <a:moveTo>
                  <a:pt x="12132" y="82"/>
                </a:moveTo>
                <a:arcTo wR="10800" hR="10800" stAng="-4975023" swAng="9775659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1905120"/>
            <a:ext cx="304920" cy="30456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1295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99cc"/>
                </a:solidFill>
                <a:uFillTx/>
                <a:latin typeface="Times New Roman"/>
              </a:rPr>
              <a:t>EU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666880" y="1066680"/>
                <a:ext cx="1797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743200" y="2895480"/>
                <a:ext cx="1868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990720" y="1828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2057400"/>
            <a:ext cx="30456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28195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Tiempo total =3.000 min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99cc"/>
                </a:solidFill>
                <a:uFillTx/>
                <a:latin typeface="Times New Roman"/>
              </a:rPr>
              <a:t>OS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666880" y="3505320"/>
                <a:ext cx="17971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H="1" rot="5400000">
            <a:off x="2802960" y="2970360"/>
            <a:ext cx="1523880" cy="32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43" y="381"/>
                </a:moveTo>
                <a:arcTo wR="10800" hR="10800" stAng="-4484407" swAng="9748166"/>
                <a:lnTo>
                  <a:pt x="10800" y="10800"/>
                </a:lnTo>
                <a:close/>
              </a:path>
              <a:path fill="none" w="21600" h="21600">
                <a:moveTo>
                  <a:pt x="13643" y="381"/>
                </a:moveTo>
                <a:arcTo wR="10800" hR="10800" stAng="-4484407" swAng="9748166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2806200" y="2972160"/>
            <a:ext cx="15238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2" y="82"/>
                </a:moveTo>
                <a:arcTo wR="10800" hR="10800" stAng="-4975023" swAng="9775659"/>
                <a:lnTo>
                  <a:pt x="10800" y="10800"/>
                </a:lnTo>
                <a:close/>
              </a:path>
              <a:path fill="none" w="21600" h="21600">
                <a:moveTo>
                  <a:pt x="12132" y="82"/>
                </a:moveTo>
                <a:arcTo wR="10800" hR="10800" stAng="-4975023" swAng="9775659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343400"/>
            <a:ext cx="304920" cy="30492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419720"/>
            <a:ext cx="304920" cy="30456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5334120"/>
                <a:ext cx="1844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952880" y="52578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Tiempo total =2.850 min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14400" y="4379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30640" y="4419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296-BDCA-430F-8E0A-0E8CB00302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Equilibrio Usuario:  Solución Gráfica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Caso demanda inelástica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1828800"/>
            <a:ext cx="0" cy="1676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343400"/>
            <a:ext cx="0" cy="1676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676520" y="1676520"/>
                <a:ext cx="241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00200" y="2895480"/>
                <a:ext cx="324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352680" y="1600200"/>
                <a:ext cx="609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029200" y="1676520"/>
                <a:ext cx="539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715000" y="1676520"/>
                <a:ext cx="247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715000" y="2666880"/>
                <a:ext cx="324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43200" y="3429000"/>
                <a:ext cx="290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800600" y="3429000"/>
                <a:ext cx="316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594240" y="3556080"/>
                <a:ext cx="488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1981080" y="3505320"/>
            <a:ext cx="36576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3809880"/>
            <a:ext cx="160020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3657600"/>
            <a:ext cx="76212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3581280"/>
            <a:ext cx="0" cy="1526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3809880"/>
            <a:ext cx="16002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3657600"/>
            <a:ext cx="53316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3581280"/>
            <a:ext cx="0" cy="1526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3657600"/>
            <a:ext cx="53352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3657600"/>
            <a:ext cx="13716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3581280"/>
            <a:ext cx="0" cy="1526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1828800"/>
            <a:ext cx="0" cy="1676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3200400"/>
            <a:ext cx="3581280" cy="0"/>
          </a:xfrm>
          <a:prstGeom prst="line">
            <a:avLst/>
          </a:prstGeom>
          <a:ln w="3240">
            <a:solidFill>
              <a:srgbClr val="00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343400" y="2438280"/>
            <a:ext cx="0" cy="1067040"/>
          </a:xfrm>
          <a:prstGeom prst="line">
            <a:avLst/>
          </a:prstGeom>
          <a:ln w="3240">
            <a:solidFill>
              <a:srgbClr val="00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1981080"/>
            <a:ext cx="3657600" cy="1219320"/>
          </a:xfrm>
          <a:custGeom>
            <a:avLst/>
            <a:gdLst/>
            <a:ahLst/>
            <a:rect l="l" t="t" r="r" b="b"/>
            <a:pathLst>
              <a:path w="2304" h="768">
                <a:moveTo>
                  <a:pt x="0" y="768"/>
                </a:moveTo>
                <a:cubicBezTo>
                  <a:pt x="284" y="736"/>
                  <a:pt x="568" y="704"/>
                  <a:pt x="816" y="624"/>
                </a:cubicBezTo>
                <a:cubicBezTo>
                  <a:pt x="1064" y="544"/>
                  <a:pt x="1304" y="368"/>
                  <a:pt x="1488" y="288"/>
                </a:cubicBezTo>
                <a:cubicBezTo>
                  <a:pt x="1672" y="208"/>
                  <a:pt x="1784" y="192"/>
                  <a:pt x="1920" y="144"/>
                </a:cubicBezTo>
                <a:cubicBezTo>
                  <a:pt x="2056" y="96"/>
                  <a:pt x="2240" y="24"/>
                  <a:pt x="2304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1981080"/>
            <a:ext cx="1904760" cy="914400"/>
          </a:xfrm>
          <a:custGeom>
            <a:avLst/>
            <a:gdLst/>
            <a:ahLst/>
            <a:rect l="l" t="t" r="r" b="b"/>
            <a:pathLst>
              <a:path w="1200" h="576">
                <a:moveTo>
                  <a:pt x="1200" y="576"/>
                </a:moveTo>
                <a:cubicBezTo>
                  <a:pt x="1052" y="576"/>
                  <a:pt x="904" y="576"/>
                  <a:pt x="768" y="528"/>
                </a:cubicBezTo>
                <a:cubicBezTo>
                  <a:pt x="632" y="480"/>
                  <a:pt x="512" y="376"/>
                  <a:pt x="384" y="288"/>
                </a:cubicBezTo>
                <a:cubicBezTo>
                  <a:pt x="256" y="200"/>
                  <a:pt x="64" y="48"/>
                  <a:pt x="0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6019920"/>
            <a:ext cx="36576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676520" y="4114800"/>
                <a:ext cx="241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981080" y="4952880"/>
            <a:ext cx="3657600" cy="685800"/>
          </a:xfrm>
          <a:custGeom>
            <a:avLst/>
            <a:gdLst/>
            <a:ahLst/>
            <a:rect l="l" t="t" r="r" b="b"/>
            <a:pathLst>
              <a:path w="2304" h="768">
                <a:moveTo>
                  <a:pt x="0" y="768"/>
                </a:moveTo>
                <a:cubicBezTo>
                  <a:pt x="284" y="736"/>
                  <a:pt x="568" y="704"/>
                  <a:pt x="816" y="624"/>
                </a:cubicBezTo>
                <a:cubicBezTo>
                  <a:pt x="1064" y="544"/>
                  <a:pt x="1304" y="368"/>
                  <a:pt x="1488" y="288"/>
                </a:cubicBezTo>
                <a:cubicBezTo>
                  <a:pt x="1672" y="208"/>
                  <a:pt x="1784" y="192"/>
                  <a:pt x="1920" y="144"/>
                </a:cubicBezTo>
                <a:cubicBezTo>
                  <a:pt x="2056" y="96"/>
                  <a:pt x="2240" y="24"/>
                  <a:pt x="2304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373392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373392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600200" y="5410080"/>
                <a:ext cx="324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5638680" y="4343400"/>
            <a:ext cx="0" cy="1676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4343400"/>
            <a:ext cx="2514600" cy="380880"/>
          </a:xfrm>
          <a:custGeom>
            <a:avLst/>
            <a:gdLst/>
            <a:ahLst/>
            <a:rect l="l" t="t" r="r" b="b"/>
            <a:pathLst>
              <a:path w="1200" h="576">
                <a:moveTo>
                  <a:pt x="1200" y="576"/>
                </a:moveTo>
                <a:cubicBezTo>
                  <a:pt x="1052" y="576"/>
                  <a:pt x="904" y="576"/>
                  <a:pt x="768" y="528"/>
                </a:cubicBezTo>
                <a:cubicBezTo>
                  <a:pt x="632" y="480"/>
                  <a:pt x="512" y="376"/>
                  <a:pt x="384" y="288"/>
                </a:cubicBezTo>
                <a:cubicBezTo>
                  <a:pt x="256" y="200"/>
                  <a:pt x="64" y="48"/>
                  <a:pt x="0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514600" y="4114800"/>
                <a:ext cx="609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715000" y="4495680"/>
                <a:ext cx="324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715000" y="4114800"/>
                <a:ext cx="247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267080" y="4800600"/>
                <a:ext cx="5400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1981080" y="6248520"/>
            <a:ext cx="121932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617220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617220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6248520"/>
            <a:ext cx="13716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76720" y="6019920"/>
                <a:ext cx="1008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CF0-2D43-4109-9DD2-EF9EE55E99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Cambios en Redes (</a:t>
            </a:r>
            <a:r>
              <a:rPr b="0" i="1" lang="en-US" sz="4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 varía)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990720"/>
            <a:ext cx="48006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Paradoja de D.Braes (1968)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Efectos de cambios en arco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286000" y="1600200"/>
                <a:ext cx="1066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419720" y="2286000"/>
                <a:ext cx="914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219320" y="2286000"/>
                <a:ext cx="914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819520" y="3048120"/>
                <a:ext cx="1066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4227480" y="1905120"/>
            <a:ext cx="349200" cy="27288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73400" y="1974960"/>
            <a:ext cx="13968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0200" y="1973160"/>
            <a:ext cx="5572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367160" y="2177640"/>
            <a:ext cx="0" cy="88596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273400" y="2178000"/>
            <a:ext cx="0" cy="74952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73400" y="1973160"/>
            <a:ext cx="0" cy="2714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762280" y="2244600"/>
            <a:ext cx="1604880" cy="81936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73400" y="1973160"/>
            <a:ext cx="628560" cy="3398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2927520"/>
            <a:ext cx="349200" cy="27288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657240" y="3048120"/>
            <a:ext cx="6858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3048120"/>
            <a:ext cx="11430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14600" y="3505320"/>
                <a:ext cx="14479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4343400" y="320040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q</a:t>
            </a:r>
            <a:r>
              <a:rPr b="0" i="1" lang="es-ES_tradnl" sz="2000" spc="-1" strike="noStrike" baseline="-25000">
                <a:solidFill>
                  <a:srgbClr val="0099cc"/>
                </a:solidFill>
                <a:latin typeface="Times New Roman"/>
              </a:rPr>
              <a:t>AB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=6.000 veh./hr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600200" y="4038480"/>
                <a:ext cx="677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50" name=""/>
          <p:cNvGrpSpPr/>
          <p:nvPr/>
        </p:nvGrpSpPr>
        <p:grpSpPr>
          <a:xfrm>
            <a:off x="2133720" y="3733920"/>
            <a:ext cx="2330280" cy="1187280"/>
            <a:chOff x="2133720" y="3733920"/>
            <a:chExt cx="2330280" cy="1187280"/>
          </a:xfrm>
        </p:grpSpPr>
        <p:sp>
          <p:nvSpPr>
            <p:cNvPr id="351" name="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133720" y="3733920"/>
              <a:ext cx="2330280" cy="1187280"/>
              <a:chOff x="2133720" y="3733920"/>
              <a:chExt cx="2330280" cy="1187280"/>
            </a:xfrm>
          </p:grpSpPr>
          <p:sp>
            <p:nvSpPr>
              <p:cNvPr id="353" name=""/>
              <p:cNvSpPr/>
              <p:nvPr/>
            </p:nvSpPr>
            <p:spPr>
              <a:xfrm>
                <a:off x="2286000" y="3810240"/>
                <a:ext cx="129528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800" y="3733920"/>
                <a:ext cx="349200" cy="272880"/>
              </a:xfrm>
              <a:prstGeom prst="ellipse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cc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81280" y="3810240"/>
                <a:ext cx="53352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286000" y="4267440"/>
                <a:ext cx="0" cy="38088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86000" y="3810240"/>
                <a:ext cx="0" cy="53316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514600" y="4800600"/>
                <a:ext cx="106668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4267080" y="4267080"/>
                <a:ext cx="0" cy="53316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67080" y="4038840"/>
                <a:ext cx="0" cy="38088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33720" y="4648320"/>
                <a:ext cx="349200" cy="272880"/>
              </a:xfrm>
              <a:prstGeom prst="ellipse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cc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2286000" y="3810240"/>
                <a:ext cx="914400" cy="45720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3200040" y="4267080"/>
                <a:ext cx="1066680" cy="53316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419720" y="4038480"/>
                <a:ext cx="60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514600" y="4724280"/>
                <a:ext cx="1447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581280" y="6477120"/>
            <a:ext cx="6858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5486400"/>
            <a:ext cx="12952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5410080"/>
            <a:ext cx="349200" cy="27324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486400"/>
            <a:ext cx="5335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286000" y="5943600"/>
            <a:ext cx="0" cy="38088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0" y="5486400"/>
            <a:ext cx="0" cy="533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6477120"/>
            <a:ext cx="10666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267080" y="5943600"/>
            <a:ext cx="0" cy="53352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5715000"/>
            <a:ext cx="0" cy="3808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6324480"/>
            <a:ext cx="349200" cy="27324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286000" y="5486400"/>
            <a:ext cx="914400" cy="45720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3200040" y="5943600"/>
            <a:ext cx="1066680" cy="53352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590920" y="5181480"/>
                <a:ext cx="13921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895480" y="5562720"/>
                <a:ext cx="5698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419720" y="5562720"/>
                <a:ext cx="706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514600" y="6524640"/>
                <a:ext cx="1371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608120" y="5562720"/>
                <a:ext cx="677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990720" y="36576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cc"/>
                </a:solidFill>
                <a:uFillTx/>
                <a:latin typeface="Times New Roman"/>
              </a:rPr>
              <a:t>EU(a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cc"/>
                </a:solidFill>
                <a:uFillTx/>
                <a:latin typeface="Times New Roman"/>
              </a:rPr>
              <a:t>EU(b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429000" y="5791320"/>
                <a:ext cx="6066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048120" y="3962520"/>
                <a:ext cx="5698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505320" y="4191120"/>
                <a:ext cx="606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5181480" y="3657600"/>
            <a:ext cx="37339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1600" spc="-1" strike="noStrike" baseline="30000">
                <a:solidFill>
                  <a:srgbClr val="0099cc"/>
                </a:solidFill>
                <a:latin typeface="Times New Roman"/>
              </a:rPr>
              <a:t>AB 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= 83 min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      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(116 min. En ruta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c-e-b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Notar que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i="1" lang="es-ES_tradnl" sz="1600" spc="-1" strike="noStrike" baseline="-25000">
                <a:solidFill>
                  <a:srgbClr val="0099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invirtiendo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1600" spc="-1" strike="noStrike" baseline="30000">
                <a:solidFill>
                  <a:srgbClr val="0099cc"/>
                </a:solidFill>
                <a:latin typeface="Times New Roman"/>
              </a:rPr>
              <a:t>a-e-d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=70 min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Symbol"/>
                <a:ea typeface="Symbol"/>
              </a:rPr>
              <a:t>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¡incentivo para usarlo!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54864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1600" spc="-1" strike="noStrike" baseline="30000">
                <a:solidFill>
                  <a:srgbClr val="0099cc"/>
                </a:solidFill>
                <a:latin typeface="Times New Roman"/>
              </a:rPr>
              <a:t>AB 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= 92 min &gt; 83 min.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¡</a:t>
            </a:r>
            <a:r>
              <a:rPr b="0" lang="es-ES_tradnl" sz="1400" spc="-1" strike="noStrike">
                <a:solidFill>
                  <a:srgbClr val="0099cc"/>
                </a:solidFill>
                <a:latin typeface="Times New Roman"/>
              </a:rPr>
              <a:t>PARADOJA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! no se puede invertir la situación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048120" y="2133720"/>
                <a:ext cx="10476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DE9-E172-4029-8B33-7943FF87B6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Equilibrio con Múltiples Rutas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1430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otación general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66680" y="1752480"/>
                <a:ext cx="322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523880" y="175248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flujo en el arco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a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flujo en la rut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K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con origen en zon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r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y destino en zon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s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flujo total (demanda inelástica) par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rs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tiempo de viaje en arco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a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de la red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tiempo de viaje en el par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rs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      si la rut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k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del par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rs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usa el arco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a</a:t>
            </a: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      en otro caso</a:t>
            </a: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Matriz de incidencia</a:t>
            </a: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66680" y="2362320"/>
                <a:ext cx="3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66680" y="31240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066680" y="3809880"/>
                <a:ext cx="27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066680" y="4572000"/>
                <a:ext cx="333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990720" y="5410080"/>
                <a:ext cx="407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1752480" y="51814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181480"/>
            <a:ext cx="3808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08040" y="533412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8E6-B60A-4929-A517-1A78C5FBFF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Ejemplo: matriz -- incidencia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29528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6248520"/>
            <a:ext cx="62485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4380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200400"/>
            <a:ext cx="62485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Arco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3962520"/>
            <a:ext cx="685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962520"/>
            <a:ext cx="609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3200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PAR  </a:t>
            </a:r>
            <a:r>
              <a:rPr b="0" i="1" lang="en-US" sz="1800" spc="-1" strike="noStrike">
                <a:solidFill>
                  <a:srgbClr val="0099cc"/>
                </a:solidFill>
                <a:latin typeface="Times New Roman"/>
              </a:rPr>
              <a:t>A B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3962520"/>
            <a:ext cx="609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3962520"/>
            <a:ext cx="609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3200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PAR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A C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1      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PAR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A D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1      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2       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3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7280" y="3962520"/>
            <a:ext cx="609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05520" y="3962520"/>
            <a:ext cx="609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3962520"/>
            <a:ext cx="609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5268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3886200"/>
            <a:ext cx="62485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14600" y="1295280"/>
            <a:ext cx="2438280" cy="1371600"/>
            <a:chOff x="2514600" y="1295280"/>
            <a:chExt cx="2438280" cy="1371600"/>
          </a:xfrm>
        </p:grpSpPr>
        <p:sp>
          <p:nvSpPr>
            <p:cNvPr id="426" name=""/>
            <p:cNvSpPr/>
            <p:nvPr/>
          </p:nvSpPr>
          <p:spPr>
            <a:xfrm flipV="1">
              <a:off x="2514600" y="1295280"/>
              <a:ext cx="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666880"/>
              <a:ext cx="24382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14600" y="1295280"/>
              <a:ext cx="24382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52880" y="1295280"/>
              <a:ext cx="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514600" y="1295280"/>
              <a:ext cx="243828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133720" y="2590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914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914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7524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914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175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29E-1579-4981-A795-D6C877656B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Ecuaciones de Equilibrio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10666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1)  </a:t>
            </a:r>
            <a:r>
              <a:rPr b="1" lang="es-ES_tradnl" sz="2200" spc="-1" strike="noStrike">
                <a:solidFill>
                  <a:srgbClr val="0099cc"/>
                </a:solidFill>
                <a:latin typeface="Times New Roman"/>
              </a:rPr>
              <a:t>Condiciones de Wardrop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27280" y="1523880"/>
                <a:ext cx="256536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1600200" y="24382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Nota: 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2200" spc="-1" strike="noStrike" baseline="30000">
                <a:solidFill>
                  <a:srgbClr val="0099cc"/>
                </a:solidFill>
                <a:latin typeface="Times New Roman"/>
              </a:rPr>
              <a:t>rs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tiempo de equilibrio entre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r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y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s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por cualquier ruta ocupada, las demás rutas tienen tiempo de viaje mayor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327672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2)  </a:t>
            </a:r>
            <a:r>
              <a:rPr b="1" lang="en-US" sz="2200" spc="-1" strike="noStrike">
                <a:solidFill>
                  <a:srgbClr val="0099cc"/>
                </a:solidFill>
                <a:latin typeface="Times New Roman"/>
              </a:rPr>
              <a:t>Demanda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738440" y="3733920"/>
                <a:ext cx="20844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1600200" y="434340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caso demanda inelástica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19320" y="480060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3)  </a:t>
            </a:r>
            <a:r>
              <a:rPr b="1" lang="en-US" sz="2200" spc="-1" strike="noStrike">
                <a:solidFill>
                  <a:srgbClr val="0099cc"/>
                </a:solidFill>
                <a:latin typeface="Times New Roman"/>
              </a:rPr>
              <a:t>Condiciones de Red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1700280" y="5181480"/>
                <a:ext cx="46749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emp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utas/arco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k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lujos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rcos/rutas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C71-7D09-4963-AA99-E5847795A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99"/>
                </a:solidFill>
                <a:latin typeface="Times New Roman"/>
              </a:rPr>
              <a:t>Problema de Optimización Equivalente con demanda inelástica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90720" y="1279440"/>
            <a:ext cx="48006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Beckman et. al. (1956) Samuelson (1952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752480" y="1676520"/>
                <a:ext cx="26672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nary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1066680" y="2209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s. a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676520" y="2590920"/>
                <a:ext cx="3047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1066680" y="3352680"/>
            <a:ext cx="38102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restricciones de red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flujos no negativos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4038480"/>
            <a:ext cx="784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17760" indent="-1517760"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Interpretación: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Min F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 es minimizar el área bajo las curvas tiempo-flujo en todos los arcos de la red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24480" y="5029200"/>
            <a:ext cx="2590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cc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:  solución del equilibrio del usuario </a:t>
            </a:r>
            <a:r>
              <a:rPr b="0" i="1" lang="en-US" sz="1800" spc="-1" strike="noStrike">
                <a:solidFill>
                  <a:srgbClr val="0099cc"/>
                </a:solidFill>
                <a:latin typeface="Times New Roman"/>
              </a:rPr>
              <a:t>EU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219320" y="4343400"/>
            <a:ext cx="4599000" cy="2514600"/>
            <a:chOff x="1219320" y="4343400"/>
            <a:chExt cx="4599000" cy="2514600"/>
          </a:xfrm>
        </p:grpSpPr>
        <p:sp>
          <p:nvSpPr>
            <p:cNvPr id="458" name=""/>
            <p:cNvSpPr/>
            <p:nvPr/>
          </p:nvSpPr>
          <p:spPr>
            <a:xfrm flipV="1">
              <a:off x="1447920" y="4571640"/>
              <a:ext cx="0" cy="167652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447920" y="6248520"/>
              <a:ext cx="4114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562720" y="4647960"/>
              <a:ext cx="0" cy="16002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33920" y="6684840"/>
              <a:ext cx="1828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7920" y="6684840"/>
              <a:ext cx="1828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276720" y="6456240"/>
                  <a:ext cx="44424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4" name=""/>
            <p:cNvSpPr/>
            <p:nvPr/>
          </p:nvSpPr>
          <p:spPr>
            <a:xfrm>
              <a:off x="1447920" y="6477120"/>
              <a:ext cx="9144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362320" y="630396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4876920" y="6477120"/>
              <a:ext cx="685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4572000" y="6303960"/>
                  <a:ext cx="3142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8" name=""/>
            <p:cNvSpPr/>
            <p:nvPr/>
          </p:nvSpPr>
          <p:spPr>
            <a:xfrm>
              <a:off x="3809880" y="6477120"/>
              <a:ext cx="76212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47920" y="6324480"/>
              <a:ext cx="0" cy="43668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62720" y="6400800"/>
              <a:ext cx="0" cy="36036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581280" y="5486040"/>
              <a:ext cx="0" cy="7621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66880" y="6477120"/>
              <a:ext cx="60984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3276720" y="6324480"/>
                  <a:ext cx="49212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1219320" y="4343400"/>
                  <a:ext cx="241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4038480" y="4495680"/>
                  <a:ext cx="2415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5548320" y="4495680"/>
                  <a:ext cx="270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2743200" y="4495680"/>
                  <a:ext cx="270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"/>
            <p:cNvSpPr/>
            <p:nvPr/>
          </p:nvSpPr>
          <p:spPr>
            <a:xfrm>
              <a:off x="1447920" y="495288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0" y="720"/>
                  </a:moveTo>
                  <a:cubicBezTo>
                    <a:pt x="504" y="612"/>
                    <a:pt x="1008" y="504"/>
                    <a:pt x="1296" y="384"/>
                  </a:cubicBezTo>
                  <a:cubicBezTo>
                    <a:pt x="1584" y="264"/>
                    <a:pt x="1656" y="64"/>
                    <a:pt x="1728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19520" y="495288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1728" y="720"/>
                  </a:moveTo>
                  <a:cubicBezTo>
                    <a:pt x="1224" y="588"/>
                    <a:pt x="720" y="456"/>
                    <a:pt x="432" y="336"/>
                  </a:cubicBezTo>
                  <a:cubicBezTo>
                    <a:pt x="144" y="216"/>
                    <a:pt x="72" y="56"/>
                    <a:pt x="0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05320" y="5410080"/>
              <a:ext cx="152280" cy="22860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D97-5AE5-48A7-A431-EC2B9B90F2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99"/>
                </a:solidFill>
                <a:latin typeface="Times New Roman"/>
              </a:rPr>
              <a:t>Prob. Optimización Equivalente (POE) demanda inleástica.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1295280"/>
            <a:ext cx="75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99cc"/>
                </a:solidFill>
                <a:latin typeface="Times New Roman"/>
              </a:rPr>
              <a:t>Demostración: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 Las condiciones de primer orden (CPO) reproducen las condiciones de Wardrop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438280" y="1828800"/>
                <a:ext cx="4515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029200" y="2666880"/>
            <a:ext cx="1828800" cy="304920"/>
          </a:xfrm>
          <a:prstGeom prst="wedgeRectCallout">
            <a:avLst>
              <a:gd name="adj1" fmla="val -43226"/>
              <a:gd name="adj2" fmla="val -149481"/>
            </a:avLst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Multiplicador 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209680" y="3124080"/>
                <a:ext cx="4908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b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133720" y="4038480"/>
                <a:ext cx="5000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</m:d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114800" y="5029200"/>
                <a:ext cx="16905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114800" y="5867280"/>
                <a:ext cx="609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52F-E9C7-44D4-8F6C-D76E286F35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99"/>
                </a:solidFill>
                <a:latin typeface="Times New Roman"/>
              </a:rPr>
              <a:t>P.O.E. Demanda inelástica..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1066680"/>
            <a:ext cx="7543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Luego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4876920"/>
            <a:ext cx="990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Luego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5791320"/>
            <a:ext cx="510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Symbol"/>
                <a:ea typeface="Symbol"/>
              </a:rPr>
              <a:t>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se cumplen las condiciones de Wardrop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905120" y="1371600"/>
                <a:ext cx="1596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1066680" y="2209680"/>
            <a:ext cx="7543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C.P.O.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905120" y="2514600"/>
                <a:ext cx="3101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⋅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447920" y="3581280"/>
                <a:ext cx="1736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1143000" y="3352680"/>
            <a:ext cx="2362320" cy="129564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4343400" y="4114800"/>
                <a:ext cx="806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4876920"/>
                <a:ext cx="416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2286000" y="4876920"/>
            <a:ext cx="762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, con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048120" y="4800600"/>
                <a:ext cx="1850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1066680" y="5334120"/>
            <a:ext cx="990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ólo si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981080" y="5257800"/>
                <a:ext cx="7844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2819520" y="5334120"/>
            <a:ext cx="1600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puede darse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343400" y="5257800"/>
                <a:ext cx="9000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413-84FC-4744-890A-FFEB5C9841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99"/>
                </a:solidFill>
                <a:latin typeface="Times New Roman"/>
              </a:rPr>
              <a:t>Unicidad solución: demanda inelástica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1066680"/>
            <a:ext cx="75438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Dada las restricciones lineales,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F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convexa implica solución únic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F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convexa:  Hessiano positivo-definido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90920" y="6172200"/>
            <a:ext cx="4114800" cy="34524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Equilibrio único si hay congestión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459080" y="1828800"/>
                <a:ext cx="3633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447920" y="2666880"/>
                <a:ext cx="43750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e>
                                  </m:d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o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≠</m:t>
                              </m:r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066680" y="3962520"/>
            <a:ext cx="75438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uponiendo que el tiempo de viaje en un arco NO depende del tiempo de viaje en otros arcos.  Contra ejemplo:                      en Transporte Público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6629400" y="4267080"/>
                <a:ext cx="13161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143000" y="5181480"/>
            <a:ext cx="1752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convex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971800" y="5029200"/>
                <a:ext cx="1620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1FE-0607-4FBE-AB87-1E1B9F1EBD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Equilibrio en Rede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bjetivos:  Estimar el patrón de flujos o equilibrio   de corto plazo con </a:t>
            </a:r>
            <a:r>
              <a:rPr b="1" i="1" lang="en-US" sz="2400" spc="-1" strike="noStrike">
                <a:solidFill>
                  <a:srgbClr val="0066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y </a:t>
            </a:r>
            <a:r>
              <a:rPr b="1" i="1" lang="en-US" sz="2400" spc="-1" strike="noStrike">
                <a:solidFill>
                  <a:srgbClr val="006699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constantes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étodo:     Predecir el comportamiento de usuarios en elección de ruta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Supuesto:  Decisiones racionales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inimizar costos individuales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Información sobre alternativas y costos de viaje por experiencias repetidas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490-0A94-432E-B1BA-69425E01B4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Problema Equivalente con Demanda Elástica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905120" y="2438280"/>
                <a:ext cx="2668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1905120" y="2971800"/>
            <a:ext cx="24382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restricciones de red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flujos no-negativo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66680" y="2514600"/>
            <a:ext cx="609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.a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752480" y="2666880"/>
            <a:ext cx="76320" cy="838080"/>
            <a:chOff x="1752480" y="2666880"/>
            <a:chExt cx="76320" cy="838080"/>
          </a:xfrm>
        </p:grpSpPr>
        <p:sp>
          <p:nvSpPr>
            <p:cNvPr id="520" name=""/>
            <p:cNvSpPr/>
            <p:nvPr/>
          </p:nvSpPr>
          <p:spPr>
            <a:xfrm>
              <a:off x="1752480" y="3047760"/>
              <a:ext cx="76320" cy="7632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52480" y="3428640"/>
              <a:ext cx="76320" cy="7632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480" y="2666880"/>
              <a:ext cx="76320" cy="7596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828800" y="914400"/>
                <a:ext cx="2798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66680" y="1676520"/>
                <a:ext cx="6297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lim>
                    </m:limLow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θ</m:t>
                                    </m:r>
                                  </m:e>
                                </m:d>
                              </m:e>
                            </m:nary>
                            <m:r>
                              <m:t xml:space="preserve">dθ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 flipV="1">
            <a:off x="1371600" y="3733920"/>
            <a:ext cx="0" cy="259056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6324480"/>
            <a:ext cx="27432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143000" y="3581280"/>
                <a:ext cx="1778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191120" y="6172200"/>
                <a:ext cx="2556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 flipV="1">
            <a:off x="1371600" y="4343400"/>
            <a:ext cx="1905120" cy="14479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505320" y="5334120"/>
                <a:ext cx="6951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200400" y="3962520"/>
                <a:ext cx="539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1905120" y="3886200"/>
            <a:ext cx="1600200" cy="16002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4648320"/>
            <a:ext cx="7632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523880" y="3885840"/>
            <a:ext cx="0" cy="2438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676520" y="3885840"/>
            <a:ext cx="0" cy="2438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828800" y="3885840"/>
            <a:ext cx="0" cy="2438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81080" y="3962160"/>
            <a:ext cx="0" cy="2361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133720" y="4114800"/>
            <a:ext cx="0" cy="22096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286000" y="4266720"/>
            <a:ext cx="0" cy="20574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371600" y="6172200"/>
            <a:ext cx="9144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523880" y="6324480"/>
            <a:ext cx="9144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447920" y="5715000"/>
            <a:ext cx="83808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371600" y="5867280"/>
            <a:ext cx="9144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371600" y="6019920"/>
            <a:ext cx="9144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057040" y="5257800"/>
            <a:ext cx="2286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905120" y="5410080"/>
            <a:ext cx="38088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676160" y="5562720"/>
            <a:ext cx="60948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2755800" y="5168880"/>
                <a:ext cx="306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741760" y="570240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1828800" y="4724280"/>
            <a:ext cx="914400" cy="60984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cubicBezTo>
                  <a:pt x="100" y="88"/>
                  <a:pt x="200" y="176"/>
                  <a:pt x="288" y="240"/>
                </a:cubicBezTo>
                <a:cubicBezTo>
                  <a:pt x="376" y="304"/>
                  <a:pt x="488" y="360"/>
                  <a:pt x="528" y="384"/>
                </a:cubicBezTo>
              </a:path>
            </a:pathLst>
          </a:custGeom>
          <a:noFill/>
          <a:ln w="648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28800" y="5715000"/>
            <a:ext cx="91440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cubicBezTo>
                  <a:pt x="100" y="48"/>
                  <a:pt x="200" y="0"/>
                  <a:pt x="288" y="0"/>
                </a:cubicBezTo>
                <a:cubicBezTo>
                  <a:pt x="376" y="0"/>
                  <a:pt x="488" y="80"/>
                  <a:pt x="528" y="96"/>
                </a:cubicBezTo>
              </a:path>
            </a:pathLst>
          </a:custGeom>
          <a:noFill/>
          <a:ln w="648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537-8618-4276-A256-F07FC99703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P.O.E. con Demanda Elástica..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1523880" y="1143000"/>
                <a:ext cx="4572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6680" y="990720"/>
            <a:ext cx="2438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olución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143000" y="1828800"/>
                <a:ext cx="7621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1828800" y="1981080"/>
            <a:ext cx="3200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condiciones de Wardrop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1066680" y="2514600"/>
                <a:ext cx="3733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dθ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676520" y="3416400"/>
                <a:ext cx="198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371600" y="4032360"/>
                <a:ext cx="31240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1219320" y="4038480"/>
            <a:ext cx="3429000" cy="114300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5334120"/>
            <a:ext cx="1219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Luego si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5334120"/>
            <a:ext cx="1219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entonce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154240" y="5791320"/>
                <a:ext cx="1484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0" y="5334120"/>
                <a:ext cx="6858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1066680" y="6248520"/>
            <a:ext cx="5562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que establece equilibrio entre oferta y demanda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BB2-28AC-4701-A4AB-D507043AAD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Unicidad P.O.E: Demanda elástica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066680" y="1066680"/>
                <a:ext cx="13525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2438280" y="1143000"/>
            <a:ext cx="3200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convex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066680" y="2514600"/>
                <a:ext cx="1855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1066680" y="5334120"/>
            <a:ext cx="7772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es cóncava y existe unicidad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066680" y="1523880"/>
                <a:ext cx="609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1676520" y="1600200"/>
            <a:ext cx="3200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es convex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1066680" y="198108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1676520" y="2057400"/>
            <a:ext cx="3200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debe ser cóncav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066680" y="3352680"/>
                <a:ext cx="4927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∂</m:t>
                              </m:r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p>
                                  </m:sSup>
                                </m:e>
                              </m:d>
                              <m:r>
                                <m:t xml:space="preserve">/</m:t>
                              </m:r>
                              <m:r>
                                <m:t xml:space="preserve">∂</m:t>
                              </m:r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1066680" y="4495680"/>
            <a:ext cx="914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como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1905120" y="4419720"/>
                <a:ext cx="1488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23F-4BFC-4B04-801D-65D2FEF8AB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Optimo del Sistema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1143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¿Cuál es la distribución de flujos que minimiza el tiempo total en la red?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66680" y="205740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676520" y="2057400"/>
                <a:ext cx="35686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 flipV="1">
            <a:off x="1905120" y="3276720"/>
            <a:ext cx="0" cy="27432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905120" y="6019920"/>
            <a:ext cx="40384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943600" y="3276720"/>
            <a:ext cx="0" cy="27432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91120" y="6477120"/>
            <a:ext cx="17524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05120" y="6477120"/>
            <a:ext cx="182880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3733920" y="6248520"/>
                <a:ext cx="4442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905120" y="6324480"/>
            <a:ext cx="91440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819520" y="6095880"/>
                <a:ext cx="290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048120" y="6324480"/>
            <a:ext cx="12952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4120" y="6324480"/>
            <a:ext cx="6094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029200" y="6095880"/>
                <a:ext cx="314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4343400" y="6324480"/>
            <a:ext cx="68580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6248520"/>
            <a:ext cx="0" cy="3045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43600" y="6248520"/>
            <a:ext cx="0" cy="3045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43400" y="624852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05320" y="6019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   EU</a:t>
            </a:r>
            <a:endParaRPr b="0" lang="en-US" sz="1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219320" y="457200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3809880" y="3733920"/>
            <a:ext cx="0" cy="228600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6019920" y="4419720"/>
                <a:ext cx="72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2590920" y="3581280"/>
                <a:ext cx="222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3276720" y="3200400"/>
                <a:ext cx="52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m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191120" y="3124080"/>
                <a:ext cx="48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m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070600" y="3505320"/>
                <a:ext cx="19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1905120" y="4724280"/>
            <a:ext cx="1904760" cy="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038480" y="3581280"/>
            <a:ext cx="0" cy="243864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09880" y="4572000"/>
            <a:ext cx="2133720" cy="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4648320"/>
            <a:ext cx="15228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19520" y="3809880"/>
            <a:ext cx="3124080" cy="1371600"/>
          </a:xfrm>
          <a:custGeom>
            <a:avLst/>
            <a:gdLst/>
            <a:ahLst/>
            <a:rect l="l" t="t" r="r" b="b"/>
            <a:pathLst>
              <a:path w="2016" h="864">
                <a:moveTo>
                  <a:pt x="2016" y="864"/>
                </a:moveTo>
                <a:cubicBezTo>
                  <a:pt x="1800" y="860"/>
                  <a:pt x="1584" y="856"/>
                  <a:pt x="1392" y="816"/>
                </a:cubicBezTo>
                <a:cubicBezTo>
                  <a:pt x="1200" y="776"/>
                  <a:pt x="992" y="680"/>
                  <a:pt x="864" y="624"/>
                </a:cubicBezTo>
                <a:cubicBezTo>
                  <a:pt x="736" y="568"/>
                  <a:pt x="768" y="584"/>
                  <a:pt x="624" y="480"/>
                </a:cubicBezTo>
                <a:cubicBezTo>
                  <a:pt x="480" y="376"/>
                  <a:pt x="104" y="80"/>
                  <a:pt x="0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33920" y="3733920"/>
            <a:ext cx="15228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943600" y="2819520"/>
            <a:ext cx="1447920" cy="380880"/>
          </a:xfrm>
          <a:prstGeom prst="wedgeRectCallout">
            <a:avLst>
              <a:gd name="adj1" fmla="val -187060"/>
              <a:gd name="adj2" fmla="val 197083"/>
            </a:avLst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Pérdida Social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35812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48006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3809880"/>
            <a:ext cx="3124080" cy="1676520"/>
          </a:xfrm>
          <a:custGeom>
            <a:avLst/>
            <a:gdLst/>
            <a:ahLst/>
            <a:rect l="l" t="t" r="r" b="b"/>
            <a:pathLst>
              <a:path w="2016" h="960">
                <a:moveTo>
                  <a:pt x="0" y="960"/>
                </a:moveTo>
                <a:cubicBezTo>
                  <a:pt x="552" y="800"/>
                  <a:pt x="1104" y="640"/>
                  <a:pt x="1440" y="480"/>
                </a:cubicBezTo>
                <a:cubicBezTo>
                  <a:pt x="1776" y="320"/>
                  <a:pt x="1920" y="80"/>
                  <a:pt x="201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3505320"/>
            <a:ext cx="2362320" cy="1523880"/>
          </a:xfrm>
          <a:custGeom>
            <a:avLst/>
            <a:gdLst/>
            <a:ahLst/>
            <a:rect l="l" t="t" r="r" b="b"/>
            <a:pathLst>
              <a:path w="1536" h="1008">
                <a:moveTo>
                  <a:pt x="1536" y="1008"/>
                </a:moveTo>
                <a:cubicBezTo>
                  <a:pt x="1040" y="732"/>
                  <a:pt x="544" y="456"/>
                  <a:pt x="288" y="288"/>
                </a:cubicBezTo>
                <a:cubicBezTo>
                  <a:pt x="32" y="120"/>
                  <a:pt x="48" y="48"/>
                  <a:pt x="0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3429000"/>
            <a:ext cx="2361960" cy="2057400"/>
          </a:xfrm>
          <a:custGeom>
            <a:avLst/>
            <a:gdLst/>
            <a:ahLst/>
            <a:rect l="l" t="t" r="r" b="b"/>
            <a:pathLst>
              <a:path w="1488" h="1296">
                <a:moveTo>
                  <a:pt x="0" y="1296"/>
                </a:moveTo>
                <a:cubicBezTo>
                  <a:pt x="260" y="1192"/>
                  <a:pt x="520" y="1088"/>
                  <a:pt x="720" y="912"/>
                </a:cubicBezTo>
                <a:cubicBezTo>
                  <a:pt x="920" y="736"/>
                  <a:pt x="1072" y="392"/>
                  <a:pt x="1200" y="240"/>
                </a:cubicBezTo>
                <a:cubicBezTo>
                  <a:pt x="1328" y="88"/>
                  <a:pt x="1440" y="40"/>
                  <a:pt x="1488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809880" y="3580920"/>
            <a:ext cx="228600" cy="2286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3809880"/>
            <a:ext cx="763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809880" y="3581280"/>
            <a:ext cx="228600" cy="381240"/>
            <a:chOff x="3809880" y="3581280"/>
            <a:chExt cx="228600" cy="381240"/>
          </a:xfrm>
        </p:grpSpPr>
        <p:sp>
          <p:nvSpPr>
            <p:cNvPr id="620" name=""/>
            <p:cNvSpPr/>
            <p:nvPr/>
          </p:nvSpPr>
          <p:spPr>
            <a:xfrm>
              <a:off x="4038480" y="3581280"/>
              <a:ext cx="0" cy="3812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880" y="3809880"/>
              <a:ext cx="228600" cy="1526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3A6-C77D-4986-BFE9-2A6E5CA5FD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Optimo del Sistema...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90720" y="1066680"/>
            <a:ext cx="5410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Objetivo social:  mínimo consumo del recurso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828800" y="1523880"/>
                <a:ext cx="190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5" name=""/>
          <p:cNvSpPr/>
          <p:nvPr/>
        </p:nvSpPr>
        <p:spPr>
          <a:xfrm>
            <a:off x="990720" y="1600200"/>
            <a:ext cx="685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OS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90720" y="2514600"/>
            <a:ext cx="609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.a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828800" y="2335320"/>
                <a:ext cx="26686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1905120" y="2895480"/>
            <a:ext cx="24382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restricciones de red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flujos no-negativo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752480" y="2590920"/>
            <a:ext cx="76320" cy="838080"/>
            <a:chOff x="1752480" y="2590920"/>
            <a:chExt cx="76320" cy="838080"/>
          </a:xfrm>
        </p:grpSpPr>
        <p:sp>
          <p:nvSpPr>
            <p:cNvPr id="630" name=""/>
            <p:cNvSpPr/>
            <p:nvPr/>
          </p:nvSpPr>
          <p:spPr>
            <a:xfrm>
              <a:off x="1752480" y="2971800"/>
              <a:ext cx="76320" cy="7632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3352680"/>
              <a:ext cx="76320" cy="7632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52480" y="2590920"/>
              <a:ext cx="76320" cy="7596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1600200" y="3733920"/>
                <a:ext cx="2286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m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990720" y="5029200"/>
            <a:ext cx="685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OS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1600200" y="4572000"/>
                <a:ext cx="28638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d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1600200" y="5562720"/>
                <a:ext cx="2568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990720" y="6248520"/>
            <a:ext cx="67053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Problema equivalente reemplazando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2200" spc="-1" strike="noStrike" baseline="-25000">
                <a:solidFill>
                  <a:srgbClr val="0099cc"/>
                </a:solidFill>
                <a:latin typeface="Times New Roman"/>
              </a:rPr>
              <a:t>a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(w)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por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tmg</a:t>
            </a:r>
            <a:r>
              <a:rPr b="0" i="1" lang="es-ES_tradnl" sz="2200" spc="-1" strike="noStrike" baseline="-25000">
                <a:solidFill>
                  <a:srgbClr val="0099cc"/>
                </a:solidFill>
                <a:latin typeface="Times New Roman"/>
              </a:rPr>
              <a:t>a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(w)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3EF-BE21-48C5-9BB1-656160DAE4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Optimo Sistema...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2209680"/>
            <a:ext cx="792468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Se reproducen las condiciones de Wardrop para tiempos marginales en rutas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Si el tiempo percibido por los usuario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Symbol"/>
                <a:ea typeface="Symbol"/>
              </a:rPr>
              <a:t>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OS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es un estado de EQUILIBRIO              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3124080"/>
                <a:ext cx="1066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m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371600" y="4267080"/>
                <a:ext cx="2406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990720" y="5334120"/>
            <a:ext cx="3429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Luego la tarificación vial es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43160" y="5715000"/>
                <a:ext cx="3257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12720" y="1219320"/>
                <a:ext cx="2232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990720" y="1295280"/>
            <a:ext cx="533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i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1371600"/>
            <a:ext cx="1600200" cy="533520"/>
          </a:xfrm>
          <a:prstGeom prst="wedgeRectCallout">
            <a:avLst>
              <a:gd name="adj1" fmla="val -134125"/>
              <a:gd name="adj2" fmla="val -55060"/>
            </a:avLst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Multiplicador 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Lagrange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9EF-91D0-4437-9C5B-22064CC58C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99"/>
                </a:solidFill>
                <a:latin typeface="Times New Roman"/>
              </a:rPr>
              <a:t>Tarificación Vial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905120" y="1716120"/>
            <a:ext cx="0" cy="34653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904760" y="5181480"/>
            <a:ext cx="57150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809720" y="1282680"/>
                <a:ext cx="1922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106960" y="1536840"/>
                <a:ext cx="1041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m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330960" y="2997360"/>
                <a:ext cx="588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779480" y="5257800"/>
                <a:ext cx="2702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S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$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752480" y="5715000"/>
                <a:ext cx="900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/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666880" y="57150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: tarifa depende del nivel de flujo y del usuario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655040" y="5040360"/>
                <a:ext cx="27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3886200" y="3657600"/>
            <a:ext cx="0" cy="533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906720" y="3606840"/>
                <a:ext cx="673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1905120" y="3429000"/>
            <a:ext cx="4419360" cy="1066680"/>
          </a:xfrm>
          <a:custGeom>
            <a:avLst/>
            <a:gdLst/>
            <a:ahLst/>
            <a:rect l="l" t="t" r="r" b="b"/>
            <a:pathLst>
              <a:path w="2784" h="672">
                <a:moveTo>
                  <a:pt x="0" y="672"/>
                </a:moveTo>
                <a:cubicBezTo>
                  <a:pt x="392" y="632"/>
                  <a:pt x="784" y="592"/>
                  <a:pt x="1248" y="480"/>
                </a:cubicBezTo>
                <a:cubicBezTo>
                  <a:pt x="1712" y="368"/>
                  <a:pt x="2528" y="80"/>
                  <a:pt x="2784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5120" y="1981080"/>
            <a:ext cx="3657600" cy="2514600"/>
          </a:xfrm>
          <a:custGeom>
            <a:avLst/>
            <a:gdLst/>
            <a:ahLst/>
            <a:rect l="l" t="t" r="r" b="b"/>
            <a:pathLst>
              <a:path w="2304" h="1584">
                <a:moveTo>
                  <a:pt x="0" y="1584"/>
                </a:moveTo>
                <a:cubicBezTo>
                  <a:pt x="432" y="1452"/>
                  <a:pt x="864" y="1320"/>
                  <a:pt x="1248" y="1056"/>
                </a:cubicBezTo>
                <a:cubicBezTo>
                  <a:pt x="1632" y="792"/>
                  <a:pt x="2128" y="176"/>
                  <a:pt x="2304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771-A114-43E4-BA43-46CD42AF61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Evaluación en Proyectos de Transporte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447920" y="1295280"/>
            <a:ext cx="1981080" cy="1981440"/>
            <a:chOff x="1447920" y="1295280"/>
            <a:chExt cx="1981080" cy="1981440"/>
          </a:xfrm>
        </p:grpSpPr>
        <p:sp>
          <p:nvSpPr>
            <p:cNvPr id="663" name=""/>
            <p:cNvSpPr/>
            <p:nvPr/>
          </p:nvSpPr>
          <p:spPr>
            <a:xfrm flipV="1">
              <a:off x="1447920" y="1295280"/>
              <a:ext cx="0" cy="19814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7920" y="3276720"/>
              <a:ext cx="19810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038480" y="1295280"/>
            <a:ext cx="1981080" cy="1981440"/>
            <a:chOff x="4038480" y="1295280"/>
            <a:chExt cx="1981080" cy="1981440"/>
          </a:xfrm>
        </p:grpSpPr>
        <p:sp>
          <p:nvSpPr>
            <p:cNvPr id="666" name=""/>
            <p:cNvSpPr/>
            <p:nvPr/>
          </p:nvSpPr>
          <p:spPr>
            <a:xfrm flipV="1">
              <a:off x="4038480" y="1295280"/>
              <a:ext cx="0" cy="19814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38480" y="3276720"/>
              <a:ext cx="19810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V="1">
            <a:off x="6705720" y="3962160"/>
            <a:ext cx="0" cy="198108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05720" y="5943600"/>
            <a:ext cx="190476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629400" y="1295280"/>
            <a:ext cx="1981080" cy="1981440"/>
            <a:chOff x="6629400" y="1295280"/>
            <a:chExt cx="1981080" cy="1981440"/>
          </a:xfrm>
        </p:grpSpPr>
        <p:sp>
          <p:nvSpPr>
            <p:cNvPr id="671" name=""/>
            <p:cNvSpPr/>
            <p:nvPr/>
          </p:nvSpPr>
          <p:spPr>
            <a:xfrm flipV="1">
              <a:off x="6629400" y="1295280"/>
              <a:ext cx="0" cy="19814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29400" y="3276720"/>
              <a:ext cx="19810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143000" y="1143000"/>
                <a:ext cx="276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143000" y="1981080"/>
                <a:ext cx="3160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3000" y="2362320"/>
                <a:ext cx="276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295800" y="3276720"/>
                <a:ext cx="2365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47920" y="2133720"/>
            <a:ext cx="518148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2514600"/>
            <a:ext cx="556236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429000" y="2209680"/>
                <a:ext cx="1760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 flipV="1">
            <a:off x="3352680" y="2133720"/>
            <a:ext cx="0" cy="38088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1828800" y="1676520"/>
            <a:ext cx="914400" cy="8380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676160" y="1675800"/>
            <a:ext cx="1028520" cy="11048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743200" y="1447920"/>
                <a:ext cx="276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732040" y="236232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2438280" y="2743200"/>
                <a:ext cx="2764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2438280" y="23623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0" y="0"/>
                </a:moveTo>
                <a:cubicBezTo>
                  <a:pt x="20" y="52"/>
                  <a:pt x="40" y="104"/>
                  <a:pt x="48" y="144"/>
                </a:cubicBezTo>
                <a:cubicBezTo>
                  <a:pt x="56" y="184"/>
                  <a:pt x="48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133720" y="2514600"/>
                <a:ext cx="2188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133720" y="1219320"/>
                <a:ext cx="357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 flipV="1">
            <a:off x="1752480" y="2133720"/>
            <a:ext cx="381240" cy="3808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600200" y="2133720"/>
            <a:ext cx="380880" cy="3808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447920" y="2133720"/>
            <a:ext cx="380880" cy="3808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1447920" y="21333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057400" y="2209320"/>
            <a:ext cx="457200" cy="304920"/>
            <a:chOff x="2057400" y="2209320"/>
            <a:chExt cx="457200" cy="304920"/>
          </a:xfrm>
        </p:grpSpPr>
        <p:sp>
          <p:nvSpPr>
            <p:cNvPr id="694" name=""/>
            <p:cNvSpPr/>
            <p:nvPr/>
          </p:nvSpPr>
          <p:spPr>
            <a:xfrm flipV="1">
              <a:off x="2057400" y="2209320"/>
              <a:ext cx="304920" cy="3049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209680" y="2285640"/>
              <a:ext cx="228600" cy="22860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362320" y="2361960"/>
              <a:ext cx="152280" cy="1522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523520" y="4648320"/>
            <a:ext cx="686160" cy="380880"/>
            <a:chOff x="1523520" y="4648320"/>
            <a:chExt cx="686160" cy="380880"/>
          </a:xfrm>
        </p:grpSpPr>
        <p:sp>
          <p:nvSpPr>
            <p:cNvPr id="698" name=""/>
            <p:cNvSpPr/>
            <p:nvPr/>
          </p:nvSpPr>
          <p:spPr>
            <a:xfrm flipH="1" flipV="1">
              <a:off x="1676520" y="4648320"/>
              <a:ext cx="380880" cy="3808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1523520" y="4648320"/>
              <a:ext cx="381240" cy="3808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1828800" y="4648320"/>
              <a:ext cx="380880" cy="3808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 flipH="1" flipV="1">
            <a:off x="1981080" y="2133360"/>
            <a:ext cx="15264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1447920" y="2209320"/>
            <a:ext cx="304560" cy="3049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447560" y="2361960"/>
            <a:ext cx="15228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523520" y="2133360"/>
            <a:ext cx="533520" cy="381240"/>
            <a:chOff x="1523520" y="2133360"/>
            <a:chExt cx="533520" cy="381240"/>
          </a:xfrm>
        </p:grpSpPr>
        <p:sp>
          <p:nvSpPr>
            <p:cNvPr id="705" name=""/>
            <p:cNvSpPr/>
            <p:nvPr/>
          </p:nvSpPr>
          <p:spPr>
            <a:xfrm flipH="1" flipV="1">
              <a:off x="1676520" y="2133720"/>
              <a:ext cx="304560" cy="30456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1523520" y="2133720"/>
              <a:ext cx="381240" cy="3808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1828440" y="2133360"/>
              <a:ext cx="228600" cy="22860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344680" y="4143240"/>
                <a:ext cx="550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9" name=""/>
          <p:cNvGrpSpPr/>
          <p:nvPr/>
        </p:nvGrpSpPr>
        <p:grpSpPr>
          <a:xfrm>
            <a:off x="1600200" y="4114440"/>
            <a:ext cx="609480" cy="304920"/>
            <a:chOff x="1600200" y="4114440"/>
            <a:chExt cx="609480" cy="304920"/>
          </a:xfrm>
        </p:grpSpPr>
        <p:sp>
          <p:nvSpPr>
            <p:cNvPr id="710" name=""/>
            <p:cNvSpPr/>
            <p:nvPr/>
          </p:nvSpPr>
          <p:spPr>
            <a:xfrm flipV="1">
              <a:off x="1600200" y="4114440"/>
              <a:ext cx="304560" cy="3049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1752480" y="4114440"/>
              <a:ext cx="304920" cy="3049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1904760" y="4114440"/>
              <a:ext cx="304920" cy="3049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362320" y="4724280"/>
                <a:ext cx="5220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722760" y="11430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5097600" y="1295280"/>
                <a:ext cx="374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846760" y="3276720"/>
                <a:ext cx="2779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3733920" y="2895480"/>
                <a:ext cx="3157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733920" y="25146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4038480" y="2819520"/>
            <a:ext cx="297180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3048120"/>
            <a:ext cx="266688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486400" y="2971800"/>
                <a:ext cx="316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638680" y="2514600"/>
                <a:ext cx="316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952880" y="350532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5029200" y="31240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0" y="0"/>
                </a:moveTo>
                <a:cubicBezTo>
                  <a:pt x="20" y="52"/>
                  <a:pt x="40" y="104"/>
                  <a:pt x="48" y="144"/>
                </a:cubicBezTo>
                <a:cubicBezTo>
                  <a:pt x="56" y="184"/>
                  <a:pt x="48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4876920" y="2514600"/>
                <a:ext cx="223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 flipH="1" flipV="1">
            <a:off x="403812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4038480" y="2971800"/>
            <a:ext cx="7632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19076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34304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449532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64796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480024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4952880" y="2819160"/>
            <a:ext cx="15264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5105160" y="2819160"/>
            <a:ext cx="75960" cy="75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800600" y="2971800"/>
            <a:ext cx="7632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34340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648320" y="2971800"/>
            <a:ext cx="7596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038480" y="2819160"/>
            <a:ext cx="76320" cy="75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495680" y="2895480"/>
            <a:ext cx="152640" cy="15264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19112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03848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5257800" y="2819160"/>
            <a:ext cx="76320" cy="75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010280" y="2514240"/>
            <a:ext cx="0" cy="342900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8001000" y="2057400"/>
                <a:ext cx="4366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7696080" y="2971800"/>
                <a:ext cx="4730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2920" y="3276720"/>
                <a:ext cx="4744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6400800" y="380988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43600" y="4419720"/>
                <a:ext cx="7732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400800" y="518148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8629560" y="5907240"/>
                <a:ext cx="196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6858000" y="5943600"/>
                <a:ext cx="2192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7162920" y="5943600"/>
                <a:ext cx="474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6705720" y="5334120"/>
            <a:ext cx="30456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7696080" y="4419720"/>
                <a:ext cx="2764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7467480" y="5627520"/>
                <a:ext cx="298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6" name=""/>
          <p:cNvSpPr/>
          <p:nvPr/>
        </p:nvSpPr>
        <p:spPr>
          <a:xfrm flipV="1">
            <a:off x="6705720" y="4876560"/>
            <a:ext cx="15228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6705720" y="5028840"/>
            <a:ext cx="15228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705720" y="4800600"/>
            <a:ext cx="7596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705720" y="5105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6858000" y="5257800"/>
            <a:ext cx="7632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6705360" y="5486400"/>
            <a:ext cx="7596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705360" y="5333760"/>
            <a:ext cx="15228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6858000" y="5333760"/>
            <a:ext cx="76320" cy="75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800600" y="2666880"/>
            <a:ext cx="838080" cy="533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4267080" y="2666880"/>
            <a:ext cx="914400" cy="533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7238880" y="2743200"/>
            <a:ext cx="0" cy="320040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6629400" y="2209320"/>
            <a:ext cx="1371600" cy="8384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29400" y="2133720"/>
            <a:ext cx="1066680" cy="9903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05720" y="4648320"/>
            <a:ext cx="533160" cy="1295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705720" y="4647960"/>
            <a:ext cx="990360" cy="9903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E87-B1A7-4E03-9A3E-C68734163B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914400" y="228600"/>
            <a:ext cx="67816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ea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99cc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el bien (producido o demandado) en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y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99cc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el precio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371600" y="609480"/>
                <a:ext cx="2298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ert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1371600" y="1066680"/>
                <a:ext cx="2673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mand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1523880" y="1676520"/>
                <a:ext cx="363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1523880" y="2133720"/>
                <a:ext cx="3822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371600" y="2666880"/>
                <a:ext cx="4010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1295280" y="3124080"/>
            <a:ext cx="914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o bien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2133720" y="3124080"/>
                <a:ext cx="14540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1371600" y="3733920"/>
                <a:ext cx="31194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828800" y="4191120"/>
                <a:ext cx="45259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371600" y="4648320"/>
                <a:ext cx="48560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828800" y="5105520"/>
                <a:ext cx="7504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590920" y="5562720"/>
                <a:ext cx="5535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D7D-3794-44A3-B1C1-A5EAD5DEAE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Fenómeno de Congestión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osto generalizado de Transporte: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iempo de viaje (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OD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) + Tarifa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iempo de viaje:  depende del flujo (congestión)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4648320"/>
            <a:ext cx="4495680" cy="1904400"/>
            <a:chOff x="1143000" y="4648320"/>
            <a:chExt cx="4495680" cy="190440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143000" y="4648320"/>
                  <a:ext cx="4446720" cy="14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≤</m:t>
                          </m:r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c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&gt;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4191120" y="6171840"/>
              <a:ext cx="1447560" cy="380880"/>
            </a:xfrm>
            <a:prstGeom prst="wedgeRectCallout">
              <a:avLst>
                <a:gd name="adj1" fmla="val 15458"/>
                <a:gd name="adj2" fmla="val -117916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Tiempo Medio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6171840"/>
              <a:ext cx="1523880" cy="380880"/>
            </a:xfrm>
            <a:prstGeom prst="wedgeRectCallout">
              <a:avLst>
                <a:gd name="adj1" fmla="val 49375"/>
                <a:gd name="adj2" fmla="val -120416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Tiempo Total T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3200" y="6171840"/>
              <a:ext cx="1371600" cy="380880"/>
            </a:xfrm>
            <a:prstGeom prst="wedgeRectCallout">
              <a:avLst>
                <a:gd name="adj1" fmla="val 74305"/>
                <a:gd name="adj2" fmla="val -99583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Congestión &gt;0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352680" y="3657600"/>
            <a:ext cx="762120" cy="0"/>
          </a:xfrm>
          <a:prstGeom prst="line">
            <a:avLst/>
          </a:prstGeom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09680" y="2209680"/>
            <a:ext cx="5410080" cy="2743200"/>
            <a:chOff x="2209680" y="2209680"/>
            <a:chExt cx="5410080" cy="2743200"/>
          </a:xfrm>
        </p:grpSpPr>
        <p:sp>
          <p:nvSpPr>
            <p:cNvPr id="140" name=""/>
            <p:cNvSpPr/>
            <p:nvPr/>
          </p:nvSpPr>
          <p:spPr>
            <a:xfrm flipV="1">
              <a:off x="3352680" y="2362320"/>
              <a:ext cx="0" cy="220968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52680" y="4572000"/>
              <a:ext cx="27432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53080" y="4419720"/>
              <a:ext cx="1066680" cy="457200"/>
            </a:xfrm>
            <a:prstGeom prst="wedgeRectCallout">
              <a:avLst>
                <a:gd name="adj1" fmla="val -118453"/>
                <a:gd name="adj2" fmla="val 28472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Capacidad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3200400"/>
              <a:ext cx="761760" cy="685800"/>
            </a:xfrm>
            <a:prstGeom prst="wedgeRectCallout">
              <a:avLst>
                <a:gd name="adj1" fmla="val 69583"/>
                <a:gd name="adj2" fmla="val 8101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Tiempo 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flujo 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libre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047760" y="2209680"/>
                  <a:ext cx="279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410080" y="4572000"/>
                  <a:ext cx="457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c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3124080" y="3429000"/>
                  <a:ext cx="233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 flipV="1">
              <a:off x="5638680" y="2819520"/>
              <a:ext cx="0" cy="17524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52680" y="3657600"/>
              <a:ext cx="2286000" cy="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105160" y="2448000"/>
                  <a:ext cx="6094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4267080" y="2438280"/>
                  <a:ext cx="68580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3962160" y="2895480"/>
              <a:ext cx="1447920" cy="762120"/>
            </a:xfrm>
            <a:custGeom>
              <a:avLst/>
              <a:gdLst/>
              <a:ahLst/>
              <a:rect l="l" t="t" r="r" b="b"/>
              <a:pathLst>
                <a:path w="912" h="480">
                  <a:moveTo>
                    <a:pt x="0" y="480"/>
                  </a:moveTo>
                  <a:cubicBezTo>
                    <a:pt x="284" y="472"/>
                    <a:pt x="568" y="464"/>
                    <a:pt x="720" y="384"/>
                  </a:cubicBezTo>
                  <a:cubicBezTo>
                    <a:pt x="872" y="304"/>
                    <a:pt x="880" y="64"/>
                    <a:pt x="912" y="0"/>
                  </a:cubicBezTo>
                </a:path>
              </a:pathLst>
            </a:custGeom>
            <a:noFill/>
            <a:ln w="1908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2895480"/>
              <a:ext cx="609480" cy="762120"/>
            </a:xfrm>
            <a:custGeom>
              <a:avLst/>
              <a:gdLst/>
              <a:ahLst/>
              <a:rect l="l" t="t" r="r" b="b"/>
              <a:pathLst>
                <a:path w="384" h="480">
                  <a:moveTo>
                    <a:pt x="0" y="480"/>
                  </a:moveTo>
                  <a:cubicBezTo>
                    <a:pt x="64" y="472"/>
                    <a:pt x="128" y="464"/>
                    <a:pt x="192" y="384"/>
                  </a:cubicBezTo>
                  <a:cubicBezTo>
                    <a:pt x="256" y="304"/>
                    <a:pt x="352" y="64"/>
                    <a:pt x="384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40A-2634-47F1-A435-EEF623EA0C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Equilibrio del Usuario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cc"/>
                </a:solidFill>
                <a:latin typeface="Arial"/>
              </a:rPr>
              <a:t>Definición:</a:t>
            </a: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  El usuario está en equilibrio cuando todas las rutas alternativas tienen un mayor costo generalizado (tiempo de viaje).</a:t>
            </a:r>
            <a:r>
              <a:rPr b="0" lang="es-ES_tradnl" sz="32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cc"/>
                </a:solidFill>
                <a:latin typeface="Arial"/>
              </a:rPr>
              <a:t>Equilibrio de Wardrop (1952)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El equilibrio de una red en múltiples rutas es aquella situación en que ningún usuario puede disminuir su propio tiempo de viaje a través de un cambio unilateral de ruta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48E-6175-468B-A4B7-B3289E4771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Equilibrio Usuario:  Solución Gráfica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484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aso:  Un par </a:t>
            </a:r>
            <a:r>
              <a:rPr b="0" i="1" lang="en-US" sz="2400" spc="-1" strike="noStrike">
                <a:solidFill>
                  <a:srgbClr val="0099cc"/>
                </a:solidFill>
                <a:latin typeface="Arial"/>
              </a:rPr>
              <a:t>OD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y dos rutas 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Ruta 1:    Alto tiempo de viaje a flujo libre y tiempo de viaje muy sensible al flujo (Cuesta Zapata).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Ruta 2:    Menor tiempo de viaje a flujo libre y tiempos de viaje menos sensible al flujo (Tunel Zapata).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Ejemplos: Caminos ripio/pavimentos, una/dos pistas, horizontal/pendiente, recta/curva.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14240" y="1676160"/>
            <a:ext cx="1981080" cy="1981440"/>
            <a:chOff x="2514240" y="1676160"/>
            <a:chExt cx="1981080" cy="1981440"/>
          </a:xfrm>
        </p:grpSpPr>
        <p:sp>
          <p:nvSpPr>
            <p:cNvPr id="159" name=""/>
            <p:cNvSpPr/>
            <p:nvPr/>
          </p:nvSpPr>
          <p:spPr>
            <a:xfrm flipV="1">
              <a:off x="2514600" y="1676160"/>
              <a:ext cx="0" cy="198108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14240" y="3657600"/>
              <a:ext cx="19810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33720" y="2209680"/>
                <a:ext cx="293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133720" y="26668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276720" y="1523880"/>
                <a:ext cx="53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86200" y="1523880"/>
                <a:ext cx="557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5" name=""/>
          <p:cNvGrpSpPr/>
          <p:nvPr/>
        </p:nvGrpSpPr>
        <p:grpSpPr>
          <a:xfrm>
            <a:off x="2514600" y="1981080"/>
            <a:ext cx="1689120" cy="990720"/>
            <a:chOff x="2514600" y="1981080"/>
            <a:chExt cx="1689120" cy="990720"/>
          </a:xfrm>
        </p:grpSpPr>
        <p:sp>
          <p:nvSpPr>
            <p:cNvPr id="166" name=""/>
            <p:cNvSpPr/>
            <p:nvPr/>
          </p:nvSpPr>
          <p:spPr>
            <a:xfrm>
              <a:off x="2514600" y="2971800"/>
              <a:ext cx="685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1981080"/>
              <a:ext cx="1003320" cy="9907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604"/>
                    <a:pt x="424" y="584"/>
                    <a:pt x="528" y="480"/>
                  </a:cubicBezTo>
                  <a:cubicBezTo>
                    <a:pt x="632" y="376"/>
                    <a:pt x="608" y="80"/>
                    <a:pt x="624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514600" y="1981080"/>
            <a:ext cx="990360" cy="533520"/>
            <a:chOff x="2514600" y="1981080"/>
            <a:chExt cx="990360" cy="533520"/>
          </a:xfrm>
        </p:grpSpPr>
        <p:sp>
          <p:nvSpPr>
            <p:cNvPr id="169" name=""/>
            <p:cNvSpPr/>
            <p:nvPr/>
          </p:nvSpPr>
          <p:spPr>
            <a:xfrm>
              <a:off x="2514600" y="2514600"/>
              <a:ext cx="40212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16720" y="1981080"/>
              <a:ext cx="588240" cy="5335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604"/>
                    <a:pt x="424" y="584"/>
                    <a:pt x="528" y="480"/>
                  </a:cubicBezTo>
                  <a:cubicBezTo>
                    <a:pt x="632" y="376"/>
                    <a:pt x="608" y="80"/>
                    <a:pt x="624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255-80EB-4828-9EAF-497D6CCCBE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66680" y="2895480"/>
                <a:ext cx="1143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05120" y="3733920"/>
                <a:ext cx="35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4343400"/>
                <a:ext cx="323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1600200"/>
                <a:ext cx="641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114800" y="2209680"/>
                <a:ext cx="730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943600" y="2286000"/>
                <a:ext cx="666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5791320"/>
                <a:ext cx="301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72000" y="5791320"/>
                <a:ext cx="299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543800" y="5791320"/>
                <a:ext cx="20016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flipV="1">
            <a:off x="2286000" y="1600200"/>
            <a:ext cx="0" cy="411480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715000"/>
            <a:ext cx="54864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29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572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124080"/>
            <a:ext cx="22860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04812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304812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1981080"/>
            <a:ext cx="1676520" cy="2057400"/>
          </a:xfrm>
          <a:custGeom>
            <a:avLst/>
            <a:gdLst/>
            <a:ahLst/>
            <a:rect l="l" t="t" r="r" b="b"/>
            <a:pathLst>
              <a:path w="1056" h="1296">
                <a:moveTo>
                  <a:pt x="0" y="1296"/>
                </a:moveTo>
                <a:cubicBezTo>
                  <a:pt x="132" y="1224"/>
                  <a:pt x="264" y="1152"/>
                  <a:pt x="384" y="1056"/>
                </a:cubicBezTo>
                <a:cubicBezTo>
                  <a:pt x="504" y="960"/>
                  <a:pt x="608" y="896"/>
                  <a:pt x="720" y="720"/>
                </a:cubicBezTo>
                <a:cubicBezTo>
                  <a:pt x="832" y="544"/>
                  <a:pt x="1000" y="128"/>
                  <a:pt x="105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038480"/>
            <a:ext cx="1371600" cy="60984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cubicBezTo>
                  <a:pt x="120" y="344"/>
                  <a:pt x="240" y="304"/>
                  <a:pt x="384" y="240"/>
                </a:cubicBezTo>
                <a:cubicBezTo>
                  <a:pt x="528" y="176"/>
                  <a:pt x="784" y="40"/>
                  <a:pt x="864" y="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666880"/>
            <a:ext cx="2514600" cy="1371600"/>
          </a:xfrm>
          <a:custGeom>
            <a:avLst/>
            <a:gdLst/>
            <a:ahLst/>
            <a:rect l="l" t="t" r="r" b="b"/>
            <a:pathLst>
              <a:path w="1584" h="864">
                <a:moveTo>
                  <a:pt x="0" y="864"/>
                </a:moveTo>
                <a:cubicBezTo>
                  <a:pt x="180" y="840"/>
                  <a:pt x="360" y="816"/>
                  <a:pt x="576" y="720"/>
                </a:cubicBezTo>
                <a:cubicBezTo>
                  <a:pt x="792" y="624"/>
                  <a:pt x="1128" y="408"/>
                  <a:pt x="1296" y="288"/>
                </a:cubicBezTo>
                <a:cubicBezTo>
                  <a:pt x="1464" y="168"/>
                  <a:pt x="1536" y="48"/>
                  <a:pt x="1584" y="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4038480"/>
            <a:ext cx="1371600" cy="0"/>
          </a:xfrm>
          <a:prstGeom prst="line">
            <a:avLst/>
          </a:prstGeom>
          <a:ln w="936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438280"/>
            <a:ext cx="1295280" cy="1600200"/>
          </a:xfrm>
          <a:custGeom>
            <a:avLst/>
            <a:gdLst/>
            <a:ahLst/>
            <a:rect l="l" t="t" r="r" b="b"/>
            <a:pathLst>
              <a:path w="816" h="1008">
                <a:moveTo>
                  <a:pt x="0" y="1008"/>
                </a:moveTo>
                <a:cubicBezTo>
                  <a:pt x="144" y="936"/>
                  <a:pt x="288" y="864"/>
                  <a:pt x="384" y="768"/>
                </a:cubicBezTo>
                <a:cubicBezTo>
                  <a:pt x="480" y="672"/>
                  <a:pt x="504" y="560"/>
                  <a:pt x="576" y="432"/>
                </a:cubicBezTo>
                <a:cubicBezTo>
                  <a:pt x="648" y="304"/>
                  <a:pt x="776" y="72"/>
                  <a:pt x="81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9132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124080"/>
            <a:ext cx="1143000" cy="0"/>
          </a:xfrm>
          <a:prstGeom prst="line">
            <a:avLst/>
          </a:prstGeom>
          <a:ln w="9360">
            <a:solidFill>
              <a:srgbClr val="0099cc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A35-233D-4D0E-89C6-89BD097597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066680" y="2895480"/>
                <a:ext cx="1143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05120" y="3733920"/>
                <a:ext cx="35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905120" y="4343400"/>
                <a:ext cx="323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657600" y="1600200"/>
                <a:ext cx="641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14800" y="2209680"/>
                <a:ext cx="730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43600" y="2286000"/>
                <a:ext cx="666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010280" y="3962520"/>
                <a:ext cx="451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429000" y="5791320"/>
                <a:ext cx="301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72000" y="5791320"/>
                <a:ext cx="299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638680" y="5791320"/>
                <a:ext cx="432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543800" y="5791320"/>
                <a:ext cx="20016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238880" y="2743200"/>
            <a:ext cx="1295640" cy="762120"/>
          </a:xfrm>
          <a:prstGeom prst="wedgeRectCallout">
            <a:avLst>
              <a:gd name="adj1" fmla="val -148652"/>
              <a:gd name="adj2" fmla="val -624"/>
            </a:avLst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Equilibrio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6699"/>
                </a:solidFill>
                <a:latin typeface="Times New Roman"/>
              </a:rPr>
              <a:t>q</a:t>
            </a:r>
            <a:r>
              <a:rPr b="1" i="1" lang="es-ES_tradnl" sz="2000" spc="-1" strike="noStrike" baseline="-25000">
                <a:solidFill>
                  <a:srgbClr val="006699"/>
                </a:solidFill>
                <a:latin typeface="Times New Roman"/>
              </a:rPr>
              <a:t>OD</a:t>
            </a:r>
            <a:r>
              <a:rPr b="1" i="1" lang="es-ES_tradnl" sz="2000" spc="-1" strike="noStrike">
                <a:solidFill>
                  <a:srgbClr val="006699"/>
                </a:solidFill>
                <a:latin typeface="Times New Roman"/>
              </a:rPr>
              <a:t>, t</a:t>
            </a:r>
            <a:r>
              <a:rPr b="1" lang="es-ES_tradnl" sz="2000" spc="-1" strike="noStrike">
                <a:solidFill>
                  <a:srgbClr val="006699"/>
                </a:solidFill>
                <a:latin typeface="Times New Roman"/>
              </a:rPr>
              <a:t>*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86000" y="1600200"/>
            <a:ext cx="0" cy="411480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5715000"/>
            <a:ext cx="54864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429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72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15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3124080"/>
            <a:ext cx="34290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04812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304812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1981080"/>
            <a:ext cx="1676520" cy="2057400"/>
          </a:xfrm>
          <a:custGeom>
            <a:avLst/>
            <a:gdLst/>
            <a:ahLst/>
            <a:rect l="l" t="t" r="r" b="b"/>
            <a:pathLst>
              <a:path w="1056" h="1296">
                <a:moveTo>
                  <a:pt x="0" y="1296"/>
                </a:moveTo>
                <a:cubicBezTo>
                  <a:pt x="132" y="1224"/>
                  <a:pt x="264" y="1152"/>
                  <a:pt x="384" y="1056"/>
                </a:cubicBezTo>
                <a:cubicBezTo>
                  <a:pt x="504" y="960"/>
                  <a:pt x="608" y="896"/>
                  <a:pt x="720" y="720"/>
                </a:cubicBezTo>
                <a:cubicBezTo>
                  <a:pt x="832" y="544"/>
                  <a:pt x="1000" y="128"/>
                  <a:pt x="105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038480"/>
            <a:ext cx="1371600" cy="60984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cubicBezTo>
                  <a:pt x="120" y="344"/>
                  <a:pt x="240" y="304"/>
                  <a:pt x="384" y="240"/>
                </a:cubicBezTo>
                <a:cubicBezTo>
                  <a:pt x="528" y="176"/>
                  <a:pt x="784" y="40"/>
                  <a:pt x="864" y="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2666880"/>
            <a:ext cx="2514600" cy="1371600"/>
          </a:xfrm>
          <a:custGeom>
            <a:avLst/>
            <a:gdLst/>
            <a:ahLst/>
            <a:rect l="l" t="t" r="r" b="b"/>
            <a:pathLst>
              <a:path w="1584" h="864">
                <a:moveTo>
                  <a:pt x="0" y="864"/>
                </a:moveTo>
                <a:cubicBezTo>
                  <a:pt x="180" y="840"/>
                  <a:pt x="360" y="816"/>
                  <a:pt x="576" y="720"/>
                </a:cubicBezTo>
                <a:cubicBezTo>
                  <a:pt x="792" y="624"/>
                  <a:pt x="1128" y="408"/>
                  <a:pt x="1296" y="288"/>
                </a:cubicBezTo>
                <a:cubicBezTo>
                  <a:pt x="1464" y="168"/>
                  <a:pt x="1536" y="48"/>
                  <a:pt x="1584" y="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1905120"/>
            <a:ext cx="1828800" cy="2209680"/>
          </a:xfrm>
          <a:custGeom>
            <a:avLst/>
            <a:gdLst/>
            <a:ahLst/>
            <a:rect l="l" t="t" r="r" b="b"/>
            <a:pathLst>
              <a:path w="1152" h="1392">
                <a:moveTo>
                  <a:pt x="0" y="0"/>
                </a:moveTo>
                <a:cubicBezTo>
                  <a:pt x="44" y="152"/>
                  <a:pt x="88" y="304"/>
                  <a:pt x="144" y="432"/>
                </a:cubicBezTo>
                <a:cubicBezTo>
                  <a:pt x="200" y="560"/>
                  <a:pt x="168" y="608"/>
                  <a:pt x="336" y="768"/>
                </a:cubicBezTo>
                <a:cubicBezTo>
                  <a:pt x="504" y="928"/>
                  <a:pt x="1016" y="1288"/>
                  <a:pt x="1152" y="1392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038480"/>
            <a:ext cx="1371600" cy="0"/>
          </a:xfrm>
          <a:prstGeom prst="line">
            <a:avLst/>
          </a:prstGeom>
          <a:ln w="936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2438280"/>
            <a:ext cx="1295280" cy="1600200"/>
          </a:xfrm>
          <a:custGeom>
            <a:avLst/>
            <a:gdLst/>
            <a:ahLst/>
            <a:rect l="l" t="t" r="r" b="b"/>
            <a:pathLst>
              <a:path w="816" h="1008">
                <a:moveTo>
                  <a:pt x="0" y="1008"/>
                </a:moveTo>
                <a:cubicBezTo>
                  <a:pt x="144" y="936"/>
                  <a:pt x="288" y="864"/>
                  <a:pt x="384" y="768"/>
                </a:cubicBezTo>
                <a:cubicBezTo>
                  <a:pt x="480" y="672"/>
                  <a:pt x="504" y="560"/>
                  <a:pt x="576" y="432"/>
                </a:cubicBezTo>
                <a:cubicBezTo>
                  <a:pt x="648" y="304"/>
                  <a:pt x="776" y="72"/>
                  <a:pt x="81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F74-1016-43CA-A0A4-D248789D73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99"/>
                </a:solidFill>
                <a:latin typeface="Times New Roman"/>
              </a:rPr>
              <a:t>Equilibrio de Wardrop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484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Situaciones posibles en equilibrio 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76520" y="3962520"/>
                <a:ext cx="2857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06668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En el equilibrio las rutas ocupadas tienen igual tiempo de viaje, las demás tienen un tiempo de viaje mayor. 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971800" y="4343400"/>
                <a:ext cx="1371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676520" y="4800600"/>
                <a:ext cx="2971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676520" y="525780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296360" y="38862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i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8006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ii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720" y="52578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iii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90720" y="2438280"/>
                <a:ext cx="380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576600" y="3070080"/>
                <a:ext cx="619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62280" y="1090440"/>
                <a:ext cx="6019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-341280" y="-3784320"/>
            <a:ext cx="8412480" cy="12231360"/>
            <a:chOff x="-341280" y="-3784320"/>
            <a:chExt cx="8412480" cy="12231360"/>
          </a:xfrm>
        </p:grpSpPr>
        <p:sp>
          <p:nvSpPr>
            <p:cNvPr id="234" name=""/>
            <p:cNvSpPr/>
            <p:nvPr/>
          </p:nvSpPr>
          <p:spPr>
            <a:xfrm rot="19584600">
              <a:off x="718560" y="1577520"/>
              <a:ext cx="6067440" cy="56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88" y="80"/>
                  </a:moveTo>
                  <a:arcTo wR="10800" hR="10800" stAng="-5818564" swAng="5185281"/>
                  <a:lnTo>
                    <a:pt x="10800" y="10800"/>
                  </a:lnTo>
                  <a:close/>
                </a:path>
                <a:path fill="none" w="21600" h="21600">
                  <a:moveTo>
                    <a:pt x="9488" y="80"/>
                  </a:moveTo>
                  <a:arcTo wR="10800" hR="10800" stAng="-5818564" swAng="5185281"/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8784600">
              <a:off x="946080" y="-2579400"/>
              <a:ext cx="6064560" cy="56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1" y="99"/>
                  </a:moveTo>
                  <a:arcTo wR="10800" hR="10800" stAng="-5865873" swAng="50990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1" y="99"/>
                  </a:moveTo>
                  <a:arcTo wR="10800" hR="10800" stAng="-5865873" swAng="5099023"/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143000" y="2362320"/>
            <a:ext cx="3808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2133720"/>
            <a:ext cx="3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2133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2286000"/>
            <a:ext cx="15228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228600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D83-63BC-445E-AA0D-196F681D54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Ejemplo red simple:  equilibrio usuario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Si usuario de ruta 1 cambia a 2: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=49;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=50,5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Si usuario de ruta 2 cambia a 1: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=51;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=49,5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¡No conviene cambiarse!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30240" y="1905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4320" y="1981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400000">
            <a:off x="2802960" y="531720"/>
            <a:ext cx="1523880" cy="32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43" y="381"/>
                </a:moveTo>
                <a:arcTo wR="10800" hR="10800" stAng="-4484407" swAng="9748166"/>
                <a:lnTo>
                  <a:pt x="10800" y="10800"/>
                </a:lnTo>
                <a:close/>
              </a:path>
              <a:path fill="none" w="21600" h="21600">
                <a:moveTo>
                  <a:pt x="13643" y="381"/>
                </a:moveTo>
                <a:arcTo wR="10800" hR="10800" stAng="-4484407" swAng="9748166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16200000">
            <a:off x="2806560" y="534240"/>
            <a:ext cx="15231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2" y="82"/>
                </a:moveTo>
                <a:arcTo wR="10800" hR="10800" stAng="-4975023" swAng="9775659"/>
                <a:lnTo>
                  <a:pt x="10800" y="10800"/>
                </a:lnTo>
                <a:close/>
              </a:path>
              <a:path fill="none" w="21600" h="21600">
                <a:moveTo>
                  <a:pt x="12132" y="82"/>
                </a:moveTo>
                <a:arcTo wR="10800" hR="10800" stAng="-4975023" swAng="9775659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1905120"/>
            <a:ext cx="304920" cy="30456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813040" y="1066680"/>
                <a:ext cx="1503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868480" y="2895480"/>
                <a:ext cx="1617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0,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990720" y="1828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057400"/>
            <a:ext cx="30456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3200400"/>
            <a:ext cx="441936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Tiempo en minutos y flujos en autos/min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60 =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+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2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Si 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&gt; 0 y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   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=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=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99cc"/>
                </a:solidFill>
                <a:latin typeface="Times New Roman"/>
              </a:rPr>
              <a:t>AB  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     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10 +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= 40 + 0,5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99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        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= 30 + 0,5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99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876920" y="4114800"/>
                <a:ext cx="838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876920" y="4572000"/>
                <a:ext cx="815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952880" y="4952880"/>
                <a:ext cx="7747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724280" y="4038480"/>
            <a:ext cx="12193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943600" y="4038120"/>
            <a:ext cx="0" cy="12193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5257800"/>
            <a:ext cx="12193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4038120"/>
            <a:ext cx="0" cy="12193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DD7-63D1-4308-BD05-39F6A51428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7T21:31:12Z</dcterms:created>
  <dc:creator>Francisco Martínez C.</dc:creator>
  <dc:description/>
  <dc:language>en-US</dc:language>
  <cp:lastModifiedBy>F M</cp:lastModifiedBy>
  <cp:lastPrinted>2000-06-16T16:31:38Z</cp:lastPrinted>
  <dcterms:modified xsi:type="dcterms:W3CDTF">2003-03-10T15:51:54Z</dcterms:modified>
  <cp:revision>222</cp:revision>
  <dc:subject/>
  <dc:title>Seminario modelo  MOLPERU</dc:title>
</cp:coreProperties>
</file>