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B47-8436-4525-AAC0-4F5C3A2C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60D-C5E3-4B8E-8EB8-D6BCB25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3EB-CF86-4FD7-9E87-104E46BA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874-1397-4B85-8FB8-BE79C85E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62C5-E0D6-4738-BF06-2BB56963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5246-AC2D-4282-8881-F6723FD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15D-08BB-4177-A454-252FB776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729E-6C9B-4341-905E-C4F2F188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C5B1-2F48-48D3-B17A-A73F6326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6ED9-AB80-4B5B-AA53-43650AD9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A9D-D0AF-4817-82BA-341E913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BF4-73F0-46ED-8046-47C85585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E2C7-3834-459C-BDBB-1C05D81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1CA2-2AFA-4665-81DD-D906306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CC65-C099-4ABB-9D35-D35A01E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AF2-B41E-41C5-8C58-8639C318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EFCD-A3BB-4B49-B8E5-9771BEFF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CE8-3FA2-4C6E-BA84-628A44F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DA3-5BA5-484A-9EDA-7128DE3F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BFA-1CE3-4020-A65E-E992A1EA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5EA-2F28-4AD4-92F5-7C4445BC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602-EDE5-48AE-993A-3621261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67A-609E-4CC9-9520-EA5C268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BE7-FC05-458F-AC1C-A4D2D8F9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7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5D48-EE6F-4B38-8F05-103720510D66}" type="slidenum">
              <a:rPr b="0" lang="en-US" sz="1400" spc="-1" strike="noStrike">
                <a:solidFill>
                  <a:srgbClr val="3c70c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F54B-3BB4-43A7-B732-7427412A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Capítulo 7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Elección modal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término aleatorio </a:t>
            </a:r>
            <a:r>
              <a:rPr b="0" lang="es-ES_tradnl" sz="4400" spc="-1" strike="noStrike">
                <a:solidFill>
                  <a:srgbClr val="336699"/>
                </a:solidFill>
                <a:latin typeface="Symbol"/>
                <a:ea typeface="Symbol"/>
              </a:rPr>
              <a:t></a:t>
            </a:r>
            <a:r>
              <a:rPr b="0" i="1" lang="es-ES_tradnl" sz="4400" spc="-1" strike="noStrike" baseline="-25000">
                <a:solidFill>
                  <a:srgbClr val="336699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78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7160" y="1863720"/>
            <a:ext cx="5943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finir la distribución del término aleatori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permite definir la función de probabilidad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640" y="2895480"/>
            <a:ext cx="6802560" cy="961200"/>
            <a:chOff x="1295640" y="2895480"/>
            <a:chExt cx="6802560" cy="961200"/>
          </a:xfrm>
        </p:grpSpPr>
        <p:sp>
          <p:nvSpPr>
            <p:cNvPr id="174" name=""/>
            <p:cNvSpPr/>
            <p:nvPr/>
          </p:nvSpPr>
          <p:spPr>
            <a:xfrm>
              <a:off x="2911320" y="315900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640" y="28954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c70c4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8640" y="2930400"/>
              <a:ext cx="2054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N(0,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  ;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Cov(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, 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j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=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960" y="29718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Prob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371960" y="4191120"/>
            <a:ext cx="6667200" cy="545760"/>
            <a:chOff x="1371960" y="4191120"/>
            <a:chExt cx="6667200" cy="545760"/>
          </a:xfrm>
        </p:grpSpPr>
        <p:sp>
          <p:nvSpPr>
            <p:cNvPr id="179" name=""/>
            <p:cNvSpPr/>
            <p:nvPr/>
          </p:nvSpPr>
          <p:spPr>
            <a:xfrm>
              <a:off x="2987640" y="444888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71960" y="419112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c70c4"/>
                  </a:solidFill>
                  <a:latin typeface="Times New Roman"/>
                </a:rPr>
                <a:t>Gumbe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41920" y="4226760"/>
              <a:ext cx="109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G(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</a:t>
              </a:r>
              <a:r>
                <a:rPr b="0" i="1" lang="en-US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3640" y="4265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Log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Supuestos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     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=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+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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i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C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70c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se distribuye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Gumbel (0,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dénticam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único)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ndependi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j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nulo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004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8120" y="5029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29400" y="4800600"/>
            <a:ext cx="1523880" cy="1066680"/>
          </a:xfrm>
          <a:prstGeom prst="wedgeRectCallout">
            <a:avLst>
              <a:gd name="adj1" fmla="val -98856"/>
              <a:gd name="adj2" fmla="val 1383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Matriz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ovarianza IID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diagon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</a:t>
            </a: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te/</a:t>
            </a: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Función de probabilidad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.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3048120"/>
                <a:ext cx="54864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μ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2666880"/>
            <a:ext cx="1523880" cy="457200"/>
          </a:xfrm>
          <a:prstGeom prst="wedgeRectCallout">
            <a:avLst>
              <a:gd name="adj1" fmla="val 78231"/>
              <a:gd name="adj2" fmla="val 9513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cumulad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191120"/>
            <a:ext cx="1524240" cy="457200"/>
          </a:xfrm>
          <a:prstGeom prst="wedgeRectCallout">
            <a:avLst>
              <a:gd name="adj1" fmla="val 88541"/>
              <a:gd name="adj2" fmla="val -815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Dens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4419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privado versus Transporte público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dos destino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014560" y="1600200"/>
                <a:ext cx="420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60480" y="2847960"/>
                <a:ext cx="48736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459480" y="2057400"/>
            <a:ext cx="1523880" cy="579600"/>
          </a:xfrm>
          <a:prstGeom prst="wedgeRectCallout">
            <a:avLst>
              <a:gd name="adj1" fmla="val -120523"/>
              <a:gd name="adj2" fmla="val 72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Component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istemátic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en auto, metro, bus o a pi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uno de varios destinos posibl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Desarrollar actividad en una de varias zon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48000" y="2362320"/>
                <a:ext cx="480996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934320" y="4191120"/>
            <a:ext cx="1523880" cy="579240"/>
          </a:xfrm>
          <a:prstGeom prst="wedgeRectCallout">
            <a:avLst>
              <a:gd name="adj1" fmla="val -157916"/>
              <a:gd name="adj2" fmla="val -109453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uma sobre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47920" y="1447920"/>
                <a:ext cx="4724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b.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Aplicación agregada</a:t>
            </a: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: a grupos homogeneos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Parámetr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0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: ajusta probabilidades agregad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P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(i/Cn)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pende de gustos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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y diferencias de atributos entre alternativas (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j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24040" y="1905120"/>
                <a:ext cx="82915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7391520" y="3581280"/>
            <a:ext cx="1523880" cy="579600"/>
          </a:xfrm>
          <a:prstGeom prst="wedgeRectCallout">
            <a:avLst>
              <a:gd name="adj1" fmla="val -3435"/>
              <a:gd name="adj2" fmla="val -15191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Z: Dato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3581280"/>
            <a:ext cx="1676160" cy="579600"/>
          </a:xfrm>
          <a:prstGeom prst="wedgeRectCallout">
            <a:avLst>
              <a:gd name="adj1" fmla="val -22064"/>
              <a:gd name="adj2" fmla="val -14397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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e calibran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581280"/>
            <a:ext cx="1828800" cy="609840"/>
          </a:xfrm>
          <a:prstGeom prst="wedgeRectCallout">
            <a:avLst>
              <a:gd name="adj1" fmla="val -27430"/>
              <a:gd name="adj2" fmla="val -1700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Elecciones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observad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l máximo de utilidades IIDG con idéntico parámetro </a:t>
            </a:r>
            <a:r>
              <a:rPr b="0" lang="es-ES_tradnl" sz="32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s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531800" y="3451320"/>
                <a:ext cx="6438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con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IID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038400" y="4648320"/>
                <a:ext cx="50500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315200" y="4038480"/>
            <a:ext cx="1523880" cy="579600"/>
          </a:xfrm>
          <a:prstGeom prst="wedgeRectCallout">
            <a:avLst>
              <a:gd name="adj1" fmla="val -92606"/>
              <a:gd name="adj2" fmla="val 7958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Logsu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4343400"/>
            <a:ext cx="1219320" cy="380880"/>
          </a:xfrm>
          <a:prstGeom prst="wedgeRectCallout">
            <a:avLst>
              <a:gd name="adj1" fmla="val 93879"/>
              <a:gd name="adj2" fmla="val -170833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Independencia de alternativas irrelevante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164040" y="3219480"/>
                <a:ext cx="40748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46280" y="5148360"/>
                <a:ext cx="4773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86600" y="5943600"/>
            <a:ext cx="33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Sistema de ecuaciones lineale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pie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lasticidad direc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86000" y="2819520"/>
                <a:ext cx="4424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438280" y="4648320"/>
                <a:ext cx="39592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n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666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Elasticidad curzada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31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upera limitación de independencia de alternativas irrelevantes (IIA)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grupa subconjuntos de alternativas correlacionadas en nido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Cada nido es representado en la jerarquía superior por una </a:t>
            </a:r>
            <a:r>
              <a:rPr b="0" i="1" lang="es-ES_tradnl" sz="3200" spc="-1" strike="noStrike">
                <a:solidFill>
                  <a:srgbClr val="336699"/>
                </a:solidFill>
                <a:latin typeface="Arial"/>
              </a:rPr>
              <a:t>alternativa compues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II. UTILIDAD ALEATORIA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foque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esagregado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Usuarios eligen alternativa de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máxim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utilidad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tre alternativas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iscreta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551400"/>
            <a:ext cx="615636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Utilidad usuario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n 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en alternativa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: 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) +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z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alternativa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según percepción de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S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usuarios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(ingreso,....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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parámetros de comportamient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0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errores de atributos por no observados (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z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,S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) 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de su medició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828800" y="2362320"/>
            <a:ext cx="533520" cy="1676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438280"/>
            <a:ext cx="0" cy="15242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2362320"/>
            <a:ext cx="457200" cy="16002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362320"/>
            <a:ext cx="838080" cy="15238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76640" y="4281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C</a:t>
            </a:r>
            <a:r>
              <a:rPr b="1" lang="es-ES_tradnl" sz="2000" spc="-1" strike="noStrike" baseline="-25000">
                <a:solidFill>
                  <a:srgbClr val="3366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7200" y="1752480"/>
            <a:ext cx="775080" cy="398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N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46360" y="1461960"/>
            <a:ext cx="4702320" cy="3398400"/>
            <a:chOff x="4446360" y="1461960"/>
            <a:chExt cx="4702320" cy="3398400"/>
          </a:xfrm>
        </p:grpSpPr>
        <p:sp>
          <p:nvSpPr>
            <p:cNvPr id="238" name=""/>
            <p:cNvSpPr/>
            <p:nvPr/>
          </p:nvSpPr>
          <p:spPr>
            <a:xfrm flipH="1">
              <a:off x="4647960" y="2209680"/>
              <a:ext cx="114300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028840" y="2209680"/>
              <a:ext cx="76212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334120" y="2209680"/>
              <a:ext cx="45720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638680" y="2209680"/>
              <a:ext cx="15264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1320" y="2209680"/>
              <a:ext cx="1066680" cy="914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324480" y="3124080"/>
              <a:ext cx="53352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70536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28960" y="1461960"/>
              <a:ext cx="547920" cy="3988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HL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0640" y="184320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sup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04680" y="3200400"/>
              <a:ext cx="19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inf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6360" y="4419720"/>
              <a:ext cx="203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S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=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 -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 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+ 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9800" y="3886200"/>
              <a:ext cx="50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3440" y="2757600"/>
              <a:ext cx="423000" cy="4406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c70c4"/>
                  </a:solidFill>
                  <a:latin typeface="Times New Roman"/>
                </a:rPr>
                <a:t>N</a:t>
              </a:r>
              <a:r>
                <a:rPr b="1" lang="en-US" sz="20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32080" y="572940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Las alternativas disponibles se han separado en dos subconjuntos, uno con alternativas correlacionas (o inferior I) y otro de alternativas independientes (o superior S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9440" y="1995480"/>
            <a:ext cx="725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l modelo se calibra utilizando procedimiento secuencial o con software especializa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Primero se estima un MNL para el nido I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Luego se estima un MNL para el nivel 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n el nivel S se representa el nivel I por una utilidad representativa: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828800" y="4267080"/>
                <a:ext cx="61088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α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20120" y="3505320"/>
            <a:ext cx="1523880" cy="914400"/>
          </a:xfrm>
          <a:prstGeom prst="wedgeRoundRectCallout">
            <a:avLst>
              <a:gd name="adj1" fmla="val -49893"/>
              <a:gd name="adj2" fmla="val 73611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Atributos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comune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del ni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715000"/>
            <a:ext cx="1295280" cy="685800"/>
          </a:xfrm>
          <a:prstGeom prst="wedgeRoundRectCallout">
            <a:avLst>
              <a:gd name="adj1" fmla="val -54657"/>
              <a:gd name="adj2" fmla="val -12824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Vector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parámetro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6019920"/>
            <a:ext cx="1219320" cy="457200"/>
          </a:xfrm>
          <a:prstGeom prst="wedgeRoundRectCallout">
            <a:avLst>
              <a:gd name="adj1" fmla="val -3254"/>
              <a:gd name="adj2" fmla="val -161458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EMU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a funciones de utilidad de cada nido son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143000" y="4343400"/>
                <a:ext cx="6964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43000" y="5257800"/>
                <a:ext cx="7505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EMU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67760" y="3733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676520" y="2895480"/>
                <a:ext cx="70088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067040" y="2286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Inferior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46400" y="6164280"/>
                <a:ext cx="1222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SUP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68480" y="2971800"/>
                <a:ext cx="8089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201680" y="4572000"/>
                <a:ext cx="7680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EMU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657600" y="5791320"/>
            <a:ext cx="2590920" cy="761760"/>
          </a:xfrm>
          <a:prstGeom prst="wedgeRectCallout">
            <a:avLst>
              <a:gd name="adj1" fmla="val -121384"/>
              <a:gd name="adj2" fmla="val -106041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Prob. de elegir una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alternativa del nido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41480" y="3352680"/>
                <a:ext cx="751824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INF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219320" y="1828800"/>
                <a:ext cx="34290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95280" y="3657600"/>
                <a:ext cx="35816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486400" y="1828800"/>
                <a:ext cx="32241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057400" y="5410080"/>
                <a:ext cx="4076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2362320" y="6172200"/>
            <a:ext cx="1600200" cy="457200"/>
          </a:xfrm>
          <a:prstGeom prst="wedgeRectCallout">
            <a:avLst>
              <a:gd name="adj1" fmla="val 40773"/>
              <a:gd name="adj2" fmla="val -97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argi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6172200"/>
            <a:ext cx="1600200" cy="457200"/>
          </a:xfrm>
          <a:prstGeom prst="wedgeRectCallout">
            <a:avLst>
              <a:gd name="adj1" fmla="val -68847"/>
              <a:gd name="adj2" fmla="val -9895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Condicio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4191120"/>
            <a:ext cx="1600200" cy="457200"/>
          </a:xfrm>
          <a:prstGeom prst="wedgeRectCallout">
            <a:avLst>
              <a:gd name="adj1" fmla="val -114981"/>
              <a:gd name="adj2" fmla="val -437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inf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3200400"/>
            <a:ext cx="1752480" cy="457200"/>
          </a:xfrm>
          <a:prstGeom prst="wedgeRectCallout">
            <a:avLst>
              <a:gd name="adj1" fmla="val -76449"/>
              <a:gd name="adj2" fmla="val -10590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446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Arial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1" lang="es-ES_tradnl" sz="2800" spc="-1" strike="noStrike">
                <a:solidFill>
                  <a:srgbClr val="4d4d4d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término sistemátic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: término aleatori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1828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1280" y="187020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Probabilidades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de elección entre </a:t>
            </a:r>
            <a:r>
              <a:rPr b="1" i="1" lang="en-US" sz="2400" spc="-1" strike="noStrike" u="sng">
                <a:solidFill>
                  <a:srgbClr val="3c70c4"/>
                </a:solidFill>
                <a:uFillTx/>
                <a:latin typeface="Times New Roman"/>
              </a:rPr>
              <a:t>dos</a:t>
            </a: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 alternativas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2040" y="3886200"/>
                <a:ext cx="5940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06560" y="5237280"/>
                <a:ext cx="59421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rot="16200000">
            <a:off x="4952880" y="54100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5040" y="61722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200400"/>
            <a:ext cx="2971800" cy="533520"/>
          </a:xfrm>
          <a:prstGeom prst="wedgeRectCallout">
            <a:avLst>
              <a:gd name="adj1" fmla="val -31087"/>
              <a:gd name="adj2" fmla="val 9196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Probabilidad que utilidad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 1 sea mayor que 2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97160" y="1676520"/>
                <a:ext cx="4736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90920" y="3124080"/>
                <a:ext cx="457200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utilidad sistemática 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) 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2050920"/>
            <a:ext cx="6217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indirecta condicional 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V(I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P, z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S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lineal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3048120"/>
                <a:ext cx="6692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00200" y="3962520"/>
            <a:ext cx="69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términos lineales que no dependen de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elección se cancelan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parámetros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no dependen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 elección 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br>
              <a:rPr sz="4400"/>
            </a:br>
            <a:r>
              <a:rPr b="0" lang="es-ES_tradnl" sz="3200" spc="-1" strike="noStrike">
                <a:solidFill>
                  <a:srgbClr val="336699"/>
                </a:solidFill>
                <a:latin typeface="Times New Roman"/>
              </a:rPr>
              <a:t>Más de dos alternativas de elec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70c4"/>
                </a:solidFill>
                <a:latin typeface="Arial"/>
              </a:rPr>
              <a:t>Se requiere calcular la probabilidad conjunta de todos los  eventos simultáneos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57080" y="2590920"/>
                <a:ext cx="801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162920" y="1752480"/>
            <a:ext cx="1295280" cy="533520"/>
          </a:xfrm>
          <a:prstGeom prst="wedgeRectCallout">
            <a:avLst>
              <a:gd name="adj1" fmla="val 21569"/>
              <a:gd name="adj2" fmla="val 10654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Vari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52560" y="1523880"/>
                <a:ext cx="78865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84480" y="3048120"/>
                <a:ext cx="4775040" cy="19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60640" y="5105520"/>
                <a:ext cx="6764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,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71600" y="2459160"/>
                <a:ext cx="3886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400800" y="2286000"/>
            <a:ext cx="2514600" cy="990720"/>
          </a:xfrm>
          <a:prstGeom prst="wedgeRoundRectCallout">
            <a:avLst>
              <a:gd name="adj1" fmla="val -89268"/>
              <a:gd name="adj2" fmla="val -112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Función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probabilidad conjunta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r>
              <a:rPr b="1" lang="es-ES_tradnl" sz="4400" spc="-1" strike="noStrike">
                <a:solidFill>
                  <a:srgbClr val="336699"/>
                </a:solidFill>
                <a:latin typeface="Times New Roman"/>
              </a:rPr>
              <a:t>IID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47600" y="3600360"/>
                <a:ext cx="750600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d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47920" y="1676520"/>
                <a:ext cx="38862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353600" y="955800"/>
            <a:ext cx="63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IID: idéntica e independientemente distribuida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20800" y="5299200"/>
                <a:ext cx="689616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19920" y="1600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Opción simplificatoria: primero encontrar la alternativa distinta de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de máxima utilidad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30000">
                <a:solidFill>
                  <a:srgbClr val="3c70c4"/>
                </a:solidFill>
                <a:latin typeface="Arial"/>
              </a:rPr>
              <a:t>*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4419720"/>
            <a:ext cx="1295280" cy="533160"/>
          </a:xfrm>
          <a:prstGeom prst="wedgeRectCallout">
            <a:avLst>
              <a:gd name="adj1" fmla="val -80148"/>
              <a:gd name="adj2" fmla="val 630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máxi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66680" y="3352680"/>
                <a:ext cx="75963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33720" y="5105520"/>
                <a:ext cx="5825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/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676520" y="6248520"/>
            <a:ext cx="2895480" cy="380880"/>
          </a:xfrm>
          <a:prstGeom prst="wedgeRectCallout">
            <a:avLst>
              <a:gd name="adj1" fmla="val -24287"/>
              <a:gd name="adj2" fmla="val -17916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Se reduce al caso binomi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4:25:50Z</dcterms:created>
  <dc:creator>Mariela Salazar</dc:creator>
  <dc:description/>
  <dc:language>en-US</dc:language>
  <cp:lastModifiedBy>F M</cp:lastModifiedBy>
  <dcterms:modified xsi:type="dcterms:W3CDTF">2003-03-10T15:51:06Z</dcterms:modified>
  <cp:revision>4</cp:revision>
  <dc:subject/>
  <dc:title>II. UTILIDAD ALEATORIA</dc:title>
</cp:coreProperties>
</file>