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141-ED3B-47CB-97DB-BCD75263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E97-70F0-4C11-9D20-653FFBD9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7D4-7E5D-457F-B2FE-42B9CCC3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F99-D6B0-41F9-B6D1-C1140D3C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8D46-6A71-4064-9D4C-6FE9B202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A19E-5A76-4AAF-AA26-1A3731C8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A690-CA9B-476F-8DBF-0057CB0E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5DFD-786E-4D0B-8611-A4AD6A1A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6BBD-F865-440E-BA41-BA6A3054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518F-2EDE-4DC0-9F36-809517F4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4C95-8942-4FBC-BC0B-7C02CDF2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365-0264-4870-8224-A38C42F1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1867-80BC-4236-BEA4-89AC4174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1172-A82E-4EE9-848F-B666B8CA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836B-B4A2-4113-AEF8-2EC3508A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6FA8-BA25-4010-BE59-06C7E32B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CAF2-8F7A-464E-8FED-7AF2336F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7FC-2943-4BD4-AEC5-A19D1DE3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09B-9E08-49B5-A6DD-6DF5A6DF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25B-A789-4FEB-B6B2-FBF7DEA7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245-777C-4E4C-BCDC-E37F056B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F18-3758-4DB6-A2C5-64054D09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03A-1EAE-476B-BD20-EA9D7278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FBF-463E-4CCB-90C2-5FEBCC86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9857-DD86-42B4-AB77-0A8E3937FC4F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04FD-FA37-47AE-821E-AFF7707F7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3366cc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entury Schoolbook"/>
              </a:rPr>
              <a:t>Capítulo 6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entury Schoolbook"/>
              </a:rPr>
              <a:t>Distribución de viaje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Tipos de modelos...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81480"/>
            <a:ext cx="8153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90a8"/>
                </a:solidFill>
                <a:latin typeface="Times New Roman"/>
              </a:rPr>
              <a:t>Ejemplos: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Times New Roman"/>
              </a:rPr>
              <a:t>Distribución de empleo con localización residencial conocid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Times New Roman"/>
              </a:rPr>
              <a:t>Elección de destino propósito compra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600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2) Simplemente acotado </a:t>
            </a:r>
            <a:r>
              <a:rPr b="1" lang="en-US" sz="2800" spc="-1" strike="noStrike" u="sng">
                <a:solidFill>
                  <a:srgbClr val="3366cc"/>
                </a:solidFill>
                <a:uFillTx/>
                <a:latin typeface="Times New Roman"/>
              </a:rPr>
              <a:t>origen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819520" y="2590920"/>
                <a:ext cx="4572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581280" y="3809880"/>
                <a:ext cx="1828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Tipos de modelos...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518148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90a8"/>
                </a:solidFill>
                <a:latin typeface="Times New Roman"/>
              </a:rPr>
              <a:t>Ejemplo: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90a8"/>
                </a:solidFill>
                <a:latin typeface="Times New Roman"/>
              </a:rPr>
              <a:t>Elección de localización residencial conocida con empleo fij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5280" y="1600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2) Simplemente acotado </a:t>
            </a:r>
            <a:r>
              <a:rPr b="1" lang="en-US" sz="2800" spc="-1" strike="noStrike" u="sng">
                <a:solidFill>
                  <a:srgbClr val="3366cc"/>
                </a:solidFill>
                <a:uFillTx/>
                <a:latin typeface="Times New Roman"/>
              </a:rPr>
              <a:t>destin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779560" y="2590920"/>
                <a:ext cx="4653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529080" y="3809880"/>
                <a:ext cx="1935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cc"/>
                </a:solidFill>
                <a:latin typeface="Times New Roman"/>
              </a:rPr>
              <a:t>Modelos desagregados por cluster 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Clusters </a:t>
            </a:r>
            <a:r>
              <a:rPr b="0" i="1" lang="es-ES_tradnl" sz="2800" spc="-1" strike="noStrike">
                <a:solidFill>
                  <a:srgbClr val="3366cc"/>
                </a:solidFill>
                <a:latin typeface="Times New Roman"/>
              </a:rPr>
              <a:t>n</a:t>
            </a: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66cc"/>
                </a:solidFill>
                <a:latin typeface="Times New Roman"/>
              </a:rPr>
              <a:t>              </a:t>
            </a:r>
            <a:r>
              <a:rPr b="0" i="1" lang="es-ES_tradnl" sz="2800" spc="-1" strike="noStrike">
                <a:solidFill>
                  <a:srgbClr val="3366cc"/>
                </a:solidFill>
                <a:latin typeface="Times New Roman"/>
              </a:rPr>
              <a:t>k</a:t>
            </a: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Noción de acceso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accesibilidad: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beneficio de visitar actividad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133720" y="3581280"/>
                <a:ext cx="5172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133720" y="5867280"/>
                <a:ext cx="5195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cc"/>
                </a:solidFill>
                <a:latin typeface="Times New Roman"/>
              </a:rPr>
              <a:t>atractividad: beneficio de ser visitad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5245"/>
              <a:gd name="adj2" fmla="val 15750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imes New Roman"/>
              </a:rPr>
              <a:t>ENFOQUE DE ENTROPIA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Modelo de interacción espacia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Origen en modelo gravitaciona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arácter </a:t>
            </a:r>
            <a:r>
              <a:rPr b="0" lang="en-US" sz="3200" spc="-1" strike="noStrike" u="sng">
                <a:solidFill>
                  <a:srgbClr val="3366cc"/>
                </a:solidFill>
                <a:uFillTx/>
                <a:latin typeface="Arial"/>
              </a:rPr>
              <a:t>agregad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Busca distribución </a:t>
            </a:r>
            <a:r>
              <a:rPr b="0" i="1" lang="en-US" sz="3200" spc="-1" strike="noStrike" u="sng">
                <a:solidFill>
                  <a:srgbClr val="3366cc"/>
                </a:solidFill>
                <a:uFillTx/>
                <a:latin typeface="Arial"/>
              </a:rPr>
              <a:t>más probable</a:t>
            </a:r>
            <a:r>
              <a:rPr b="0" i="1" lang="en-US" sz="3200" spc="-1" strike="noStrike">
                <a:solidFill>
                  <a:srgbClr val="3366cc"/>
                </a:solidFill>
                <a:latin typeface="Arial"/>
              </a:rPr>
              <a:t> de 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una variable desde un nivel entre opciones de nivel más desagregado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Matriz más probable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2666880"/>
            <a:ext cx="1600200" cy="6858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02280" y="2743200"/>
            <a:ext cx="86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66cc"/>
                </a:solidFill>
                <a:latin typeface="Times New Roman"/>
              </a:rPr>
              <a:t>O</a:t>
            </a:r>
            <a:r>
              <a:rPr b="1" i="1" lang="es-ES_tradnl" sz="2400" spc="-1" strike="noStrike" baseline="-25000">
                <a:solidFill>
                  <a:srgbClr val="3366cc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3366cc"/>
                </a:solidFill>
                <a:latin typeface="Times New Roman"/>
              </a:rPr>
              <a:t>, D</a:t>
            </a:r>
            <a:r>
              <a:rPr b="1" i="1" lang="es-ES_tradnl" sz="2400" spc="-1" strike="noStrike" baseline="-25000">
                <a:solidFill>
                  <a:srgbClr val="3366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3505320"/>
            <a:ext cx="0" cy="152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057400" y="3352680"/>
            <a:ext cx="5257800" cy="2210040"/>
            <a:chOff x="2057400" y="3352680"/>
            <a:chExt cx="5257800" cy="2210040"/>
          </a:xfrm>
        </p:grpSpPr>
        <p:sp>
          <p:nvSpPr>
            <p:cNvPr id="136" name=""/>
            <p:cNvSpPr/>
            <p:nvPr/>
          </p:nvSpPr>
          <p:spPr>
            <a:xfrm>
              <a:off x="2057400" y="3657600"/>
              <a:ext cx="1600200" cy="60948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19520" y="3505320"/>
              <a:ext cx="434340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72200" y="3505320"/>
              <a:ext cx="0" cy="1522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8320" y="3352680"/>
              <a:ext cx="0" cy="1526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57800" y="3657600"/>
              <a:ext cx="1600200" cy="60948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7400" y="4876920"/>
              <a:ext cx="1371600" cy="6858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15000" y="4876920"/>
              <a:ext cx="1371600" cy="6858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8480" y="4876920"/>
              <a:ext cx="1371600" cy="6858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43200" y="4495680"/>
              <a:ext cx="457200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00600" y="4495680"/>
              <a:ext cx="0" cy="3812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53080" y="4495680"/>
              <a:ext cx="0" cy="3812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4495680"/>
              <a:ext cx="0" cy="3812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19920" y="4267080"/>
              <a:ext cx="0" cy="2286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877360" y="373392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66cc"/>
                </a:solidFill>
                <a:latin typeface="Times New Roman"/>
              </a:rPr>
              <a:t>T</a:t>
            </a:r>
            <a:r>
              <a:rPr b="1" i="1" lang="es-ES_tradnl" sz="2400" spc="-1" strike="noStrike" baseline="-25000">
                <a:solidFill>
                  <a:srgbClr val="3366cc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4520" y="27432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acr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0" y="3733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es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50292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1676520"/>
            <a:ext cx="1600200" cy="6858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2514600"/>
            <a:ext cx="0" cy="152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514600"/>
            <a:ext cx="464832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2362320"/>
            <a:ext cx="0" cy="152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0920" y="1717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cc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nstrucción de micro-estado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1828800"/>
            <a:ext cx="914400" cy="457200"/>
          </a:xfrm>
          <a:prstGeom prst="wedgeRectCallout">
            <a:avLst>
              <a:gd name="adj1" fmla="val -129689"/>
              <a:gd name="adj2" fmla="val 111458"/>
            </a:avLst>
          </a:prstGeom>
          <a:solidFill>
            <a:srgbClr val="99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O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657600"/>
            <a:ext cx="914400" cy="457200"/>
          </a:xfrm>
          <a:prstGeom prst="wedgeRectCallout">
            <a:avLst>
              <a:gd name="adj1" fmla="val 182120"/>
              <a:gd name="adj2" fmla="val 18750"/>
            </a:avLst>
          </a:prstGeom>
          <a:solidFill>
            <a:srgbClr val="99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D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33720" y="2549520"/>
            <a:ext cx="4583880" cy="3165480"/>
            <a:chOff x="2133720" y="2549520"/>
            <a:chExt cx="4583880" cy="3165480"/>
          </a:xfrm>
        </p:grpSpPr>
        <p:grpSp>
          <p:nvGrpSpPr>
            <p:cNvPr id="162" name=""/>
            <p:cNvGrpSpPr/>
            <p:nvPr/>
          </p:nvGrpSpPr>
          <p:grpSpPr>
            <a:xfrm>
              <a:off x="2133720" y="2590920"/>
              <a:ext cx="4572000" cy="3124080"/>
              <a:chOff x="2133720" y="2590920"/>
              <a:chExt cx="4572000" cy="3124080"/>
            </a:xfrm>
          </p:grpSpPr>
          <mc:AlternateContent>
            <mc:Choice xmlns:a14="http://schemas.microsoft.com/office/drawing/2010/main" Requires="a14">
              <p:sp>
                <p:nvSpPr>
                  <p:cNvPr id="163" name=""/>
                  <p:cNvSpPr txBox="1"/>
                  <p:nvPr/>
                </p:nvSpPr>
                <p:spPr>
                  <a:xfrm>
                    <a:off x="4514760" y="3321000"/>
                    <a:ext cx="11268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164" name=""/>
              <p:cNvGrpSpPr/>
              <p:nvPr/>
            </p:nvGrpSpPr>
            <p:grpSpPr>
              <a:xfrm>
                <a:off x="3429000" y="2590920"/>
                <a:ext cx="1905120" cy="1143000"/>
                <a:chOff x="3429000" y="2590920"/>
                <a:chExt cx="1905120" cy="1143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429000" y="2590920"/>
                  <a:ext cx="1905120" cy="114300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419720" y="2590920"/>
                  <a:ext cx="0" cy="114300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429000" y="3200400"/>
                  <a:ext cx="1905120" cy="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133720" y="4572000"/>
                <a:ext cx="1904760" cy="1143000"/>
                <a:chOff x="2133720" y="4572000"/>
                <a:chExt cx="1904760" cy="1143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133720" y="4572000"/>
                  <a:ext cx="1904760" cy="114300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124080" y="4572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133720" y="5181480"/>
                  <a:ext cx="1904760" cy="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800600" y="4572000"/>
                <a:ext cx="1905120" cy="1143000"/>
                <a:chOff x="4800600" y="4572000"/>
                <a:chExt cx="1905120" cy="11430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800600" y="4572000"/>
                  <a:ext cx="1905120" cy="114300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791320" y="4572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800600" y="5181480"/>
                  <a:ext cx="1905120" cy="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3124080" y="4267080"/>
                <a:ext cx="2667240" cy="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124080" y="4267080"/>
                <a:ext cx="0" cy="30492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91320" y="4267080"/>
                <a:ext cx="0" cy="30492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19720" y="3733920"/>
                <a:ext cx="0" cy="53316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33920" y="3733920"/>
                <a:ext cx="32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cc"/>
                    </a:solidFill>
                    <a:latin typeface="Symbol"/>
                    <a:ea typeface="Symbol"/>
                  </a:rPr>
                  <a:t></a:t>
                </a:r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24280" y="373392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cc"/>
                    </a:solidFill>
                    <a:latin typeface="Symbol"/>
                    <a:ea typeface="Symbol"/>
                  </a:rPr>
                  <a:t></a:t>
                </a:r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243880" y="464832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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34240" y="464832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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43880" y="518148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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57920" y="51814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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5680" y="254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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5680" y="3159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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87080" y="464832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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01120" y="464832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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34440" y="51814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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25160" y="51814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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371600" y="6095880"/>
            <a:ext cx="1676520" cy="457200"/>
          </a:xfrm>
          <a:prstGeom prst="wedgeRectCallout">
            <a:avLst>
              <a:gd name="adj1" fmla="val 39773"/>
              <a:gd name="adj2" fmla="val -116319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Micro estado 1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6095880"/>
            <a:ext cx="1676520" cy="457200"/>
          </a:xfrm>
          <a:prstGeom prst="wedgeRectCallout">
            <a:avLst>
              <a:gd name="adj1" fmla="val -60606"/>
              <a:gd name="adj2" fmla="val -11493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Micro estado 2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66920" y="3013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es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4648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43560" y="270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33920" y="2625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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5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608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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Máxima entropía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Supuestos: micro-estado son 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equiprobabl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Máxima entropía = máxima número de micro-estado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Micro-estado: cumple con las restriccion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Calcular número micro-estados </a:t>
            </a:r>
            <a:r>
              <a:rPr b="0" i="1" lang="es-ES_tradnl" sz="3200" spc="-1" strike="noStrike">
                <a:solidFill>
                  <a:srgbClr val="3366cc"/>
                </a:solidFill>
                <a:latin typeface="Arial"/>
              </a:rPr>
              <a:t>W(T</a:t>
            </a:r>
            <a:r>
              <a:rPr b="0" i="1" lang="es-ES_tradnl" sz="3200" spc="-1" strike="noStrike" baseline="-25000">
                <a:solidFill>
                  <a:srgbClr val="3366cc"/>
                </a:solidFill>
                <a:latin typeface="Arial"/>
              </a:rPr>
              <a:t>ij</a:t>
            </a:r>
            <a:r>
              <a:rPr b="0" i="1" lang="es-ES_tradnl" sz="3200" spc="-1" strike="noStrike">
                <a:solidFill>
                  <a:srgbClr val="3366cc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Identificar máximo </a:t>
            </a:r>
            <a:r>
              <a:rPr b="0" i="1" lang="es-ES_tradnl" sz="3200" spc="-1" strike="noStrike">
                <a:solidFill>
                  <a:srgbClr val="3366cc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cc"/>
                </a:solidFill>
                <a:latin typeface="Times New Roman"/>
              </a:rPr>
              <a:t>Calculo de </a:t>
            </a:r>
            <a:r>
              <a:rPr b="0" i="1" lang="es-ES_tradnl" sz="4400" spc="-1" strike="noStrike">
                <a:solidFill>
                  <a:srgbClr val="3366cc"/>
                </a:solidFill>
                <a:latin typeface="Times New Roman"/>
              </a:rPr>
              <a:t>W(T</a:t>
            </a:r>
            <a:r>
              <a:rPr b="0" i="1" lang="es-ES_tradnl" sz="4400" spc="-1" strike="noStrike" baseline="-25000">
                <a:solidFill>
                  <a:srgbClr val="3366cc"/>
                </a:solidFill>
                <a:latin typeface="Times New Roman"/>
              </a:rPr>
              <a:t>ij</a:t>
            </a:r>
            <a:r>
              <a:rPr b="0" i="1" lang="es-ES_tradnl" sz="4400" spc="-1" strike="noStrike">
                <a:solidFill>
                  <a:srgbClr val="3366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398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99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otal de viaj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334120" y="2057400"/>
                <a:ext cx="1968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905120" y="2971800"/>
                <a:ext cx="6172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x 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x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x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406760" y="3327480"/>
                <a:ext cx="330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124080" y="4495680"/>
                <a:ext cx="28958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4495680"/>
            <a:ext cx="1371600" cy="457200"/>
          </a:xfrm>
          <a:prstGeom prst="wedgeRectCallout">
            <a:avLst>
              <a:gd name="adj1" fmla="val -80324"/>
              <a:gd name="adj2" fmla="val 25694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Times New Roman"/>
              </a:rPr>
              <a:t>Fórmula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cc"/>
                </a:solidFill>
                <a:latin typeface="Times New Roman"/>
              </a:rPr>
              <a:t>Cálculo de </a:t>
            </a:r>
            <a:r>
              <a:rPr b="0" i="1" lang="es-ES_tradnl" sz="4400" spc="-1" strike="noStrike">
                <a:solidFill>
                  <a:srgbClr val="3366cc"/>
                </a:solidFill>
                <a:latin typeface="Times New Roman"/>
              </a:rPr>
              <a:t>W(T</a:t>
            </a:r>
            <a:r>
              <a:rPr b="0" i="1" lang="es-ES_tradnl" sz="4400" spc="-1" strike="noStrike" baseline="-25000">
                <a:solidFill>
                  <a:srgbClr val="3366cc"/>
                </a:solidFill>
                <a:latin typeface="Times New Roman"/>
              </a:rPr>
              <a:t>ij</a:t>
            </a:r>
            <a:r>
              <a:rPr b="0" i="1" lang="es-ES_tradnl" sz="4400" spc="-1" strike="noStrike">
                <a:solidFill>
                  <a:srgbClr val="3366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482920" y="1967040"/>
                <a:ext cx="365760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lim>
                    </m:limLow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!</m:t>
                            </m:r>
                          </m:num>
                          <m:den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476360" y="36846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Sujeto 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092400" y="3871800"/>
                <a:ext cx="4600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971800" y="5410080"/>
                <a:ext cx="4557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           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048120" y="4648320"/>
                <a:ext cx="4687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6902280" y="2881440"/>
            <a:ext cx="1752840" cy="761760"/>
          </a:xfrm>
          <a:prstGeom prst="wedgeRectCallout">
            <a:avLst>
              <a:gd name="adj1" fmla="val -25453"/>
              <a:gd name="adj2" fmla="val 92291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cc"/>
                </a:solidFill>
                <a:latin typeface="Times New Roman"/>
              </a:rPr>
              <a:t>Multiplicadores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cc"/>
                </a:solidFill>
                <a:latin typeface="Times New Roman"/>
              </a:rPr>
              <a:t>de Lagrange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867280"/>
            <a:ext cx="1752840" cy="762120"/>
          </a:xfrm>
          <a:prstGeom prst="wedgeRectCallout">
            <a:avLst>
              <a:gd name="adj1" fmla="val -71560"/>
              <a:gd name="adj2" fmla="val -11750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cc"/>
                </a:solidFill>
                <a:latin typeface="Times New Roman"/>
              </a:rPr>
              <a:t>Datos: </a:t>
            </a: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O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i</a:t>
            </a: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 , D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j</a:t>
            </a: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 , c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ij</a:t>
            </a: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olución 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514600" y="1905120"/>
                <a:ext cx="55627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438280" y="320040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362320" y="4191120"/>
                <a:ext cx="33526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62120" y="5410080"/>
            <a:ext cx="1752480" cy="762120"/>
          </a:xfrm>
          <a:prstGeom prst="wedgeRectCallout">
            <a:avLst>
              <a:gd name="adj1" fmla="val 45106"/>
              <a:gd name="adj2" fmla="val -133125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Tipos de modelo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133720" y="2819520"/>
                <a:ext cx="5715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371600" y="1828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1) Doblemente acotad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2880" y="5257800"/>
            <a:ext cx="577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90a8"/>
                </a:solidFill>
                <a:latin typeface="Times New Roman"/>
              </a:rPr>
              <a:t>Ejemplos: 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90a8"/>
                </a:solidFill>
                <a:latin typeface="Times New Roman"/>
              </a:rPr>
              <a:t>Distribución de viajes al trabaj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429000" y="39625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4:56:39Z</dcterms:created>
  <dc:creator>Mariela Salazar</dc:creator>
  <dc:description/>
  <dc:language>en-US</dc:language>
  <cp:lastModifiedBy>F M</cp:lastModifiedBy>
  <dcterms:modified xsi:type="dcterms:W3CDTF">2003-03-10T15:50:41Z</dcterms:modified>
  <cp:revision>3</cp:revision>
  <dc:subject/>
  <dc:title>III. ENFOQUE DE ENTROPIA</dc:title>
</cp:coreProperties>
</file>