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771-A252-45A5-A2DD-EFC90126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751-E1FD-45C1-853A-ECF4DF0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672-FE3C-49AD-AB54-C4C42676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39A-DE85-43B5-B81B-55B72719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ED56-A617-479A-93E1-81C04CA6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8A90-F420-41F7-A0E6-AEB68B21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A33E-FB02-416C-AE50-EAF26F42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B0D8-7C9B-4B3B-9C55-7E54420D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ED9C-0FFE-4E6E-BAD8-C096FE7C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1EDC-041C-43CC-884E-9598F342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2EEB-CE28-4BE6-BFA8-8F22E4A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1AD-6832-44D2-A2A3-D427F3D1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E3DE-ADDF-4E94-9B51-7AD53D4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04C8-D9F5-40EB-BC9D-6A1E7119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B9CD-E338-4648-ACBC-7D0C7A1C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13C7-D8B4-4694-A636-173C965F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5BF7-0BB0-4DBA-BC97-9C603196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2E3-970B-4F1F-B952-850496CA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FC0-F97B-4C26-8DCC-B0617262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A67-CC2B-422D-ADC9-5734CC60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ECF-57D3-44A8-8E97-27012554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7C1-7F2D-4D27-902D-9BD515EB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4AD-A772-45F8-8656-93A1E104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28C-9B7C-471A-9859-273F7A0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270-01FE-42BE-B3DB-0C3B45C111F5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1FCE-5AB2-4977-AFA9-AFA4B2140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entury Schoolbook"/>
              </a:rPr>
              <a:t>Capítulo 6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entury Schoolbook"/>
              </a:rPr>
              <a:t>Distribución de viaj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..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81480"/>
            <a:ext cx="8153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Distribución de empleo con localización residencial conocid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Elección de destino propósito compra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) Simplemente acotado 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Times New Roman"/>
              </a:rPr>
              <a:t>origen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819520" y="2590920"/>
                <a:ext cx="457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581280" y="3809880"/>
                <a:ext cx="1828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..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51814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lección de localización residencial conocida con empleo fij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) Simplemente acotado 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Times New Roman"/>
              </a:rPr>
              <a:t>destin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79560" y="2590920"/>
                <a:ext cx="4653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29080" y="3809880"/>
                <a:ext cx="1935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Modelos desagregados por cluster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Clusters </a:t>
            </a: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              </a:t>
            </a: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k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Noción de acceso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accesibilidad: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beneficio de visitar activida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133720" y="3581280"/>
                <a:ext cx="517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133720" y="5867280"/>
                <a:ext cx="5195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cc"/>
                </a:solidFill>
                <a:latin typeface="Times New Roman"/>
              </a:rPr>
              <a:t>atractividad: beneficio de ser visita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5245"/>
              <a:gd name="adj2" fmla="val 15750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ENFOQUE DE ENTROPIA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Modelo de interacción espacia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Origen en modelo gravitaciona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arácter </a:t>
            </a:r>
            <a:r>
              <a:rPr b="0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agregad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Busca distribución </a:t>
            </a:r>
            <a:r>
              <a:rPr b="0" i="1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más probable</a:t>
            </a:r>
            <a:r>
              <a:rPr b="0" i="1" lang="en-US" sz="3200" spc="-1" strike="noStrike">
                <a:solidFill>
                  <a:srgbClr val="3366cc"/>
                </a:solidFill>
                <a:latin typeface="Arial"/>
              </a:rPr>
              <a:t> de 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una variable desde un nivel entre opciones de nivel más desagregado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Matriz más probable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2666880"/>
            <a:ext cx="1600200" cy="6858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02280" y="2743200"/>
            <a:ext cx="86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, D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50532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57400" y="3352680"/>
            <a:ext cx="5257800" cy="2210040"/>
            <a:chOff x="2057400" y="3352680"/>
            <a:chExt cx="5257800" cy="2210040"/>
          </a:xfrm>
        </p:grpSpPr>
        <p:sp>
          <p:nvSpPr>
            <p:cNvPr id="136" name=""/>
            <p:cNvSpPr/>
            <p:nvPr/>
          </p:nvSpPr>
          <p:spPr>
            <a:xfrm>
              <a:off x="2057400" y="3657600"/>
              <a:ext cx="1600200" cy="60948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520" y="3505320"/>
              <a:ext cx="434340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72200" y="3505320"/>
              <a:ext cx="0" cy="1522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320" y="3352680"/>
              <a:ext cx="0" cy="1526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3657600"/>
              <a:ext cx="1600200" cy="60948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500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4495680"/>
              <a:ext cx="457200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060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9920" y="4267080"/>
              <a:ext cx="0" cy="2286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877360" y="373392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T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4520" y="2743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0" y="3733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e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5029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1676520"/>
            <a:ext cx="1600200" cy="6858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251460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514600"/>
            <a:ext cx="46483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092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nstrucción de micro-estado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1828800"/>
            <a:ext cx="914400" cy="457200"/>
          </a:xfrm>
          <a:prstGeom prst="wedgeRectCallout">
            <a:avLst>
              <a:gd name="adj1" fmla="val -129689"/>
              <a:gd name="adj2" fmla="val 111458"/>
            </a:avLst>
          </a:prstGeom>
          <a:solidFill>
            <a:srgbClr val="99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657600"/>
            <a:ext cx="914400" cy="457200"/>
          </a:xfrm>
          <a:prstGeom prst="wedgeRectCallout">
            <a:avLst>
              <a:gd name="adj1" fmla="val 182120"/>
              <a:gd name="adj2" fmla="val 18750"/>
            </a:avLst>
          </a:prstGeom>
          <a:solidFill>
            <a:srgbClr val="99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D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33720" y="2549520"/>
            <a:ext cx="4583880" cy="3165480"/>
            <a:chOff x="2133720" y="2549520"/>
            <a:chExt cx="4583880" cy="3165480"/>
          </a:xfrm>
        </p:grpSpPr>
        <p:grpSp>
          <p:nvGrpSpPr>
            <p:cNvPr id="162" name=""/>
            <p:cNvGrpSpPr/>
            <p:nvPr/>
          </p:nvGrpSpPr>
          <p:grpSpPr>
            <a:xfrm>
              <a:off x="2133720" y="2590920"/>
              <a:ext cx="4572000" cy="3124080"/>
              <a:chOff x="2133720" y="2590920"/>
              <a:chExt cx="4572000" cy="3124080"/>
            </a:xfrm>
          </p:grpSpPr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4514760" y="3321000"/>
                    <a:ext cx="1126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164" name=""/>
              <p:cNvGrpSpPr/>
              <p:nvPr/>
            </p:nvGrpSpPr>
            <p:grpSpPr>
              <a:xfrm>
                <a:off x="3429000" y="2590920"/>
                <a:ext cx="1905120" cy="1143000"/>
                <a:chOff x="3429000" y="2590920"/>
                <a:chExt cx="1905120" cy="1143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429000" y="2590920"/>
                  <a:ext cx="190512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19720" y="259092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429000" y="3200400"/>
                  <a:ext cx="190512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33720" y="4572000"/>
                <a:ext cx="1904760" cy="1143000"/>
                <a:chOff x="2133720" y="4572000"/>
                <a:chExt cx="1904760" cy="1143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133720" y="4572000"/>
                  <a:ext cx="190476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124080" y="4572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33720" y="5181480"/>
                  <a:ext cx="190476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800600" y="4572000"/>
                <a:ext cx="1905120" cy="1143000"/>
                <a:chOff x="4800600" y="4572000"/>
                <a:chExt cx="1905120" cy="11430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800600" y="4572000"/>
                  <a:ext cx="190512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791320" y="4572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00600" y="5181480"/>
                  <a:ext cx="190512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3124080" y="4267080"/>
                <a:ext cx="2667240" cy="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24080" y="4267080"/>
                <a:ext cx="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1320" y="4267080"/>
                <a:ext cx="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19720" y="3733920"/>
                <a:ext cx="0" cy="5331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33920" y="3733920"/>
                <a:ext cx="32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cc"/>
                    </a:solidFill>
                    <a:latin typeface="Symbol"/>
                    <a:ea typeface="Symbol"/>
                  </a:rPr>
                  <a:t>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24280" y="3733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cc"/>
                    </a:solidFill>
                    <a:latin typeface="Symbol"/>
                    <a:ea typeface="Symbol"/>
                  </a:rPr>
                  <a:t>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243880" y="46483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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34240" y="46483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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3880" y="51814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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5792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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5680" y="254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5680" y="315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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7080" y="46483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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01120" y="46483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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444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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2516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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71600" y="6095880"/>
            <a:ext cx="1676520" cy="457200"/>
          </a:xfrm>
          <a:prstGeom prst="wedgeRectCallout">
            <a:avLst>
              <a:gd name="adj1" fmla="val 39773"/>
              <a:gd name="adj2" fmla="val -116319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Micro estado 1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6095880"/>
            <a:ext cx="1676520" cy="457200"/>
          </a:xfrm>
          <a:prstGeom prst="wedgeRectCallout">
            <a:avLst>
              <a:gd name="adj1" fmla="val -60606"/>
              <a:gd name="adj2" fmla="val -11493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Micro estado 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66920" y="3013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e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4648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43560" y="270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3920" y="262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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5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60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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Máxima entropía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Supuestos: micro-estado son 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equiprob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Máxima entropía = máxima número de micro-estado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Micro-estado: cumple con las restriccion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Calcular número micro-estados 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W(T</a:t>
            </a:r>
            <a:r>
              <a:rPr b="0" i="1" lang="es-ES_tradnl" sz="3200" spc="-1" strike="noStrike" baseline="-25000">
                <a:solidFill>
                  <a:srgbClr val="3366cc"/>
                </a:solidFill>
                <a:latin typeface="Arial"/>
              </a:rPr>
              <a:t>ij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Identificar máximo 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Calculo de 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W(T</a:t>
            </a:r>
            <a:r>
              <a:rPr b="0" i="1" lang="es-ES_tradnl" sz="4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398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99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tal de viaj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334120" y="2057400"/>
                <a:ext cx="1968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905120" y="2971800"/>
                <a:ext cx="6172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 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06760" y="3327480"/>
                <a:ext cx="330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124080" y="4495680"/>
                <a:ext cx="28958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495680"/>
            <a:ext cx="1371600" cy="457200"/>
          </a:xfrm>
          <a:prstGeom prst="wedgeRectCallout">
            <a:avLst>
              <a:gd name="adj1" fmla="val -80324"/>
              <a:gd name="adj2" fmla="val 25694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Fórmula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Cálculo de 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W(T</a:t>
            </a:r>
            <a:r>
              <a:rPr b="0" i="1" lang="es-ES_tradnl" sz="4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82920" y="1967040"/>
                <a:ext cx="36576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lim>
                    </m:limLow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!</m:t>
                            </m:r>
                          </m:num>
                          <m:den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476360" y="36846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Sujeto 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092400" y="3871800"/>
                <a:ext cx="4600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71800" y="5410080"/>
                <a:ext cx="4557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48120" y="4648320"/>
                <a:ext cx="4687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902280" y="2881440"/>
            <a:ext cx="1752840" cy="761760"/>
          </a:xfrm>
          <a:prstGeom prst="wedgeRectCallout">
            <a:avLst>
              <a:gd name="adj1" fmla="val -25453"/>
              <a:gd name="adj2" fmla="val 92291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Multiplicadore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de Lagrang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867280"/>
            <a:ext cx="1752840" cy="762120"/>
          </a:xfrm>
          <a:prstGeom prst="wedgeRectCallout">
            <a:avLst>
              <a:gd name="adj1" fmla="val -71560"/>
              <a:gd name="adj2" fmla="val -11750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Datos: 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, D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, c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olución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14600" y="1905120"/>
                <a:ext cx="55627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438280" y="320040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62320" y="4191120"/>
                <a:ext cx="3352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62120" y="5410080"/>
            <a:ext cx="1752480" cy="762120"/>
          </a:xfrm>
          <a:prstGeom prst="wedgeRectCallout">
            <a:avLst>
              <a:gd name="adj1" fmla="val 45106"/>
              <a:gd name="adj2" fmla="val -133125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133720" y="2819520"/>
                <a:ext cx="5715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37160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1) Doblemente acotad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2880" y="5257800"/>
            <a:ext cx="57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Ejemplos: 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Distribución de viajes al trabaj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29000" y="39625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4:56:39Z</dcterms:created>
  <dc:creator>Mariela Salazar</dc:creator>
  <dc:description/>
  <dc:language>en-US</dc:language>
  <cp:lastModifiedBy>F M</cp:lastModifiedBy>
  <dcterms:modified xsi:type="dcterms:W3CDTF">2003-03-10T15:50:41Z</dcterms:modified>
  <cp:revision>3</cp:revision>
  <dc:subject/>
  <dc:title>III. ENFOQUE DE ENTROPIA</dc:title>
</cp:coreProperties>
</file>