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8F9-FFDC-426F-8258-BE9198D7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4D0-60AF-4367-92FE-94DD9DCF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676-67FC-4CBD-9E11-DAC438CE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501-AFC9-4059-8C2C-A1EAB16D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7135-D6FB-421A-834D-DAA709D7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CEEE-215F-4FC6-9DDB-29BA719A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F3E2-D4C6-4CAB-9140-4D32FE5A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4F87-3BB9-4A63-B151-54DD1EF7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6B90-76CD-40AD-9B7F-FB9235F0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D570-369F-4D9D-8BE5-E22AC728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8665-9A9E-4F4B-AE10-DFB8A86A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101-0831-41F7-A311-64297958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3F49-2219-486C-BA30-1A580D0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59F7-3C1B-4D4E-BB69-4113C38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3F64-7FE6-41A6-86A6-1D00D89B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5F0F-B1C2-40C8-9E5E-3BC40DB8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560E-3C4B-4C05-A48B-786EED21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77A-6C55-40C2-9266-C62236AF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FB7-ED5B-4979-8A71-EDDEABAA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A46-24A4-4A02-9935-C1FBA8BC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165-3D7B-4406-845E-9DFB1AB1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97B-C506-49F2-94B8-17EC5C5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6BF-30C2-4FA9-B359-4E379E9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D35-CAFB-4A4F-B499-2ABCF827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EBB2-8530-4028-A455-E39AB5B9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3D00-BBE7-4A60-BD2C-D1474DD0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Capítulo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Uso del suelo y generación de vi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iman la frecuencia de los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ment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luster de hogar o f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o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zona orig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Times New Roman"/>
              </a:rPr>
              <a:t>Modelos de generación/atrac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3760" y="367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05720" y="4572000"/>
                <a:ext cx="12189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hp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73240" y="1980720"/>
            <a:ext cx="766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el hog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H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rigen o d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el hogar (NB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56560" y="367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038480"/>
            <a:ext cx="1371600" cy="609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98400" y="41292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Ho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78160" y="5396040"/>
            <a:ext cx="13716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240" y="548640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02440" y="4100400"/>
            <a:ext cx="1371600" cy="609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520" y="41911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5334120"/>
            <a:ext cx="13716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99000" y="5424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4191120"/>
            <a:ext cx="335268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4572000"/>
            <a:ext cx="3352680" cy="0"/>
          </a:xfrm>
          <a:prstGeom prst="line">
            <a:avLst/>
          </a:prstGeom>
          <a:ln w="381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49760" y="5548320"/>
            <a:ext cx="3413160" cy="1440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5867280"/>
            <a:ext cx="3489120" cy="14400"/>
          </a:xfrm>
          <a:prstGeom prst="line">
            <a:avLst/>
          </a:prstGeom>
          <a:ln w="381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38862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26708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52578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27760" y="557676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8862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26708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2578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1920" y="561024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62120" y="420516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61760" y="55008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84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ajes de personas dependen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s por hogar: Ingreso,Tasa Motorización, Tamaño del h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s zonales: Valor del suelo, Densidad residencial, Acces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l suelo (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, número de empleos y accesi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ajes de cosas - producción y atracción-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construida o total de la f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de crecimien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resión lineal múlti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a en z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a en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oncordanc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24080" y="3124080"/>
                <a:ext cx="1968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0080" y="4267080"/>
                <a:ext cx="431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95680" y="5943600"/>
                <a:ext cx="213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86240" y="4767120"/>
                <a:ext cx="45338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h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álisis de clasificación cru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s de generación estables por categ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81080" y="1944720"/>
                <a:ext cx="4038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394080"/>
            <a:ext cx="77882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(h)=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º hogares tip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zon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(h)=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º promedio de viajes por propósit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hogar tip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arte del método es la definición de categorías, la dificultad es el cálculo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método propu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343400" y="4800600"/>
                <a:ext cx="2362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69960" y="5521320"/>
            <a:ext cx="7331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otal de hogares en la zona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prob. conjunta de pertenecer a una categoría, basada en las prob. Condicionales de poseer auto, estructura del ho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 ingre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F M</cp:lastModifiedBy>
  <dcterms:modified xsi:type="dcterms:W3CDTF">2003-03-10T14:40:54Z</dcterms:modified>
  <cp:revision>2</cp:revision>
  <dc:subject/>
  <dc:title>CI 43A Análisis de Sistemas de Transporte </dc:title>
</cp:coreProperties>
</file>