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ABB-93AD-4645-BA6B-78BC1A83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73C-9870-4BF3-98C5-1560681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BE8-F3D2-4987-95E6-3B05CF75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0BE-FE71-4D02-B686-CD007302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2390-0CA1-4DC2-8513-275E2E48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B37F-BB11-4F3B-9F82-A8AE704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5602-0D1D-487A-B298-6167D7D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63F0-F8FD-4518-929A-063D7104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808E-71D2-453A-87D6-1237FC5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DCF-BCF4-4301-B1BF-382F3A1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861-DB17-4948-A180-2EC4E69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16E-80B4-4BC0-ABC0-521934A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FC6D-AFBC-4C45-8A17-FAF0FF7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69B9-4299-400D-8343-5CABFF1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F2B-6455-47D3-AC8B-429DA45A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F46-E488-45B8-8D81-1CB7AD58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A7F5-C295-4535-9EDF-5FC673D2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A80-2CA3-460B-98EC-3C66C192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D00-253D-4C72-9E99-609AA96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311-B790-4FE5-8C64-C56413C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83F-814F-4FD6-8FA0-719ABB9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48E-7605-45AA-B572-0449E13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F47-94EF-4182-B780-F7C87EC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A12-7D0B-44A8-9289-59F3979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22B-A215-498B-9B16-59978AA5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F62-858B-4EAD-BDF5-71D0D9894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Uso del suelo y generación de vi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iman la frecuencia de los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ment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luster de hogar o 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zona orig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Modelos de generación/atra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37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05720" y="4572000"/>
                <a:ext cx="1218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h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1980720"/>
            <a:ext cx="766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H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rigen o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 (NB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565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8400" y="41292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Ho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8160" y="539604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240" y="548640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02440" y="410040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520" y="4191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33412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99000" y="5424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19112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57200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5548320"/>
            <a:ext cx="3413160" cy="1440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867280"/>
            <a:ext cx="3489120" cy="1440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27760" y="55767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920" y="561024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62120" y="42051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61760" y="5500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personas depende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por hogar: Ingreso,Tasa Motorización, Tamaño d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zonales: Valor del suelo, Densidad residencial, Acce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l suelo (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, número de empleos y accesi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cosas - producción y atracción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construida o total de la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de crecimie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resión lineal múlti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z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ncorda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24080" y="312408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0080" y="4267080"/>
                <a:ext cx="431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5680" y="5943600"/>
                <a:ext cx="213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86240" y="4767120"/>
                <a:ext cx="4533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clasificación cru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de generación estables por categ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1944720"/>
                <a:ext cx="4038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394080"/>
            <a:ext cx="77882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hogares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zon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promedio de viajes por propósi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hogar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arte del método es la definición de categorías, la dificultad es el cálculo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método propu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43400" y="4800600"/>
                <a:ext cx="236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69960" y="5521320"/>
            <a:ext cx="73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otal de hogares en la zona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prob. conjunta de pertenecer a una categoría, basada en las prob. Condicionales de poseer auto, estructura del ho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 ingr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F M</cp:lastModifiedBy>
  <dcterms:modified xsi:type="dcterms:W3CDTF">2003-03-10T14:40:54Z</dcterms:modified>
  <cp:revision>2</cp:revision>
  <dc:subject/>
  <dc:title>CI 43A Análisis de Sistemas de Transporte </dc:title>
</cp:coreProperties>
</file>