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AD7-6893-405F-9AE8-67A1D084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9DC-C928-4BAF-8A0D-C5C48426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7F80-6A64-4888-BF09-1BE836EB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91F-D79B-4F74-BAF8-77F9A6F2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1A9A-C9C5-4C93-9B67-4BDCE4DB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6C2-8EFA-4805-94AE-1BEB7AD4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F5A5-9A0B-476C-8C36-6990A6E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1D99-B038-49EE-9648-AE3F2217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4F7C-1098-4664-968B-9988190B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B8CA-F50C-4BE7-909F-9410A114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6F23-4109-4437-A9C5-B36D756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B418-17B2-4418-B489-C3E3DDD2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2AF5-3576-476A-93A0-7E671CA1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0646-0171-4B98-89A3-BE2FBD0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2E55-D105-434E-BEB8-340D14A4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BAAC-42AC-4F40-AEBD-4C8C6284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2723-C92B-472C-BCCC-A4405BC0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7A5-6C0C-46D2-A388-84DCFD38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9719-3202-4B88-BF5A-F5CFB893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EE2-B049-40A6-93D8-E079F641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1F1-D1FE-4F06-B7A9-E0BD2087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5B3-F91D-4A13-9D6D-37416208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177-71F7-4030-8AC1-218E4094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F794-271E-408D-B8C5-3196E633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0366-D1E5-4291-8A75-5D0A3373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AFD3-E32F-4ED4-AE9F-A33625410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Capítulo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Uso del suelo y generación de vi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iman la frecuencia de los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ment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luster de hogar o f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o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zona orig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Times New Roman"/>
              </a:rPr>
              <a:t>Modelos de generación/atrac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13760" y="367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705720" y="4572000"/>
                <a:ext cx="12189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hp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73240" y="1980720"/>
            <a:ext cx="766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el hog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H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rigen o d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el hogar (NB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56560" y="367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2320" y="4038480"/>
            <a:ext cx="1371600" cy="609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98400" y="41292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Ho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78160" y="5396040"/>
            <a:ext cx="13716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240" y="548640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02440" y="4100400"/>
            <a:ext cx="1371600" cy="609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520" y="41911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5334120"/>
            <a:ext cx="13716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99000" y="5424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33920" y="4191120"/>
            <a:ext cx="335268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4572000"/>
            <a:ext cx="3352680" cy="0"/>
          </a:xfrm>
          <a:prstGeom prst="line">
            <a:avLst/>
          </a:prstGeom>
          <a:ln w="381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49760" y="5548320"/>
            <a:ext cx="3413160" cy="1440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5867280"/>
            <a:ext cx="3489120" cy="14400"/>
          </a:xfrm>
          <a:prstGeom prst="line">
            <a:avLst/>
          </a:prstGeom>
          <a:ln w="381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38862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26708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52578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27760" y="557676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8862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426708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52578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1920" y="561024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62120" y="420516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61760" y="55008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84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ajes de personas dependen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s por hogar: Ingreso,Tasa Motorización, Tamaño del h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s zonales: Valor del suelo, Densidad residencial, Acces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l suelo (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, número de empleos y accesi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ajes de cosas - producción y atracción-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construida o total de la f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de crecimien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resión lineal múlti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a en z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a en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oncordanc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24080" y="3124080"/>
                <a:ext cx="1968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0080" y="4267080"/>
                <a:ext cx="431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95680" y="5943600"/>
                <a:ext cx="213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86240" y="4767120"/>
                <a:ext cx="45338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h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álisis de clasificación cru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asas de generación estables por categ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81080" y="1944720"/>
                <a:ext cx="403884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3394080"/>
            <a:ext cx="77882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(h)=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º hogares tip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n zona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CL" sz="24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(h)=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º promedio de viajes por propósit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hogar tip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arte del método es la definición de categorías, la dificultad es el cálculo de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método propu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343400" y="4800600"/>
                <a:ext cx="2362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69960" y="5521320"/>
            <a:ext cx="7331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otal de hogares en la zona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prob. conjunta de pertenecer a una categoría, basada en las prob. Condicionales de poseer auto, estructura del hog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 ingre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F M</cp:lastModifiedBy>
  <dcterms:modified xsi:type="dcterms:W3CDTF">2003-03-10T14:40:54Z</dcterms:modified>
  <cp:revision>2</cp:revision>
  <dc:subject/>
  <dc:title>CI 43A Análisis de Sistemas de Transporte </dc:title>
</cp:coreProperties>
</file>