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20F-1D75-4EC6-951B-C4E3E5C2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D87-4E94-4CE2-BCA1-315C2B66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52A-AE72-48FF-B370-0D14AB21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0B3-EBC3-458B-84C3-20615B53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2600-222F-44F1-B05C-1267B40A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353F-C2DB-49EE-B184-D5234399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8B69-1E4C-4B1F-B20A-5925A052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DC23-E976-432D-9B4D-3A1AC5CB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BBF6-25CA-4A92-B937-4B9270F0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0E83-468F-45DA-8B12-2FF1846D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6206-7C42-4415-8190-E014DC9F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5FC-6161-4F0D-A310-45B20D68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1FE9-F9C2-4774-9CAC-4795E9C2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D0BE-C64B-4E47-A1FA-D56A648A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3CFA-043F-4B34-919D-73EA4F42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51A3-9580-411F-BBE2-DE772D09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19A9-0637-4BDC-9AB9-B52E24C4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FF8-A291-4B5A-A9D1-285281E8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407-06B4-4EF8-8CB7-71C1AF6B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82A-413B-4E7F-9915-8E936A48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29E-D628-40DA-AEA7-370EB9EC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D01-27A1-40A5-ADAD-C6DB7DC9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225-137D-45FF-B276-F43317B7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9CF-739D-4463-9C73-57C7CBC7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54F6-9567-4568-8924-306F409F2A0F}" type="slidenum">
              <a:rPr b="0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B0CA-1EF0-4BFA-B8EE-8E1AFC4BE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99"/>
                </a:solidFill>
                <a:latin typeface="Century Schoolbook"/>
              </a:rPr>
              <a:t>Capítulo 4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99"/>
                </a:solidFill>
                <a:latin typeface="Century Schoolbook"/>
              </a:rPr>
              <a:t>Modelamiento del Espacio y el Tiempo 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El producto de transporte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819520"/>
                <a:ext cx="258444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mr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p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114800" y="1981080"/>
            <a:ext cx="4707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: tipo de producto carga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 pasajeros por segmento usuari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: propósit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: period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: zona origen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: zona destin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: modo de transporte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: ruta (secuencia de arcos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819520"/>
            <a:ext cx="0" cy="22860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5105520"/>
            <a:ext cx="25146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819520"/>
            <a:ext cx="251460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alibración y uso de modelos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600200"/>
            <a:ext cx="624816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c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actividades y viajes realizadas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 cada segmento (observadas RP o encuestadas SP)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 de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ernativas de elec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ofert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comportamiento de usuarios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y = f( x , ß )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étod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calibración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4800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Calibración: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ajustar los parámetros del modelo de manera de reproducir los datos - sección cruzada o serie de tiempo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Arial"/>
              </a:rPr>
              <a:t>Regresión</a:t>
            </a:r>
            <a:r>
              <a:rPr b="0" lang="es-ES_tradnl" sz="2400" spc="-1" strike="noStrike">
                <a:solidFill>
                  <a:srgbClr val="006699"/>
                </a:solidFill>
                <a:latin typeface="Arial"/>
              </a:rPr>
              <a:t>: minimizar error cuadrático entre observación y modelo.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5943600"/>
                <a:ext cx="3352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β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127160" y="458640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áxima verosimilitud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: encontra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ß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al que el modelo reproduzca la muestra observada con máxima probabil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95480" y="3581280"/>
                <a:ext cx="381024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β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99"/>
                </a:solidFill>
                <a:latin typeface="Times New Roman"/>
              </a:rPr>
              <a:t>Modelamiento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anda en el espacio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mensión espacial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mensión temporal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 y servicio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oducto de transporte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s de modelación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foque de equilibrio estátic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foque dinámic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bración y uso de modelos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76520" y="3449520"/>
          <a:ext cx="6508800" cy="340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449520"/>
                    <a:ext cx="650880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71600" y="12826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acio discreto,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y centroi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l centroide concentra todo el flujo de transporte desde y hacia una zona 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Zo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so del suelo homogéneo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ntroi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bicados de manera de reproducir distribución real de la carga sobr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066680" y="1295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anda de transpor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jo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ga o pasajer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ntre zonas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igen/dest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ra realizar actividades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ósit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un determinado tiempo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iodo.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895480"/>
            <a:ext cx="7162920" cy="3429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114800"/>
            <a:ext cx="114300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276720"/>
            <a:ext cx="685800" cy="5331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4572000"/>
            <a:ext cx="685800" cy="6094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5715000"/>
            <a:ext cx="60948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4876920"/>
            <a:ext cx="76320" cy="759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943600"/>
            <a:ext cx="76320" cy="763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572000"/>
            <a:ext cx="76320" cy="763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00400" y="3581280"/>
            <a:ext cx="350532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572000"/>
            <a:ext cx="3886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4572000"/>
            <a:ext cx="3505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4640" y="42670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3440" y="3219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53080" y="4514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77120" y="5581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52480" y="3220920"/>
          <a:ext cx="6508800" cy="36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20920"/>
                    <a:ext cx="650880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295280" y="11304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ón de circulación 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lujo en centroide - conectores - ruta de arcos - conecto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stin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ector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centroides a nodos d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a por nodos y arcos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143000" y="1371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ector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centroides a nodos d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al (servicios), ferroviaria, aviación, marítima....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a por nodos y arcos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co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finidos por dos nodos, longitud, capacidad y curv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 veloc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emanda en el espacio: Redes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191120"/>
            <a:ext cx="281952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3505320"/>
            <a:ext cx="4419360" cy="304776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5029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5181480"/>
            <a:ext cx="1600200" cy="0"/>
          </a:xfrm>
          <a:prstGeom prst="line">
            <a:avLst/>
          </a:prstGeom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1280" y="4952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712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2160" y="4419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Arco: (a,b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038480"/>
            <a:ext cx="0" cy="205740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6095880"/>
            <a:ext cx="36576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038480"/>
            <a:ext cx="2743200" cy="1549440"/>
          </a:xfrm>
          <a:custGeom>
            <a:avLst/>
            <a:gdLst/>
            <a:ahLst/>
            <a:rect l="l" t="t" r="r" b="b"/>
            <a:pathLst>
              <a:path w="1360" h="976">
                <a:moveTo>
                  <a:pt x="0" y="960"/>
                </a:moveTo>
                <a:cubicBezTo>
                  <a:pt x="304" y="968"/>
                  <a:pt x="608" y="976"/>
                  <a:pt x="768" y="960"/>
                </a:cubicBezTo>
                <a:cubicBezTo>
                  <a:pt x="928" y="944"/>
                  <a:pt x="880" y="944"/>
                  <a:pt x="960" y="864"/>
                </a:cubicBezTo>
                <a:cubicBezTo>
                  <a:pt x="1040" y="784"/>
                  <a:pt x="1184" y="600"/>
                  <a:pt x="1248" y="480"/>
                </a:cubicBezTo>
                <a:cubicBezTo>
                  <a:pt x="1312" y="360"/>
                  <a:pt x="1328" y="224"/>
                  <a:pt x="1344" y="144"/>
                </a:cubicBezTo>
                <a:cubicBezTo>
                  <a:pt x="1360" y="64"/>
                  <a:pt x="1344" y="24"/>
                  <a:pt x="13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4038480"/>
            <a:ext cx="0" cy="205740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37400" y="34704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Curva flujo veloc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362320" y="3200400"/>
            <a:ext cx="1440" cy="257184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2590920"/>
            <a:ext cx="7282080" cy="38098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5791320"/>
            <a:ext cx="6026040" cy="288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429000"/>
            <a:ext cx="4495680" cy="1936800"/>
          </a:xfrm>
          <a:custGeom>
            <a:avLst/>
            <a:gdLst/>
            <a:ahLst/>
            <a:rect l="l" t="t" r="r" b="b"/>
            <a:pathLst>
              <a:path w="1360" h="976">
                <a:moveTo>
                  <a:pt x="0" y="960"/>
                </a:moveTo>
                <a:cubicBezTo>
                  <a:pt x="304" y="968"/>
                  <a:pt x="608" y="976"/>
                  <a:pt x="768" y="960"/>
                </a:cubicBezTo>
                <a:cubicBezTo>
                  <a:pt x="928" y="944"/>
                  <a:pt x="880" y="944"/>
                  <a:pt x="960" y="864"/>
                </a:cubicBezTo>
                <a:cubicBezTo>
                  <a:pt x="1040" y="784"/>
                  <a:pt x="1184" y="600"/>
                  <a:pt x="1248" y="480"/>
                </a:cubicBezTo>
                <a:cubicBezTo>
                  <a:pt x="1312" y="360"/>
                  <a:pt x="1328" y="224"/>
                  <a:pt x="1344" y="144"/>
                </a:cubicBezTo>
                <a:cubicBezTo>
                  <a:pt x="1360" y="64"/>
                  <a:pt x="1344" y="24"/>
                  <a:pt x="13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5335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Curva flujo velocidad : 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costo de transporte en un arco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362320" y="3048120"/>
            <a:ext cx="0" cy="274320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3429000"/>
            <a:ext cx="0" cy="236232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586728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Century Schoolbook"/>
              </a:rPr>
              <a:t>C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5105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entury Schoolbook"/>
              </a:rPr>
              <a:t>t</a:t>
            </a:r>
            <a:r>
              <a:rPr b="1" lang="es-ES_tradnl" sz="1600" spc="-1" strike="noStrike">
                <a:solidFill>
                  <a:srgbClr val="006699"/>
                </a:solidFill>
                <a:latin typeface="Century Schoolbook"/>
              </a:rPr>
              <a:t>o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5334120"/>
            <a:ext cx="0" cy="60948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1160" y="5943600"/>
            <a:ext cx="11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560" y="2819520"/>
            <a:ext cx="10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Cost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85880" y="5832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Fluj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73600" y="2768760"/>
            <a:ext cx="2908080" cy="583920"/>
          </a:xfrm>
          <a:custGeom>
            <a:avLst/>
            <a:gdLst/>
            <a:ahLst/>
            <a:rect l="l" t="t" r="r" b="b"/>
            <a:pathLst>
              <a:path w="1832" h="368">
                <a:moveTo>
                  <a:pt x="1832" y="368"/>
                </a:moveTo>
                <a:cubicBezTo>
                  <a:pt x="1820" y="324"/>
                  <a:pt x="1808" y="280"/>
                  <a:pt x="1544" y="224"/>
                </a:cubicBezTo>
                <a:cubicBezTo>
                  <a:pt x="1280" y="168"/>
                  <a:pt x="496" y="64"/>
                  <a:pt x="248" y="32"/>
                </a:cubicBezTo>
                <a:cubicBezTo>
                  <a:pt x="0" y="0"/>
                  <a:pt x="80" y="32"/>
                  <a:pt x="56" y="32"/>
                </a:cubicBezTo>
              </a:path>
            </a:pathLst>
          </a:custGeom>
          <a:noFill/>
          <a:ln w="9360">
            <a:solidFill>
              <a:srgbClr val="3366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Demanda en el espacio: dimensión temporal 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ones de costos de transporte en el tiempo: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mogéneo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empo discret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: en un periodo no varían las condiciones de operación del sistema de transporte.  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267080"/>
            <a:ext cx="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99360" y="58816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447920" y="3581280"/>
            <a:ext cx="6781680" cy="2971800"/>
            <a:chOff x="1447920" y="3581280"/>
            <a:chExt cx="6781680" cy="2971800"/>
          </a:xfrm>
        </p:grpSpPr>
        <p:grpSp>
          <p:nvGrpSpPr>
            <p:cNvPr id="199" name=""/>
            <p:cNvGrpSpPr/>
            <p:nvPr/>
          </p:nvGrpSpPr>
          <p:grpSpPr>
            <a:xfrm>
              <a:off x="1447920" y="3581280"/>
              <a:ext cx="6781680" cy="2971800"/>
              <a:chOff x="1447920" y="3581280"/>
              <a:chExt cx="6781680" cy="2971800"/>
            </a:xfrm>
          </p:grpSpPr>
          <p:sp>
            <p:nvSpPr>
              <p:cNvPr id="200" name=""/>
              <p:cNvSpPr/>
              <p:nvPr/>
            </p:nvSpPr>
            <p:spPr>
              <a:xfrm>
                <a:off x="1447920" y="3581280"/>
                <a:ext cx="6781680" cy="297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86000" y="3886200"/>
                <a:ext cx="0" cy="198108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0" y="5867280"/>
                <a:ext cx="5410080" cy="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6000" y="4114800"/>
                <a:ext cx="5334120" cy="1308240"/>
              </a:xfrm>
              <a:custGeom>
                <a:avLst/>
                <a:gdLst/>
                <a:ahLst/>
                <a:rect l="l" t="t" r="r" b="b"/>
                <a:pathLst>
                  <a:path w="3360" h="824">
                    <a:moveTo>
                      <a:pt x="0" y="720"/>
                    </a:moveTo>
                    <a:cubicBezTo>
                      <a:pt x="224" y="696"/>
                      <a:pt x="448" y="672"/>
                      <a:pt x="576" y="576"/>
                    </a:cubicBezTo>
                    <a:cubicBezTo>
                      <a:pt x="704" y="480"/>
                      <a:pt x="696" y="224"/>
                      <a:pt x="768" y="144"/>
                    </a:cubicBezTo>
                    <a:cubicBezTo>
                      <a:pt x="840" y="64"/>
                      <a:pt x="920" y="8"/>
                      <a:pt x="1008" y="96"/>
                    </a:cubicBezTo>
                    <a:cubicBezTo>
                      <a:pt x="1096" y="184"/>
                      <a:pt x="1184" y="552"/>
                      <a:pt x="1296" y="672"/>
                    </a:cubicBezTo>
                    <a:cubicBezTo>
                      <a:pt x="1408" y="792"/>
                      <a:pt x="1568" y="808"/>
                      <a:pt x="1680" y="816"/>
                    </a:cubicBezTo>
                    <a:cubicBezTo>
                      <a:pt x="1792" y="824"/>
                      <a:pt x="1888" y="800"/>
                      <a:pt x="1968" y="720"/>
                    </a:cubicBezTo>
                    <a:cubicBezTo>
                      <a:pt x="2048" y="640"/>
                      <a:pt x="2072" y="448"/>
                      <a:pt x="2160" y="336"/>
                    </a:cubicBezTo>
                    <a:cubicBezTo>
                      <a:pt x="2248" y="224"/>
                      <a:pt x="2320" y="0"/>
                      <a:pt x="2496" y="48"/>
                    </a:cubicBezTo>
                    <a:cubicBezTo>
                      <a:pt x="2672" y="96"/>
                      <a:pt x="3072" y="512"/>
                      <a:pt x="3216" y="624"/>
                    </a:cubicBezTo>
                    <a:cubicBezTo>
                      <a:pt x="3360" y="736"/>
                      <a:pt x="3360" y="728"/>
                      <a:pt x="3360" y="720"/>
                    </a:cubicBez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526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14800" y="4724280"/>
                <a:ext cx="0" cy="114300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386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102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25680" y="38098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cc"/>
                    </a:solidFill>
                    <a:latin typeface="Times New Roman"/>
                  </a:rPr>
                  <a:t>flujo</a:t>
                </a:r>
                <a:endParaRPr b="0" lang="en-US" sz="18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7223040" y="58816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Times New Roman"/>
                </a:rPr>
                <a:t>tiempo</a:t>
              </a:r>
              <a:endParaRPr b="0" lang="en-US" sz="20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on aquellos que toman las decisiones: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é actividad realizar, dónde, cuándo y cómo viajar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ortamiento racion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áxim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eneficio - cos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: elegir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, frecuencia y destino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generalizad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mpo de viaje + costo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gir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do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 transporte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y ruta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mentación merc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suarios+Oferta homogénea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: según diferencias de gustos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tegoría socioeconómica, raza, género,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de hogar, etc.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erta: según periodo y tipo de producto (cargas o pax)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Usuarios y servicios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49:20Z</dcterms:created>
  <dc:creator>Mariela Salazar</dc:creator>
  <dc:description/>
  <dc:language>en-US</dc:language>
  <cp:lastModifiedBy>F M</cp:lastModifiedBy>
  <dcterms:modified xsi:type="dcterms:W3CDTF">2003-03-28T21:14:56Z</dcterms:modified>
  <cp:revision>6</cp:revision>
  <dc:subject/>
  <dc:title>CI 43A Análisis de Sistemas de Transporte </dc:title>
</cp:coreProperties>
</file>