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E80-5299-4136-9223-D4FC79A8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33D-9A72-44C2-BEBC-B0FB335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849-A08B-40D2-B920-34976A2A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2F1-74AF-4330-AEBF-153C6A99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0302-81F5-4721-A976-ACE1DCC2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292-3C39-42F2-B9C2-3C989CFF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928-7585-4EAC-9298-7792D068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E4A9-FD11-42A7-92BC-4B5E533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CE82-7BBF-42A0-8386-28649651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D4A8-B82D-490D-86E4-698A261D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016B-439C-4E26-8C4D-E1ABA0A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979-2E20-431B-8203-9490B690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8D8A-85ED-4EDB-A8FC-B8AAA86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8398-EBE6-4C04-9535-50FF393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F81D-7570-4449-9335-4134F375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E8B9-187F-40F0-B90D-339DA85F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7D69-C2DB-42D5-A48F-CDB62DD1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633-EBF4-4659-BF80-AEAE9EE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A48-BC46-4659-8C5C-6CEC345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691-5844-439E-B5B5-368DDB72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DB2-01CA-4659-8D71-53AE3172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4CB-9C0D-4B19-B961-308745DB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A0F-575D-44D3-9D29-D44170A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429-F388-472E-B03F-5B8379F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C3DD-16EB-4490-8171-539180DDAB85}" type="slidenum">
              <a:rPr b="0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B00-1188-464A-9DB6-4C319ED22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Capítulo 4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Modelamiento del Espacio y el Tiempo 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l producto de transporte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819520"/>
                <a:ext cx="25844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mr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114800" y="1981080"/>
            <a:ext cx="470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: tipo de producto carga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 pasajeros por segmento usuari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: propósi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: period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 zona origen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: zona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: modo de transporte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: ruta (secuencia de arcos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819520"/>
            <a:ext cx="0" cy="2286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105520"/>
            <a:ext cx="2514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819520"/>
            <a:ext cx="251460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alibración y uso de modelo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624816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c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actividades y viajes realizada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 cada segmento (observadas RP o encuestadas SP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 d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ernativas de elec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ofert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omportamiento de usuario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y = f( x , ß 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éto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alibración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Calibración: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ajustar los parámetros del modelo de manera de reproducir los datos - sección cruzada o serie de tiempo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Regresión</a:t>
            </a:r>
            <a:r>
              <a:rPr b="0" lang="es-ES_tradnl" sz="2400" spc="-1" strike="noStrike">
                <a:solidFill>
                  <a:srgbClr val="006699"/>
                </a:solidFill>
                <a:latin typeface="Arial"/>
              </a:rPr>
              <a:t>: minimizar error cuadrático entre observación y modelo.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5943600"/>
                <a:ext cx="3352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β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127160" y="45864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áxima verosimilitud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: encontra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ß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al que el modelo reproduzca la muestra observada con máxima probabil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95480" y="3581280"/>
                <a:ext cx="38102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β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99"/>
                </a:solidFill>
                <a:latin typeface="Times New Roman"/>
              </a:rPr>
              <a:t>Modelamiento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a en el espacio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espaci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tempor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 y servicio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oducto de transporte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s de modelación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e equilibrio estát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inám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bración y uso de modelos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76520" y="3449520"/>
          <a:ext cx="650880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449520"/>
                    <a:ext cx="65088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71600" y="12826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acio discreto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y 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centroide concentra todo el flujo de transporte desde y hacia una zona 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so del suelo homogéneo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bicados de manera de reproducir distribución real de la carga sobr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066680" y="1295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a de transpor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ga o pasaje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ntre zona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igen/dest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 realizar actividade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ósit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un determinado tiempo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iodo.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895480"/>
            <a:ext cx="716292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114800"/>
            <a:ext cx="114300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276720"/>
            <a:ext cx="68580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572000"/>
            <a:ext cx="68580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5715000"/>
            <a:ext cx="60948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4876920"/>
            <a:ext cx="7632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9436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581280"/>
            <a:ext cx="35053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3886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3505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4640" y="4267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3440" y="3219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3080" y="4514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7120" y="5581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52480" y="3220920"/>
          <a:ext cx="6508800" cy="36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0920"/>
                    <a:ext cx="65088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295280" y="11304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circulación 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lujo en centroide - conectores - ruta de arcos - conecto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143000" y="1371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l (servicios), ferroviaria, aviación, marítima....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c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finidos por dos nodos, longitud, capacidad y curv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Rede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191120"/>
            <a:ext cx="281952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505320"/>
            <a:ext cx="4419360" cy="304776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181480"/>
            <a:ext cx="1600200" cy="0"/>
          </a:xfrm>
          <a:prstGeom prst="line">
            <a:avLst/>
          </a:prstGeom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128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712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2160" y="4419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rco: (a,b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20574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6095880"/>
            <a:ext cx="3657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038480"/>
            <a:ext cx="2743200" cy="154944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4038480"/>
            <a:ext cx="0" cy="205740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400" y="3470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Curva 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62320" y="3200400"/>
            <a:ext cx="1440" cy="257184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590920"/>
            <a:ext cx="728208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5791320"/>
            <a:ext cx="6026040" cy="28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429000"/>
            <a:ext cx="4495680" cy="193680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5335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urva flujo velocidad : 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osto de transporte en un arco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62320" y="3048120"/>
            <a:ext cx="0" cy="27432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429000"/>
            <a:ext cx="0" cy="236232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586728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Century Schoolbook"/>
              </a:rPr>
              <a:t>C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5105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entury Schoolbook"/>
              </a:rPr>
              <a:t>t</a:t>
            </a:r>
            <a:r>
              <a:rPr b="1" lang="es-ES_tradnl" sz="1600" spc="-1" strike="noStrike">
                <a:solidFill>
                  <a:srgbClr val="006699"/>
                </a:solidFill>
                <a:latin typeface="Century Schoolbook"/>
              </a:rPr>
              <a:t>o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334120"/>
            <a:ext cx="0" cy="60948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1160" y="594360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560" y="281952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os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85880" y="5832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Fluj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73600" y="2768760"/>
            <a:ext cx="2908080" cy="583920"/>
          </a:xfrm>
          <a:custGeom>
            <a:avLst/>
            <a:gdLst/>
            <a:ahLst/>
            <a:rect l="l" t="t" r="r" b="b"/>
            <a:pathLst>
              <a:path w="1832" h="368">
                <a:moveTo>
                  <a:pt x="1832" y="368"/>
                </a:moveTo>
                <a:cubicBezTo>
                  <a:pt x="1820" y="324"/>
                  <a:pt x="1808" y="280"/>
                  <a:pt x="1544" y="224"/>
                </a:cubicBezTo>
                <a:cubicBezTo>
                  <a:pt x="1280" y="168"/>
                  <a:pt x="496" y="64"/>
                  <a:pt x="248" y="32"/>
                </a:cubicBezTo>
                <a:cubicBezTo>
                  <a:pt x="0" y="0"/>
                  <a:pt x="80" y="32"/>
                  <a:pt x="56" y="32"/>
                </a:cubicBezTo>
              </a:path>
            </a:pathLst>
          </a:custGeom>
          <a:noFill/>
          <a:ln w="9360">
            <a:solidFill>
              <a:srgbClr val="3366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emanda en el espacio: dimensión temporal 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de costos de transporte en el tiempo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ogéneo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empo discret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: en un periodo no varían las condiciones de operación del sistema de transporte.  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267080"/>
            <a:ext cx="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99360" y="58816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47920" y="3581280"/>
            <a:ext cx="6781680" cy="2971800"/>
            <a:chOff x="1447920" y="3581280"/>
            <a:chExt cx="6781680" cy="2971800"/>
          </a:xfrm>
        </p:grpSpPr>
        <p:grpSp>
          <p:nvGrpSpPr>
            <p:cNvPr id="199" name=""/>
            <p:cNvGrpSpPr/>
            <p:nvPr/>
          </p:nvGrpSpPr>
          <p:grpSpPr>
            <a:xfrm>
              <a:off x="1447920" y="3581280"/>
              <a:ext cx="6781680" cy="2971800"/>
              <a:chOff x="1447920" y="3581280"/>
              <a:chExt cx="6781680" cy="2971800"/>
            </a:xfrm>
          </p:grpSpPr>
          <p:sp>
            <p:nvSpPr>
              <p:cNvPr id="200" name=""/>
              <p:cNvSpPr/>
              <p:nvPr/>
            </p:nvSpPr>
            <p:spPr>
              <a:xfrm>
                <a:off x="1447920" y="3581280"/>
                <a:ext cx="6781680" cy="297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86000" y="3886200"/>
                <a:ext cx="0" cy="198108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0" y="5867280"/>
                <a:ext cx="5410080" cy="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4114800"/>
                <a:ext cx="5334120" cy="1308240"/>
              </a:xfrm>
              <a:custGeom>
                <a:avLst/>
                <a:gdLst/>
                <a:ahLst/>
                <a:rect l="l" t="t" r="r" b="b"/>
                <a:pathLst>
                  <a:path w="3360" h="824">
                    <a:moveTo>
                      <a:pt x="0" y="720"/>
                    </a:moveTo>
                    <a:cubicBezTo>
                      <a:pt x="224" y="696"/>
                      <a:pt x="448" y="672"/>
                      <a:pt x="576" y="576"/>
                    </a:cubicBezTo>
                    <a:cubicBezTo>
                      <a:pt x="704" y="480"/>
                      <a:pt x="696" y="224"/>
                      <a:pt x="768" y="144"/>
                    </a:cubicBezTo>
                    <a:cubicBezTo>
                      <a:pt x="840" y="64"/>
                      <a:pt x="920" y="8"/>
                      <a:pt x="1008" y="96"/>
                    </a:cubicBezTo>
                    <a:cubicBezTo>
                      <a:pt x="1096" y="184"/>
                      <a:pt x="1184" y="552"/>
                      <a:pt x="1296" y="672"/>
                    </a:cubicBezTo>
                    <a:cubicBezTo>
                      <a:pt x="1408" y="792"/>
                      <a:pt x="1568" y="808"/>
                      <a:pt x="1680" y="816"/>
                    </a:cubicBezTo>
                    <a:cubicBezTo>
                      <a:pt x="1792" y="824"/>
                      <a:pt x="1888" y="800"/>
                      <a:pt x="1968" y="720"/>
                    </a:cubicBezTo>
                    <a:cubicBezTo>
                      <a:pt x="2048" y="640"/>
                      <a:pt x="2072" y="448"/>
                      <a:pt x="2160" y="336"/>
                    </a:cubicBezTo>
                    <a:cubicBezTo>
                      <a:pt x="2248" y="224"/>
                      <a:pt x="2320" y="0"/>
                      <a:pt x="2496" y="48"/>
                    </a:cubicBezTo>
                    <a:cubicBezTo>
                      <a:pt x="2672" y="96"/>
                      <a:pt x="3072" y="512"/>
                      <a:pt x="3216" y="624"/>
                    </a:cubicBezTo>
                    <a:cubicBezTo>
                      <a:pt x="3360" y="736"/>
                      <a:pt x="3360" y="728"/>
                      <a:pt x="3360" y="720"/>
                    </a:cubicBez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52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4800" y="4724280"/>
                <a:ext cx="0" cy="11430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38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102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25680" y="380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cc"/>
                    </a:solidFill>
                    <a:latin typeface="Times New Roman"/>
                  </a:rPr>
                  <a:t>flujo</a:t>
                </a:r>
                <a:endParaRPr b="0" lang="en-US" sz="18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223040" y="58816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tiempo</a:t>
              </a:r>
              <a:endParaRPr b="0" lang="en-US" sz="20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on aquellos que toman las decisiones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é actividad realizar, dónde, cuándo y cómo viajar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rtamiento racion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eneficio - cos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: 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, frecuencia y destin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generalizad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mpo de viaje + cost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do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 transporte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y ruta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ment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suarios+Oferta homogénea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: según diferencias de gustos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tegoría socioeconómica, raza, género,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de hogar, etc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erta: según periodo y tipo de producto (cargas o pax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Usuarios y servicio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49:20Z</dcterms:created>
  <dc:creator>Mariela Salazar</dc:creator>
  <dc:description/>
  <dc:language>en-US</dc:language>
  <cp:lastModifiedBy>F M</cp:lastModifiedBy>
  <dcterms:modified xsi:type="dcterms:W3CDTF">2003-03-28T21:14:56Z</dcterms:modified>
  <cp:revision>6</cp:revision>
  <dc:subject/>
  <dc:title>CI 43A Análisis de Sistemas de Transporte </dc:title>
</cp:coreProperties>
</file>