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F66-EE21-4D09-9EA6-22E6DF9B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CF2-D489-4CA6-A4AE-8B9A280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5DE-1E45-4D64-B720-5374FA2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09B-CDC5-4EA0-8568-9B5A0DD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1F1-B23B-47B7-87D0-8F2DA669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98B3-0A01-4F18-8B43-8DBA1CB0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352-C9F9-475F-87B3-0C905DF4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924-3BA1-4955-B4D6-C3103E2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1C7-6E7A-4699-B422-1439F8D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0425-02AD-4A2C-85B7-92F01906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7B21-0826-4279-92CF-30B69F0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3BF-66F4-455A-BDC7-9AB4E06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EFC-B9D5-4F0B-9E20-CF79775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2C8F-9330-4C06-B33B-C9F56D3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3AB-6A35-4978-A459-7AD4942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C37-5957-44B9-9B3D-9BA57A44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51CD-E00B-41DB-AFA4-6C4EF5C3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037-9162-4AB7-9DBF-1510FCFE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B1B-CAA8-4766-9B82-AD688FBA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A94-34FD-4291-80B3-2437832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416-6F0D-4942-A94E-2890464A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C11-52D6-44D1-AE42-8FC597F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EE9-DE5C-4101-92E9-B2F0FBD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395-BEB6-4D6C-A82F-335C5DC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295-0B38-4F1C-A380-EC03CBCA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349-C98F-4C2E-BD92-FCD4D351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Función de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 prepar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6:23:25Z</dcterms:created>
  <dc:creator>F M</dc:creator>
  <dc:description/>
  <dc:language>en-US</dc:language>
  <cp:lastModifiedBy>F M</cp:lastModifiedBy>
  <dcterms:modified xsi:type="dcterms:W3CDTF">2003-03-12T16:39:16Z</dcterms:modified>
  <cp:revision>3</cp:revision>
  <dc:subject/>
  <dc:title>CI 43A Análisis de Sistemas de Transporte </dc:title>
</cp:coreProperties>
</file>