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F94-C42D-474E-9768-CA91067E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B63-184E-48E7-A337-30187557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E983-53E1-4822-B467-33DE20A7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2D19-B616-4A21-B0CF-C6EE560E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9E60-C9D5-4009-9499-46FE5568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0F11-15BD-41E1-8F87-CF35E767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924E-1900-4BE0-865B-8A7C32EF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E63A-D2D9-418D-A0DA-0BB99E4F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EA00-6955-4FEA-A372-B57B0ACF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1341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9D6D-8DFC-4548-B4EA-ED564DA8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D8F8-4504-448B-B0F3-BDBA4991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71F-6CA9-434C-B468-2AC2599C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7EDA-4DB6-47BF-AF99-AD125EE8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9937-CB40-4AAE-80C5-9ED30C82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8B11-B289-49DC-8E09-2CBE59D7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826D-B749-4C98-B4E4-1514839A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1792-53F2-4573-8AEE-92570220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9CF-9E28-440B-9DA6-3A3F924B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4FD-F5F3-4D7F-BDCB-1BFE0D37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932-6F64-438C-B616-2E770206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1341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8699-AD73-4C16-8073-7C03E9A6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C54-CFFB-4854-9599-E553B198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D2F-8C28-4FB2-8C7D-511EA81A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89A-1C39-4EDF-8B59-F924C312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72A2-052D-489A-A109-F1EE5AA5A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AE58-2707-4A53-8505-CBA82C682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Century Schoolbook"/>
              </a:rPr>
              <a:t>Capítulo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Century Schoolbook"/>
              </a:rPr>
              <a:t>Función de Transpo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 prepar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6:23:25Z</dcterms:created>
  <dc:creator>F M</dc:creator>
  <dc:description/>
  <dc:language>en-US</dc:language>
  <cp:lastModifiedBy>F M</cp:lastModifiedBy>
  <dcterms:modified xsi:type="dcterms:W3CDTF">2003-03-12T16:39:16Z</dcterms:modified>
  <cp:revision>3</cp:revision>
  <dc:subject/>
  <dc:title>CI 43A Análisis de Sistemas de Transporte </dc:title>
</cp:coreProperties>
</file>