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D5F-C4DB-4433-B351-10336888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5CA-0189-4E63-BFE9-C733E122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603-5710-447C-83F9-85C1077D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8E1-45DB-4D21-8226-8EF9F91E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0D19-7846-46EA-9C00-2F676E25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40DE-9B53-4895-8BAF-B799F09E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D8DA-53A8-4A50-A4E6-CFE44652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12A0-5B0E-4BC4-8CD3-9111F9CB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78B0-02B5-4FD8-AF7C-DAB62360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242B-931A-4A97-8238-F6637D30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6FA1-9607-49EB-AD1E-3B53815E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131-497B-4524-912C-FE1D0649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656C-23E1-4DA3-B719-E43689B1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8202-45D2-48EA-AD61-4F055FC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E8DD-5A03-43BC-A913-A9B95A53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70CF-4252-47EC-BE42-BEC410D5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808B-EF36-4939-81C6-375B569B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B46-48FB-4978-BBFD-05B8474F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599-7AC5-4E7A-AA42-C609B63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491-74BD-43B0-835E-5B32C819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248-435A-4332-B504-44CE9208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05A-1834-40B3-BF57-BE7EC90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FAC-4DC1-4366-8299-A576FB6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675-EA7F-48BC-8AAF-80EAF122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3156-CE62-4D3D-925F-7D8F8BAE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3172-ABBB-463B-9FAF-E88AB2386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Capítulo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Función de Transp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 prepar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6:23:25Z</dcterms:created>
  <dc:creator>F M</dc:creator>
  <dc:description/>
  <dc:language>en-US</dc:language>
  <cp:lastModifiedBy>F M</cp:lastModifiedBy>
  <dcterms:modified xsi:type="dcterms:W3CDTF">2003-03-12T16:39:16Z</dcterms:modified>
  <cp:revision>3</cp:revision>
  <dc:subject/>
  <dc:title>CI 43A Análisis de Sistemas de Transporte </dc:title>
</cp:coreProperties>
</file>