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181-2A5B-4E1F-8E94-2D3033F1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550-C722-42DB-9DCF-779DD9A6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EDC-2B6C-4A09-A22B-82785B1E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452-1D7A-4DCA-9F70-E9F6E301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2897-E296-4D0E-B7BE-E55C255D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0D28-190F-4171-BA66-5B2F978E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7CAE-2E20-4F96-90DF-CA510EA7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82D9-F859-41ED-A2F1-140FF696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D7BF-D791-4D1F-80F2-4849D3E1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A04C-AC09-462D-B3C7-CD1A4489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8085-6566-45BD-82BC-4741EAD0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1BB-9F31-4352-BC16-5825230C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19B8-4726-4C04-8D89-2053211F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CD6E-48D6-44D9-8443-DB50B938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9AD1-4106-4847-9476-1C830CE9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0F0A-7AE0-4E86-8021-5953AC11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C038-DB0B-4C41-BC94-812194C3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2CA-D1AF-4A25-A987-BC49DC7E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501-32BA-4FF3-8E1C-27AA5F08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60D-8B17-4737-8526-D96143CE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5D7-E8FC-4BEA-B745-09628AC3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001-0F2B-4D2C-B3AE-157D7FC5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46C-4D10-40F1-B923-60B9C1BB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7D2-C8A5-46B0-9BB2-BF771637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4FEB-EF60-4C60-86C4-B5A3CE0EE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83D7-E238-4410-AC6F-64B9B68CE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Capítulo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entury Schoolbook"/>
              </a:rPr>
              <a:t>Equilibrio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írculo Vicioso: Autos - TPub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600200"/>
            <a:ext cx="129528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160020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358128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2743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5029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529416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9528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1720800"/>
            <a:ext cx="10065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74160" y="171468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p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que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7280" y="28576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tos m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tr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7520" y="3719520"/>
            <a:ext cx="11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recu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25720" y="3643200"/>
            <a:ext cx="114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an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71560" y="3643200"/>
            <a:ext cx="112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ora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39000" y="5073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m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rif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25400" y="5332320"/>
            <a:ext cx="152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n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oper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68560" y="514368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enos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o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7816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0292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124080" y="35809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680" y="4495680"/>
            <a:ext cx="0" cy="533520"/>
          </a:xfrm>
          <a:prstGeom prst="line">
            <a:avLst/>
          </a:prstGeom>
          <a:ln w="3816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93432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124080" y="2514240"/>
            <a:ext cx="2286000" cy="609480"/>
          </a:xfrm>
          <a:prstGeom prst="line">
            <a:avLst/>
          </a:prstGeom>
          <a:ln w="3816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1640" y="5486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2666880" y="36576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952520" y="3962520"/>
            <a:ext cx="381240" cy="1676160"/>
          </a:xfrm>
          <a:prstGeom prst="line">
            <a:avLst/>
          </a:prstGeom>
          <a:ln cap="rnd" w="38160">
            <a:solidFill>
              <a:srgbClr val="cc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5864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Subsi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27480" y="26668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Restricción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96880" y="45100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Prioridad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dos mercados mono-productores de un bien x, distantes entre sí e inicialmente desconectados. ¿Que ocurre si eventualmente se conectan por un medio de transpor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068120" y="2286000"/>
            <a:ext cx="4870800" cy="3573360"/>
            <a:chOff x="1068120" y="2286000"/>
            <a:chExt cx="4870800" cy="3573360"/>
          </a:xfrm>
        </p:grpSpPr>
        <p:sp>
          <p:nvSpPr>
            <p:cNvPr id="238" name=""/>
            <p:cNvSpPr/>
            <p:nvPr/>
          </p:nvSpPr>
          <p:spPr>
            <a:xfrm>
              <a:off x="1401840" y="2430360"/>
              <a:ext cx="0" cy="29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01840" y="5415120"/>
              <a:ext cx="418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2880" y="2770200"/>
              <a:ext cx="2577960" cy="20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305080" y="2836440"/>
              <a:ext cx="2062080" cy="190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48600" y="2557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12320" y="4456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6812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80000" y="533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248520" y="1895400"/>
            <a:ext cx="2895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transpor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 dispuesta a ofrecer la(s) empresa(s)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n dispuestos a adquirir los consumidores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ofert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01840" y="2430360"/>
            <a:ext cx="0" cy="298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01840" y="5415120"/>
            <a:ext cx="418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200400" y="2743200"/>
            <a:ext cx="2062080" cy="19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7680" y="1981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8120" y="22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80000" y="533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447920" y="25909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600200" y="281916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447920" y="3429000"/>
            <a:ext cx="304776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75160" y="210816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9560" y="228600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deman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00040" y="2479680"/>
            <a:ext cx="0" cy="29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00040" y="5464080"/>
            <a:ext cx="41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2743200"/>
            <a:ext cx="2577960" cy="20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3480" y="4572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2335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78200" y="538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30481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3276720"/>
            <a:ext cx="9144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32760" y="480060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8040" y="487692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4038480"/>
            <a:ext cx="335268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2057400"/>
            <a:ext cx="7920" cy="328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13040" y="533880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2286000"/>
            <a:ext cx="1652760" cy="19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514600" y="243792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20680" y="22860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25240" y="41148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5320" y="19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92520" y="526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638680" y="2209680"/>
            <a:ext cx="14400" cy="322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5410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3505320"/>
            <a:ext cx="15242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400800" y="342864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51080" y="293364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92480" y="479592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2920" y="220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04120" y="5357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320040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464832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570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146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04280" y="29718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04280" y="44197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86520" y="59342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jo de M? a 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3200400"/>
            <a:ext cx="0" cy="2133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1328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46483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9492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90120" y="593424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lujo q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M2 a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304280" y="1600200"/>
            <a:ext cx="7358760" cy="4326840"/>
            <a:chOff x="1304280" y="1600200"/>
            <a:chExt cx="7358760" cy="4326840"/>
          </a:xfrm>
        </p:grpSpPr>
        <p:sp>
          <p:nvSpPr>
            <p:cNvPr id="302" name=""/>
            <p:cNvSpPr/>
            <p:nvPr/>
          </p:nvSpPr>
          <p:spPr>
            <a:xfrm>
              <a:off x="1905120" y="2057400"/>
              <a:ext cx="7920" cy="32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13040" y="53388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14600" y="2286000"/>
              <a:ext cx="1652760" cy="19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438280" y="2437920"/>
              <a:ext cx="132264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18160" y="233676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65320" y="190512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25320" y="1981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92520" y="5264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638680" y="2209680"/>
              <a:ext cx="14400" cy="32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24640" y="54324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43600" y="3505320"/>
              <a:ext cx="152388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400800" y="3428640"/>
              <a:ext cx="132228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48560" y="298440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89960" y="484668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2920" y="220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04120" y="5357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05120" y="3200400"/>
              <a:ext cx="1371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95480" y="3657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8800" y="4572000"/>
              <a:ext cx="5029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77120" y="4114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905120" y="4114800"/>
              <a:ext cx="4495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1480" y="160020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14640" y="174312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04280" y="29718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04280" y="43434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05120" y="365760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28920" y="34290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8920" y="38862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9548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5760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38880" y="411480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52200" y="541008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29000" y="5410080"/>
              <a:ext cx="46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48520" y="548640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10280" y="5486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13280" y="36720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34080" y="36576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511280" y="1542960"/>
            <a:ext cx="468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15960" y="36990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22400" y="1693800"/>
            <a:ext cx="1112760" cy="131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870200" y="17938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9920" y="146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417480" y="1566720"/>
            <a:ext cx="9720" cy="211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08480" y="36846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22680" y="2417760"/>
            <a:ext cx="102708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930480" y="236844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3160" y="363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11280" y="2293920"/>
            <a:ext cx="924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78000" y="259380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1523880" y="317160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81600" y="2819520"/>
            <a:ext cx="51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523880" y="281952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85360" y="1243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74480" y="1260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23400" y="212076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23400" y="30211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11280" y="259380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48040" y="23623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48040" y="26668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7800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9244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81600" y="281952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2819520"/>
            <a:ext cx="0" cy="85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27400" y="26035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76640" y="23860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1535040"/>
            <a:ext cx="504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54520" y="1461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6108480" y="288756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08000" y="211284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08000" y="30132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58120" y="24130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58120" y="2712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5880" y="228600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095880" y="251424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934320" y="2590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10400" y="38098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88480" y="220968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012160" y="28195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5964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91520" y="27432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97080" y="4791240"/>
            <a:ext cx="603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demanda en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4640" y="5562720"/>
            <a:ext cx="645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oferta en 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24360" y="1600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24360" y="19051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03360" y="184140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52960" y="162396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34440" y="1650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34440" y="1951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86720" y="60199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28800" y="3809880"/>
            <a:ext cx="2819520" cy="914400"/>
          </a:xfrm>
          <a:prstGeom prst="wedgeRectCallout">
            <a:avLst>
              <a:gd name="adj1" fmla="val 84009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25560" y="40384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mand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07320" y="184140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56920" y="16239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34080" y="165096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903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ilibrio  del  Mercado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25720" y="5272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QUILIBRIO GENER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de Manhe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de 4 Et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91120" y="22096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23440" y="175248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71720" y="12952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617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o en el precio del combus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86400" y="5257800"/>
            <a:ext cx="6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=p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095880" y="4419720"/>
            <a:ext cx="18288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781680" y="17521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8168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17184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17184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1599840" y="2209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599840" y="1752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94640" y="16765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69000" y="166680"/>
            <a:ext cx="50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jemplo: Cambios en la ofert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780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560" y="175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elo de 5 Eta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es de transporte (urba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localizar actividade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so de s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é actividades realizar?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r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realizarlas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ómo viaja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M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Rut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Asi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343400" y="1447920"/>
            <a:ext cx="3733920" cy="510516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48320" y="380880"/>
            <a:ext cx="29718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24280" y="160020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ción/A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24280" y="2895480"/>
            <a:ext cx="29718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24280" y="4267080"/>
            <a:ext cx="29718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24280" y="556272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773480" y="2286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" y="457200"/>
            <a:ext cx="3657600" cy="762120"/>
          </a:xfrm>
          <a:prstGeom prst="wedgeRectCallout">
            <a:avLst>
              <a:gd name="adj1" fmla="val 68361"/>
              <a:gd name="adj2" fmla="val 520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676520"/>
            <a:ext cx="3429000" cy="761760"/>
          </a:xfrm>
          <a:prstGeom prst="wedgeRectCallout">
            <a:avLst>
              <a:gd name="adj1" fmla="val 72037"/>
              <a:gd name="adj2" fmla="val 520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2895480"/>
            <a:ext cx="3429000" cy="762120"/>
          </a:xfrm>
          <a:prstGeom prst="wedgeRectCallout">
            <a:avLst>
              <a:gd name="adj1" fmla="val 76157"/>
              <a:gd name="adj2" fmla="val 291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4191120"/>
            <a:ext cx="3505320" cy="761760"/>
          </a:xfrm>
          <a:prstGeom prst="wedgeRectCallout">
            <a:avLst>
              <a:gd name="adj1" fmla="val 73865"/>
              <a:gd name="adj2" fmla="val 62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" y="5486400"/>
            <a:ext cx="3429000" cy="762120"/>
          </a:xfrm>
          <a:prstGeom prst="wedgeRectCallout">
            <a:avLst>
              <a:gd name="adj1" fmla="val 73703"/>
              <a:gd name="adj2" fmla="val 62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21400" y="457200"/>
            <a:ext cx="37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Población, Ingreso, Mot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Espacio, Atributo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0280" y="17668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90040" y="298620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Uso del su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Costos por par 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42670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Modos y sus atribu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(tiempos, costo, comod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0000" y="5486400"/>
            <a:ext cx="370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Curvas de congestió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capacidades, red (arcos y no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666880" y="1523880"/>
            <a:ext cx="3733920" cy="5105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71800" y="45720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48120" y="167652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ción/A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297180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4343400"/>
            <a:ext cx="29718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8120" y="5638680"/>
            <a:ext cx="2971800" cy="83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04920" y="228600"/>
            <a:ext cx="1447560" cy="685800"/>
          </a:xfrm>
          <a:prstGeom prst="wedgeRectCallout">
            <a:avLst>
              <a:gd name="adj1" fmla="val 105703"/>
              <a:gd name="adj2" fmla="val 166203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1960" y="22860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Times New Roman"/>
              </a:rPr>
              <a:t>Mode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Times New Roman"/>
              </a:rPr>
              <a:t>de 4 et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43600" y="838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01956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601956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1992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019560" y="2057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019560" y="4648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1992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601956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162920" y="838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16292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6292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45000" y="1066680"/>
            <a:ext cx="3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250400" y="2362320"/>
            <a:ext cx="95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26000" y="3581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37160" y="4952880"/>
            <a:ext cx="65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19920" y="6248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419600" y="601992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133720" y="6172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33720" y="5028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13336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13372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1337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133720" y="2286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13372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13372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133720" y="914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133720" y="914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76280" y="5375160"/>
            <a:ext cx="55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81320" y="3962520"/>
            <a:ext cx="41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5680" y="2590920"/>
            <a:ext cx="101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=acc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1337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55480" y="166680"/>
            <a:ext cx="129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o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62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62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63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63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64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66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67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67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68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690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695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699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704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708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726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730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734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738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773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778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782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78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79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80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81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81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82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854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855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862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872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873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894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9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04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905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7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30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931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934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5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3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3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954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8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3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59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960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961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4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8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969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3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974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975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Pred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Ubicación de hogares y fir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Valor del suelo (renta) en cada local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Evolución de la oferta inmobilia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9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1000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1004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6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5490a8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7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9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1014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1021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1028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1035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1042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1049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1056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uántos viajes se realizan en un d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antidad de viajes que salen de una zona de la ciu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antidad de viajes que llegan de una zona de la ciu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1065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2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    </a:t>
            </a: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1082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706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707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712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6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717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722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4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725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advTm="3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squema del Sistema de Transpor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90a8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uántos viajes se realizan en cada mo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Peat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Ta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Taxi Col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e1e1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1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advTm="31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Por cuáles calles se realizan los viaj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738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6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747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749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1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31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eracción Actividades-Transpor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e1e1b7"/>
                </a:solidFill>
                <a:latin typeface="Arial"/>
              </a:rPr>
              <a:t>accesibilidad</a:t>
            </a: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: facilidad de visitar una actividad lej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También existe la noción de </a:t>
            </a:r>
            <a:r>
              <a:rPr b="1" lang="es-CL" sz="2800" spc="-1" strike="noStrike">
                <a:solidFill>
                  <a:srgbClr val="e1e1b7"/>
                </a:solidFill>
                <a:latin typeface="Arial"/>
              </a:rPr>
              <a:t>atractividad</a:t>
            </a: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: facilidad de ser visi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En un viaje ocurren ambos efectos: acc, 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Dependiendo del tipo de actividad se enfatiza acc o 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e1e1b7"/>
                </a:solidFill>
                <a:latin typeface="Arial"/>
              </a:rPr>
              <a:t>ACCESO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e1e1b7"/>
                </a:solidFill>
                <a:latin typeface="Arial"/>
              </a:rPr>
              <a:t>¿ Qué es es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e1e1b7"/>
                </a:solidFill>
                <a:latin typeface="Arial"/>
              </a:rPr>
              <a:t>Hábleme cla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157040" y="137304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1e1b7"/>
                </a:solidFill>
                <a:latin typeface="Arial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1e1b7"/>
                </a:solidFill>
                <a:latin typeface="Arial"/>
              </a:rPr>
              <a:t>ACCESIBILIDAD</a:t>
            </a:r>
            <a:r>
              <a:rPr b="0" lang="es-CL" sz="3200" spc="-1" strike="noStrike">
                <a:solidFill>
                  <a:srgbClr val="e1e1b7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1e1b7"/>
                </a:solidFill>
                <a:latin typeface="Arial"/>
              </a:rPr>
              <a:t>ATRACTIVIDAD</a:t>
            </a:r>
            <a:r>
              <a:rPr b="0" lang="es-CL" sz="3200" spc="-1" strike="noStrike">
                <a:solidFill>
                  <a:srgbClr val="e1e1b7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beneficio de ser visitado (ej. comercio y servic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1e1b7"/>
                </a:solidFill>
                <a:latin typeface="Arial"/>
              </a:rPr>
              <a:t>Medidas:</a:t>
            </a:r>
            <a:r>
              <a:rPr b="0" lang="es-CL" sz="2400" spc="-1" strike="noStrike">
                <a:solidFill>
                  <a:srgbClr val="e1e1b7"/>
                </a:solidFill>
                <a:latin typeface="Arial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66840" y="4479840"/>
            <a:ext cx="2681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ÓSITO : 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"/>
          <p:cNvSpPr/>
          <p:nvPr/>
        </p:nvSpPr>
        <p:spPr>
          <a:xfrm>
            <a:off x="1353600" y="50328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15636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8096040" y="3602160"/>
            <a:ext cx="1049400" cy="55944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calización de activ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pte: vi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Esquema de Manhei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2743200"/>
            <a:ext cx="1067040" cy="99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4724280"/>
            <a:ext cx="1066680" cy="99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429000"/>
            <a:ext cx="1066680" cy="99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19520" y="3962160"/>
            <a:ext cx="24382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3276720"/>
            <a:ext cx="2514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24280" y="2514600"/>
            <a:ext cx="10670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42840" y="2514600"/>
            <a:ext cx="1981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54864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24280" y="4419360"/>
            <a:ext cx="91440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6600" y="36576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86560" y="1965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62880" y="524196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8360" y="5181480"/>
            <a:ext cx="274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: Cort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: Median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: Largo Plaz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ciones sobre 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nología, Red, Arcos, Vehículos, Sistemas de gestión, Políticas de 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ciones sobre A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jar o no, donde ir, cuando, r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Esquema de Manheim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ciones de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: nivel de servicio of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: Nivel de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Opciones sobr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: Opciones sobr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= J(T,V)  of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V= D(A,S)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F= (V,S)   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3962520"/>
            <a:ext cx="1447920" cy="609480"/>
          </a:xfrm>
          <a:prstGeom prst="wedgeRectCallout">
            <a:avLst>
              <a:gd name="adj1" fmla="val -94189"/>
              <a:gd name="adj2" fmla="val 106773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0240" y="41148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Esquema de Manhei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: Gestión de Transp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I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: Oferta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= S(Q,V,M)  of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Q= Q(I,M)  Capac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V= D(A,S)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A= A(F(PGB),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,Z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3429000"/>
            <a:ext cx="1447560" cy="609480"/>
          </a:xfrm>
          <a:prstGeom prst="wedgeRectCallout">
            <a:avLst>
              <a:gd name="adj1" fmla="val -94189"/>
              <a:gd name="adj2" fmla="val 106773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21920" y="35053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Relaciones de Oferta - Demanda</a:t>
            </a:r>
            <a:r>
              <a:rPr b="0" lang="es-ES_tradnl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_tradnl" sz="1800" spc="-1" strike="noStrike">
                <a:solidFill>
                  <a:srgbClr val="003366"/>
                </a:solidFill>
                <a:latin typeface="Times New Roman"/>
              </a:rPr>
              <a:t>Modelling Transport, Ortúzar y Willumsen, 199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írculo Vicioso: Autos - TPub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1600200"/>
            <a:ext cx="129528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160020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358128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2743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5029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529416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49528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1720800"/>
            <a:ext cx="10065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74160" y="171468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p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que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7280" y="28576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tos m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tr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7520" y="3719520"/>
            <a:ext cx="11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recu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25720" y="3643200"/>
            <a:ext cx="114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an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71560" y="3643200"/>
            <a:ext cx="112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ora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39000" y="5073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m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rif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25400" y="5332320"/>
            <a:ext cx="152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n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oper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8560" y="514368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enos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o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7816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0292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124080" y="35809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246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93432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124080" y="2514240"/>
            <a:ext cx="2286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571640" y="5486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666880" y="36576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25146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3:57:37Z</dcterms:created>
  <dc:creator>Mariela Salazar</dc:creator>
  <dc:description/>
  <dc:language>en-US</dc:language>
  <cp:lastModifiedBy>F M</cp:lastModifiedBy>
  <dcterms:modified xsi:type="dcterms:W3CDTF">2003-03-26T18:26:40Z</dcterms:modified>
  <cp:revision>11</cp:revision>
  <dc:subject/>
  <dc:title>II. EQUILIBRIO GENERAL</dc:title>
</cp:coreProperties>
</file>