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244-7F0C-422D-A022-7CE0074D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039-B05C-480A-9D59-247F973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5D6-8769-4CF3-B72A-221B5E93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913-DAD5-43A4-B5CE-85413C1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A8B8-A529-4BA7-B1AA-10A86583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8F34-CC81-49F1-A3C4-ED60296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6317-EDF8-4DF3-9E2A-1379EE81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9FB-BD44-4F21-AB13-E2E202F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985-6251-449A-B3DA-998CCC55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448E-CE1B-4D6F-B2EA-7737E8FC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1BA1-3D34-4216-A672-030BB4B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A5F-D3B4-4EE2-821C-D08F0391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8D5A-65D1-4809-9F16-F4873C4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91F-012B-4B1B-9837-1955DC8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E337-7A21-4F8C-AC21-2A5931CE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7C7B-9201-4CA1-9268-9701A428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452B-2B26-4C52-8553-BFCF4A5F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AA8-583C-484F-9284-0E5B5719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86A-4914-4F9B-BD0D-FA808056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9F0-E9C1-47F8-BA59-F9F2FD5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BB4-772F-4721-9A4C-6640826B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E9F-F234-4BCA-9BD6-ED7B6C4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F30-26B0-4E76-A567-E213B72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72B-DB14-4337-A4C6-A0E9922D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E3C4-5450-431D-86FA-BEB91F1F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B4B0-37A5-4782-8DE0-B3D8A35BB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ansmilenio.gov.co/index.htm" TargetMode="External"/><Relationship Id="rId2" Type="http://schemas.openxmlformats.org/officeDocument/2006/relationships/hyperlink" Target="http://www.apta.com/info/briefings/diaz_schneck.pdf" TargetMode="External"/><Relationship Id="rId3" Type="http://schemas.openxmlformats.org/officeDocument/2006/relationships/hyperlink" Target="http://www.tramz.com/ec/q/00.html" TargetMode="External"/><Relationship Id="rId4" Type="http://schemas.openxmlformats.org/officeDocument/2006/relationships/hyperlink" Target="http://solstice.crest.org/sustainable/curitiba/index.html" TargetMode="External"/><Relationship Id="rId5" Type="http://schemas.openxmlformats.org/officeDocument/2006/relationships/hyperlink" Target="http://www.publicpurpose.com/pp-ctut.htm" TargetMode="External"/><Relationship Id="rId6" Type="http://schemas.openxmlformats.org/officeDocument/2006/relationships/hyperlink" Target="http://www.londontransport.co.uk/buses/" TargetMode="External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Tall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henriq@ch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bertura: ciudades, mu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os de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s obtenidos: principales tendencias obser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Lectur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562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CL" sz="3600" spc="-1" strike="noStrike">
                <a:solidFill>
                  <a:srgbClr val="000000"/>
                </a:solidFill>
                <a:latin typeface="Garamond"/>
              </a:rPr>
              <a:t>La ciudad, un complejo agregado de individuos y sus decisiones”.</a:t>
            </a:r>
            <a:r>
              <a:rPr b="0" lang="es-CL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MX" sz="3200" spc="-1" strike="noStrike">
                <a:solidFill>
                  <a:srgbClr val="000000"/>
                </a:solidFill>
                <a:latin typeface="Garamond"/>
              </a:rPr>
              <a:t>Anuario de Chile / 2002 2003, págs. 82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ttp://revistatranvia.web1000.com/tv20/martine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MX" sz="3200" spc="-1" strike="noStrike">
                <a:solidFill>
                  <a:srgbClr val="000000"/>
                </a:solidFill>
                <a:latin typeface="Garamond"/>
              </a:rPr>
              <a:t>Autos versus Transporte Público (III). Evitar un Santiago ‘ automovilizado’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Revista Universitaria N°78</a:t>
            </a:r>
            <a:r>
              <a:rPr b="0" i="1" lang="es-CL" sz="2400" spc="-1" strike="noStrike">
                <a:solidFill>
                  <a:srgbClr val="000000"/>
                </a:solidFill>
                <a:latin typeface="Garamond"/>
              </a:rPr>
              <a:t> / 2002, págs. 70 a 72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http://www.puc.cl/ru/78/dossier.html</a:t>
            </a:r>
            <a:r>
              <a:rPr b="0" lang="es-MX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Transporte Público y ciudad del Siglo XXI</a:t>
            </a:r>
            <a:br>
              <a:rPr sz="28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ttp://revistatranvia.web1000.com/tv19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ff"/>
                </a:solidFill>
                <a:uFillTx/>
                <a:latin typeface="Arial"/>
              </a:rPr>
              <a:t>http://www.itdp.org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10 intervenciones sobre el Sist. de Actividades y sobre el Sist. de Transporte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15 mi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ar 10 grupos: 5 a 6 pers por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vegar en la web revisando un proyecto o estudio por grupo. Enviar resumen a Coord. Tal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40 mi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portar a la sala (3 min por grupo)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30 min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Intervenciones identificad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Links a proyectos de sistemas de trans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360" y="1803240"/>
            <a:ext cx="843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transmilenio.gov.co/index.ht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es EEUU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www.apta.com/info/briefings/diaz_schneck.pd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oleys Quito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www.tramz.com/ec/q/00.htm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lan Curitiva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solstice.crest.org/sustainable/curitiba/index.htm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www.publicpurpose.com/pp-ctut.ht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ondres bus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www.londontransport.co.uk/buses/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es :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fta.dot.gov/brt/issues/pt3.htm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sectra.cl/transporte/transporte_urbano_ptus_frm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OD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eod.cl/eod-stgo.p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porte a </a:t>
            </a: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rohenriq@chile.co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CTURA: resumen 15 a 20 lí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mbre, Ciudad y País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objetivos principales que persigue el proyec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o de Funcionamiento General de este (sistemas involucra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das concretas tom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ados (si los h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I43A Taller  II: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cuesta Origen Destino de Santiag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Investig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29528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www.eod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www.sectra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ttp://www.puc.cl/webpuc/html/fracad/fracadbusca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F M</cp:lastModifiedBy>
  <dcterms:modified xsi:type="dcterms:W3CDTF">2003-03-31T15:48:03Z</dcterms:modified>
  <cp:revision>11</cp:revision>
  <dc:subject/>
  <dc:title>Taller  I</dc:title>
</cp:coreProperties>
</file>