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A0EC-EAAE-418B-8181-809896364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3F94-1C3F-429E-966B-3FCCB0F4E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4C84-758A-4AA9-B0E1-2D9426059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80E4-E100-46E1-9178-37CB446B1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9139F-5EF7-4C3D-8D74-22BE89C55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61543-A3DB-4719-8589-ABBE7C147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4D2B0-5B80-481E-B2C8-DE26702B5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0486E-83D0-436E-8363-9D559F016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3F737-BB2C-4E98-BB22-21C5187B6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D351F-AF59-4628-BA71-461B4214D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C5561-E7A2-4617-A06B-756C2C27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B886-F0C1-4325-9737-84D81ABA8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50C1F-830E-4452-A986-B2E0AA6B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67F8B-AE85-4B7C-910E-39751115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519A2-4F58-4532-9B6B-81A90223F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3F07F-74DA-45B2-8830-116A482F7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E4C74-6131-4123-B471-A5D323E4A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368A-4563-465C-B447-E0C259A29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F3D1-8BA8-4FB0-B317-BCE1F52B9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9742-E233-4737-AB62-9861C5EC0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AC32-115F-4CA5-8C6E-1BB7CC566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411C-B182-475C-BBEE-8E7C43E0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5F3F-4992-4F1F-8BBB-2331B620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E0E8-195A-414E-8F9C-46A5E1DA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E2162-53FC-447A-A704-AE1635AF57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64484-E5F3-44E3-8F4F-F3D7E76B6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ransmilenio.gov.co/index.htm" TargetMode="External"/><Relationship Id="rId2" Type="http://schemas.openxmlformats.org/officeDocument/2006/relationships/hyperlink" Target="http://www.apta.com/info/briefings/diaz_schneck.pdf" TargetMode="External"/><Relationship Id="rId3" Type="http://schemas.openxmlformats.org/officeDocument/2006/relationships/hyperlink" Target="http://www.tramz.com/ec/q/00.html" TargetMode="External"/><Relationship Id="rId4" Type="http://schemas.openxmlformats.org/officeDocument/2006/relationships/hyperlink" Target="http://solstice.crest.org/sustainable/curitiba/index.html" TargetMode="External"/><Relationship Id="rId5" Type="http://schemas.openxmlformats.org/officeDocument/2006/relationships/hyperlink" Target="http://www.publicpurpose.com/pp-ctut.htm" TargetMode="External"/><Relationship Id="rId6" Type="http://schemas.openxmlformats.org/officeDocument/2006/relationships/hyperlink" Target="http://www.londontransport.co.uk/buses/" TargetMode="External"/><Relationship Id="rId7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003366"/>
                </a:solidFill>
                <a:latin typeface="Times New Roman"/>
              </a:rPr>
              <a:t>CI43A </a:t>
            </a:r>
            <a:r>
              <a:rPr b="0" lang="es-CL" sz="5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CL" sz="5400" spc="-1" strike="noStrike">
                <a:solidFill>
                  <a:srgbClr val="003366"/>
                </a:solidFill>
                <a:latin typeface="Times New Roman"/>
              </a:rPr>
              <a:t>Taller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ordinador Taller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odrigo Henríqu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ohenriq@chil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Times New Roman"/>
              </a:rPr>
              <a:t>Report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etodolog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bertura: ciudades, muest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ipos de encues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sultados obtenidos: principales tendencias observ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Times New Roman"/>
              </a:rPr>
              <a:t>CI43A Taller  I: 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l Sistema de Transporte Urba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Times New Roman"/>
              </a:rPr>
              <a:t>Lectur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772400" cy="5562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3366"/>
            </a:solidFill>
            <a:miter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1" lang="es-CL" sz="3600" spc="-1" strike="noStrike">
                <a:solidFill>
                  <a:srgbClr val="000000"/>
                </a:solidFill>
                <a:latin typeface="Garamond"/>
              </a:rPr>
              <a:t>La ciudad, un complejo agregado de individuos y sus decisiones”.</a:t>
            </a:r>
            <a:r>
              <a:rPr b="0" lang="es-CL" sz="36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es-MX" sz="3200" spc="-1" strike="noStrike">
                <a:solidFill>
                  <a:srgbClr val="000000"/>
                </a:solidFill>
                <a:latin typeface="Garamond"/>
              </a:rPr>
              <a:t>Anuario de Chile / 2002 2003, págs. 82-8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http://revistatranvia.web1000.com/tv20/martinez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1" lang="es-MX" sz="3200" spc="-1" strike="noStrike">
                <a:solidFill>
                  <a:srgbClr val="000000"/>
                </a:solidFill>
                <a:latin typeface="Garamond"/>
              </a:rPr>
              <a:t>Autos versus Transporte Público (III). Evitar un Santiago ‘ automovilizado’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es-CL" sz="3200" spc="-1" strike="noStrike">
                <a:solidFill>
                  <a:srgbClr val="000000"/>
                </a:solidFill>
                <a:latin typeface="Garamond"/>
              </a:rPr>
              <a:t>Revista Universitaria N°78</a:t>
            </a:r>
            <a:r>
              <a:rPr b="0" i="1" lang="es-CL" sz="2400" spc="-1" strike="noStrike">
                <a:solidFill>
                  <a:srgbClr val="000000"/>
                </a:solidFill>
                <a:latin typeface="Garamond"/>
              </a:rPr>
              <a:t> / 2002, págs. 70 a 72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http://www.puc.cl/ru/78/dossier.html</a:t>
            </a:r>
            <a:r>
              <a:rPr b="0" lang="es-MX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Garamond"/>
              </a:rPr>
              <a:t>Transporte Público y ciudad del Siglo XXI</a:t>
            </a:r>
            <a:br>
              <a:rPr sz="28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http://revistatranvia.web1000.com/tv19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ff"/>
                </a:solidFill>
                <a:uFillTx/>
                <a:latin typeface="Arial"/>
              </a:rPr>
              <a:t>http://www.itdp.org/index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Times New Roman"/>
              </a:rPr>
              <a:t>Tare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dentificar 10 intervenciones sobre el Sist. de Actividades y sobre el Sist. de Transporte.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15 min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ormar 10 grupos: 5 a 6 pers por gru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avegar en la web revisando un proyecto o estudio por grupo. Enviar resumen a Coord. Tall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40 min.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portar a la sala (3 min por grupo).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30 min.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Times New Roman"/>
              </a:rPr>
              <a:t>Intervenciones identificad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143000" y="1793880"/>
          <a:ext cx="7211880" cy="453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793880"/>
                    <a:ext cx="721188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imes New Roman"/>
              </a:rPr>
              <a:t>Links a proyectos de sistemas de transport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80360" y="1803240"/>
            <a:ext cx="8434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Bogotá: </a:t>
            </a:r>
            <a:r>
              <a:rPr b="0" lang="es-CL" sz="2400" spc="-1" strike="noStrike" u="sng">
                <a:solidFill>
                  <a:srgbClr val="99ccff"/>
                </a:solidFill>
                <a:uFillTx/>
                <a:latin typeface="Times New Roman"/>
                <a:hlinkClick r:id="rId1"/>
              </a:rPr>
              <a:t>www.transmilenio.gov.co/index.ht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Buses EEUU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s-CL" sz="2400" spc="-1" strike="noStrike" u="sng">
                <a:solidFill>
                  <a:srgbClr val="99ccff"/>
                </a:solidFill>
                <a:uFillTx/>
                <a:latin typeface="Times New Roman"/>
                <a:hlinkClick r:id="rId2"/>
              </a:rPr>
              <a:t>www.apta.com/info/briefings/diaz_schneck.pdf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Toleys Quito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s-CL" sz="2400" spc="-1" strike="noStrike" u="sng">
                <a:solidFill>
                  <a:srgbClr val="99ccff"/>
                </a:solidFill>
                <a:uFillTx/>
                <a:latin typeface="Times New Roman"/>
                <a:hlinkClick r:id="rId3"/>
              </a:rPr>
              <a:t>www.tramz.com/ec/q/00.htm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Plan Curitiva: </a:t>
            </a:r>
            <a:r>
              <a:rPr b="0" lang="es-CL" sz="2400" spc="-1" strike="noStrike" u="sng">
                <a:solidFill>
                  <a:srgbClr val="99ccff"/>
                </a:solidFill>
                <a:uFillTx/>
                <a:latin typeface="Times New Roman"/>
                <a:hlinkClick r:id="rId4"/>
              </a:rPr>
              <a:t>solstice.crest.org/sustainable/curitiba/index.htm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Licitación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s-CL" sz="2400" spc="-1" strike="noStrike" u="sng">
                <a:solidFill>
                  <a:srgbClr val="99ccff"/>
                </a:solidFill>
                <a:uFillTx/>
                <a:latin typeface="Times New Roman"/>
                <a:hlinkClick r:id="rId5"/>
              </a:rPr>
              <a:t>www.publicpurpose.com/pp-ctut.ht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Londres buses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s-CL" sz="2400" spc="-1" strike="noStrike" u="sng">
                <a:solidFill>
                  <a:srgbClr val="99ccff"/>
                </a:solidFill>
                <a:uFillTx/>
                <a:latin typeface="Times New Roman"/>
                <a:hlinkClick r:id="rId6"/>
              </a:rPr>
              <a:t>www.londontransport.co.uk/buses/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Buses :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www.fta.dot.gov/brt/issues/pt3.htm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PTUS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www.sectra.cl/transporte/transporte_urbano_ptus_frm.html</a:t>
            </a:r>
            <a:br>
              <a:rPr sz="2400"/>
            </a:b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EOD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www.eod.cl/eod-stgo.pp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Times New Roman"/>
              </a:rPr>
              <a:t>Reporte a </a:t>
            </a:r>
            <a:r>
              <a:rPr b="0" lang="es-CL" sz="4000" spc="-1" strike="noStrike">
                <a:solidFill>
                  <a:srgbClr val="003366"/>
                </a:solidFill>
                <a:latin typeface="Times New Roman"/>
              </a:rPr>
              <a:t>rohenriq@chile.com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ntegra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ECTURA: resumen 15 a 20 lín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OYEC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ombre, Ciudad y País del Proye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¿Cuáles son los objetivos principales que persigue el proyect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odo de Funcionamiento General de este (sistemas involucrado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edidas concretas tom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sultados (si los ha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Times New Roman"/>
              </a:rPr>
              <a:t>CI43A Taller  II: 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ncuesta Origen Destino de Santiago 2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Times New Roman"/>
              </a:rPr>
              <a:t>Investigació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295280" y="34286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www.eod.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www.sectra.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ttp://www.puc.cl/webpuc/html/fracad/fracadbusca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8T21:18:51Z</dcterms:created>
  <dc:creator>F M</dc:creator>
  <dc:description/>
  <dc:language>en-US</dc:language>
  <cp:lastModifiedBy>F M</cp:lastModifiedBy>
  <dcterms:modified xsi:type="dcterms:W3CDTF">2003-03-31T15:48:03Z</dcterms:modified>
  <cp:revision>11</cp:revision>
  <dc:subject/>
  <dc:title>Taller  I</dc:title>
</cp:coreProperties>
</file>